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2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5F7-DDC4-4399-81F7-DB0BFB40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25C-CF00-48FF-89C4-384A9D69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50B-3C9B-4FF5-ACD7-FF3ACB0C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8AE-DC50-49FD-84E6-9AB02D34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10A4-51FD-4696-8AF0-F2E02AF2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600A-1C23-46F7-BDF7-6AFC3C47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32E6-EB75-4733-B527-A77083BE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D4B4-C80B-4710-BDD5-6B3B3875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CAAB-DEC6-4980-A1D5-7C7A499E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EA98-EB0E-442A-A7D5-04709C50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6F9A-71F7-408B-8741-1F8E4655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486-E7D2-48F8-AA13-D3206976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56A6-6DF1-4294-859B-CAC5F260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B134-C000-4FE8-9414-258A715F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E523-FA55-4FD2-AE03-09482F57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9959-9E20-4963-8AB8-C850BB7D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D2D3-33F7-4975-B62B-EB459248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1791-46F3-4B84-B04D-7BA57E3D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B1AC-228B-4E42-A9A8-35C25C85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567-1C33-42B6-A8CC-A90DF708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4BB-5870-431D-AF42-72EC49F7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79A-3710-4BE2-940F-58BF80C2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D9FD-6DF6-44DC-B032-7DCB6960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DB60-50BD-4BFE-94FB-DD2CD0CE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reivi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ų konstravimo metodai ir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programinė įrang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44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vydas Rancov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akalauro darb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5715000"/>
            <a:ext cx="5181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adovas: prof. V. Pluk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artotojo s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ąsa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2720" y="20570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niu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nkta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il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daguo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dy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z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-splaina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gal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2-141" descr=""/>
          <p:cNvPicPr/>
          <p:nvPr/>
        </p:nvPicPr>
        <p:blipFill>
          <a:blip r:embed="rId1"/>
          <a:stretch/>
        </p:blipFill>
        <p:spPr>
          <a:xfrm>
            <a:off x="646200" y="2149560"/>
            <a:ext cx="56782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gramos galimybė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Leidžia konstruoti 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Bezje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 –os eilės, racionaliąsias,  papildytas, apskritimus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pses –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udojant 3-os eilės Bezje kreiv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arodant Sąsają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arp 3-iosios eilės Bezje ir B-splainų kreivių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-splainų kreives.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ffff"/>
                </a:solidFill>
                <a:latin typeface="Arial"/>
              </a:rPr>
              <a:t>Patogi pagalbos sistem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Tetavim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B-splainų kreivių ir 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os eilės Bezje kreivių konstravimo teisingumo testavim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Ta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5562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Bezje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19920" y="190476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,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, 4 –os,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os eilės Bezje kreivių konstravim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limybė atvaizduoti Krieves, Liestines, Taškus, Indeksus bei svoriu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la" descr=""/>
          <p:cNvPicPr/>
          <p:nvPr/>
        </p:nvPicPr>
        <p:blipFill>
          <a:blip r:embed="rId1"/>
          <a:stretch/>
        </p:blipFill>
        <p:spPr>
          <a:xfrm>
            <a:off x="533520" y="2084400"/>
            <a:ext cx="556236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Racionaliųjų Bezje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19920" y="190476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cionalioji  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os         eilės Bezje kreivė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alimybė kiekvienam kontroliniui taškui nustatyti atitinkamą svorį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0600" y="1300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tete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563904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B-splainų  kreivių kūrimo pavyzdžia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77120" y="3200400"/>
            <a:ext cx="2666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 - iosios eilės         B-splainų kreivė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mama" descr=""/>
          <p:cNvPicPr/>
          <p:nvPr/>
        </p:nvPicPr>
        <p:blipFill>
          <a:blip r:embed="rId1"/>
          <a:stretch/>
        </p:blipFill>
        <p:spPr>
          <a:xfrm>
            <a:off x="304920" y="1940040"/>
            <a:ext cx="584352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cbcbcb"/>
                </a:solidFill>
                <a:latin typeface="Times New Roman"/>
              </a:rPr>
              <a:t>Aparatūriniai ir sisteminiai resursai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Arial"/>
              </a:rPr>
              <a:t>IBM PC, Intel 166 MHz;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ffffff"/>
                </a:solidFill>
                <a:latin typeface="Arial"/>
              </a:rPr>
              <a:t>OS</a:t>
            </a: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   Windows95, Windows95, Windows 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audota programin</a:t>
            </a: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ė įrang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sual C++ 5.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ML Help Workshop 1.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S Word9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švad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Darbe išnagrinėti tolydžiųjų kreivių konstravimo metodai, naudojant n-tos eilės (n&lt;34) Bezje polinomus, 3 –iosios eilės racionaliąsias Bezje kreives bei B-splainu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Išnagrinėti metodai bei sukurta programinė įranga bus naudojama dėstant “Skaičiavimo metodai 2” kursą ir padės studentams geriau įsisavinti bei įsivaizduoti kreivių konstravimą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Darbo tikslas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Išnagrinėti norimos formos tolydžiųjų kreivių konstravimo metodus, naudojant Bezje polinomus, 3–ios eilės racionaliąsias Bezje kreives bei B-splain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Sukurti patogią programinę įrangą skirtą tokių kreivių konstravimu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Produktas bus naudojamas dėstant “Skaičiavimo metodai 2” kursą ir padės studentams geriau įsisavinti bei įsivaizduoti kreivių konstravimą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cbcbcb"/>
                </a:solidFill>
                <a:latin typeface="Times New Roman"/>
              </a:rPr>
              <a:t>Bezje polinom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219320" y="4724280"/>
                <a:ext cx="31240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685800" y="1981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Turime aibę taškų :                                                      Šie taškai, dar vadinami Bezjė tašk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124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1000"/>
          </a:bodyPr>
          <a:p>
            <a:pPr marL="174960" indent="-17496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Tada n – tosios eilės Bezjė polinomas, kurį nusako taškai </a:t>
            </a:r>
            <a:r>
              <a:rPr b="0" lang="lt-LT" sz="3200" spc="-1" strike="noStrike">
                <a:solidFill>
                  <a:srgbClr val="ffffff"/>
                </a:solidFill>
                <a:latin typeface="Arial"/>
              </a:rPr>
              <a:t>,          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,  parametrine forma apibrėžiamas taip:                                                             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ffffff"/>
                </a:solidFill>
                <a:latin typeface="Times New Roman"/>
              </a:rPr>
              <a:t>          , kur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72000" y="2057400"/>
                <a:ext cx="2971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581280" y="3581280"/>
                <a:ext cx="19177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38680" y="5006880"/>
                <a:ext cx="3124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cbcbcb"/>
                </a:solidFill>
                <a:latin typeface="Times New Roman"/>
              </a:rPr>
              <a:t>Bezje 3-iosios eilės polinomų kreivė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752480" y="2209680"/>
            <a:ext cx="6477120" cy="4114800"/>
            <a:chOff x="1752480" y="2209680"/>
            <a:chExt cx="6477120" cy="4114800"/>
          </a:xfrm>
        </p:grpSpPr>
        <p:graphicFrame>
          <p:nvGraphicFramePr>
            <p:cNvPr id="103" name=""/>
            <p:cNvGraphicFramePr/>
            <p:nvPr/>
          </p:nvGraphicFramePr>
          <p:xfrm>
            <a:off x="1752480" y="2209680"/>
            <a:ext cx="2819520" cy="175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209680"/>
                      <a:ext cx="2819520" cy="175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4572000" y="2209680"/>
            <a:ext cx="3657600" cy="175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209680"/>
                      <a:ext cx="3657600" cy="175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7" name=""/>
            <p:cNvGrpSpPr/>
            <p:nvPr/>
          </p:nvGrpSpPr>
          <p:grpSpPr>
            <a:xfrm>
              <a:off x="1752480" y="3962520"/>
              <a:ext cx="6477120" cy="2361960"/>
              <a:chOff x="1752480" y="3962520"/>
              <a:chExt cx="6477120" cy="2361960"/>
            </a:xfrm>
          </p:grpSpPr>
          <p:graphicFrame>
            <p:nvGraphicFramePr>
              <p:cNvPr id="108" name=""/>
              <p:cNvGraphicFramePr/>
              <p:nvPr/>
            </p:nvGraphicFramePr>
            <p:xfrm>
              <a:off x="4495680" y="3962520"/>
              <a:ext cx="3733920" cy="23619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0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495680" y="3962520"/>
                        <a:ext cx="373392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0" name=""/>
              <p:cNvGraphicFramePr/>
              <p:nvPr/>
            </p:nvGraphicFramePr>
            <p:xfrm>
              <a:off x="1752480" y="3962520"/>
              <a:ext cx="2743200" cy="2361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752480" y="3962520"/>
                        <a:ext cx="2743200" cy="23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Racionaliosios Bezje kreivės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Racionalio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ji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ffffff"/>
                </a:solidFill>
                <a:latin typeface="Times New Roman"/>
              </a:rPr>
              <a:t>n-ojo laipsnio Bezje kreivė</a:t>
            </a:r>
            <a:r>
              <a:rPr b="0" lang="lt-L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ffffff"/>
                </a:solidFill>
                <a:latin typeface="Times New Roman"/>
              </a:rPr>
              <a:t>užrašoma taip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48320" y="1752480"/>
                <a:ext cx="380988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33520" y="3581280"/>
            <a:ext cx="76960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Arial"/>
              </a:rPr>
              <a:t>Taškai       vadinami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troliniais taškais, o skaičiai     - atitinkamų kontrolinių taškų svoria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133720" y="3581280"/>
                <a:ext cx="4460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209680" y="4038480"/>
                <a:ext cx="519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Racionaliosios Bezje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2590920"/>
          <a:ext cx="777240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-splain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Splainas –tai tolydžioji iki p-osios eilės išvestinės imtinai funkcija, sudaryta iš kokios nors funkcijos dalių. Istoriškai splainai buvo pradėti konstruoti iš n-tiosios eilės polinomo dalių. Todėl čia splainai, suvokiami kaip funkcijos, sudarytos iš polinomo dalių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Paprasčiausias ir seniausiai naudojamas splaino pavyzdys yra laužtė. Tai pirmosios eilės splainas, kuriam 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lt-LT" sz="2400" spc="-1" strike="noStrike">
                <a:solidFill>
                  <a:srgbClr val="ffffff"/>
                </a:solidFill>
                <a:latin typeface="Arial"/>
              </a:rPr>
              <a:t>0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ffff"/>
                </a:solidFill>
                <a:latin typeface="Times New Roman"/>
              </a:rPr>
              <a:t>Jei splainas sudarytas, pavyzdžiui, iš kubinio polinomo dalių, tai jis vadinamas kubiniu splainu ir  jam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391520" y="5105520"/>
                <a:ext cx="1447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-splain</a:t>
            </a:r>
            <a:r>
              <a:rPr b="0" lang="lt-LT" sz="4400" spc="-1" strike="noStrike">
                <a:solidFill>
                  <a:srgbClr val="ffffff"/>
                </a:solidFill>
                <a:latin typeface="Times New Roman"/>
              </a:rPr>
              <a:t>ų kreivė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5" name="1.26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3505320" cy="2260800"/>
          </a:xfrm>
          <a:prstGeom prst="rect">
            <a:avLst/>
          </a:prstGeom>
          <a:ln w="0">
            <a:noFill/>
          </a:ln>
        </p:spPr>
      </p:pic>
      <p:pic>
        <p:nvPicPr>
          <p:cNvPr id="126" name="2.26" descr=""/>
          <p:cNvPicPr/>
          <p:nvPr/>
        </p:nvPicPr>
        <p:blipFill>
          <a:blip r:embed="rId2"/>
          <a:stretch/>
        </p:blipFill>
        <p:spPr>
          <a:xfrm>
            <a:off x="1143000" y="4191120"/>
            <a:ext cx="3657600" cy="19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4572000" y="1981080"/>
          <a:ext cx="342900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981080"/>
                    <a:ext cx="34290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4.26" descr=""/>
          <p:cNvPicPr/>
          <p:nvPr/>
        </p:nvPicPr>
        <p:blipFill>
          <a:blip r:embed="rId5"/>
          <a:stretch/>
        </p:blipFill>
        <p:spPr>
          <a:xfrm>
            <a:off x="4724280" y="4267080"/>
            <a:ext cx="3262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plaino užrašymo form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ra keturios splainų užrašymo formos, iš kurių tik dvi naudojamos praktiniuose skaičiavimuose, tai 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ekviename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nurodoma polinomo išraiška, t.y. dalimis polinominė forma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splainas užrašomas tiesine B-splainų kombinacija.</a:t>
            </a: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657600" y="3276720"/>
                <a:ext cx="12952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2:29:34Z</dcterms:created>
  <dc:creator>Sigitas Drąsutis</dc:creator>
  <dc:description/>
  <dc:language>en-US</dc:language>
  <cp:lastModifiedBy>alvydas</cp:lastModifiedBy>
  <dcterms:modified xsi:type="dcterms:W3CDTF">1999-06-16T08:26:29Z</dcterms:modified>
  <cp:revision>11</cp:revision>
  <dc:subject/>
  <dc:title>Medžiaga ActiveX laboratorinių darbų pravedimui</dc:title>
</cp:coreProperties>
</file>