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3.jpeg" ContentType="image/jpeg"/>
  <Override PartName="/ppt/media/image2.jpeg" ContentType="image/jpeg"/>
  <Override PartName="/ppt/media/image4.wmf" ContentType="image/x-wmf"/>
  <Override PartName="/ppt/media/image27.wmf" ContentType="image/x-wmf"/>
  <Override PartName="/ppt/media/image1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6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CF4-BFDF-4518-8EE6-D514FADA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286-36AF-49D4-A20B-C7C248D6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B39-3525-4974-AC5D-D8CD5646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91C-D9FD-4487-8EBB-CFA8C94C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54E-BC76-498B-9249-1033F2C5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F3D-0288-41EE-A5F4-8E8A3B47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8DA-816E-47D2-BF4B-CB3AD36C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04D-F576-4E69-9E12-42E19B98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55E-9AB8-4FF1-BC6A-A61C19E2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950-EF91-4493-AD74-A6F25BA8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E26-BAD6-4D17-B4F2-A7A95549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E57-A4FE-409D-BF2B-1E687B12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4004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D36F-11BA-447A-AC19-1D539D0A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ngimas kompiuterinėmis technologijomi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Kurso “</a:t>
            </a: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Reklamos elektroninė leidyba” dal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Ranka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5318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3520" y="22096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echninė įr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onitor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Grafinė plok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kene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iešimo 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Fotoapara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spausdintinė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V_61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220968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PAV_62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76544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AV_63" descr=""/>
          <p:cNvPicPr/>
          <p:nvPr/>
        </p:nvPicPr>
        <p:blipFill>
          <a:blip r:embed="rId4"/>
          <a:stretch/>
        </p:blipFill>
        <p:spPr>
          <a:xfrm>
            <a:off x="6019920" y="2743200"/>
            <a:ext cx="1828800" cy="148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Ranka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1305000" cy="175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95640" y="1752480"/>
            <a:ext cx="278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Interneto funkcij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endravimo bū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uomenų saugyk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mercijos rin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80040" y="3048120"/>
            <a:ext cx="397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valuma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Auditorijos mas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Galimybė pasirinkti auditorij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Interaktyvus ryš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fektyvi preky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inamišku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24280" y="3047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Tinklalap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Elektroninis skyde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0800" y="22320"/>
            <a:ext cx="5481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AV_92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480060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AV_91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3429000" cy="544320"/>
          </a:xfrm>
          <a:prstGeom prst="rect">
            <a:avLst/>
          </a:prstGeom>
          <a:ln w="0">
            <a:noFill/>
          </a:ln>
        </p:spPr>
      </p:pic>
      <p:pic>
        <p:nvPicPr>
          <p:cNvPr id="119" name="PAV_93" descr=""/>
          <p:cNvPicPr/>
          <p:nvPr/>
        </p:nvPicPr>
        <p:blipFill>
          <a:blip r:embed="rId5"/>
          <a:stretch/>
        </p:blipFill>
        <p:spPr>
          <a:xfrm>
            <a:off x="304920" y="5334120"/>
            <a:ext cx="6705360" cy="825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2133720"/>
            <a:ext cx="289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Diskusijų klub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Paš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bpzenklas" descr=""/>
          <p:cNvPicPr/>
          <p:nvPr/>
        </p:nvPicPr>
        <p:blipFill>
          <a:blip r:embed="rId6"/>
          <a:stretch/>
        </p:blipFill>
        <p:spPr>
          <a:xfrm>
            <a:off x="6477120" y="1752480"/>
            <a:ext cx="13716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a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Intern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4240" y="1371600"/>
            <a:ext cx="385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WWW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dokumentų kūrim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Reikalavimai (W3-Consort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Naršyklė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Tinklapių kūrimo </a:t>
            </a: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362320"/>
            <a:ext cx="683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Tekstiniai redaktoriai (Windows Notepad, CofeeCup HTML Editor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Vizualiniai redaktoriai ( Microsoft FrontPage, Altaire HomeSi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Macromedia Dreamwea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808080"/>
                </a:solidFill>
                <a:latin typeface="Times New Roman"/>
              </a:rPr>
              <a:t>Tarpiniai (HotMetal Pro 6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uojančios programos (MS Word, Adobe Photoshop 5.5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Grafik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Profesionalios programos (CorelDraw, Adobe Photosho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Konvertavimo programos (Windows Paint +Irfan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lt-LT" sz="1800" spc="-1" strike="noStrike">
                <a:solidFill>
                  <a:srgbClr val="000000"/>
                </a:solidFill>
                <a:latin typeface="Times New Roman"/>
              </a:rPr>
              <a:t>Specialios programos (DeBabelizer Pro 4.5.1, Flash 4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85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imes New Roman"/>
              </a:rPr>
              <a:t>Įsimen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erskai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iš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7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nt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ų pamaty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r i</a:t>
            </a: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85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eiklos </a:t>
            </a:r>
            <a:r>
              <a:rPr b="1" lang="lt-LT" sz="2800" spc="-1" strike="noStrike">
                <a:solidFill>
                  <a:srgbClr val="9933ff"/>
                </a:solidFill>
                <a:latin typeface="Times New Roman"/>
              </a:rPr>
              <a:t>pristaty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248520" y="2819520"/>
          <a:ext cx="144756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2819520"/>
                    <a:ext cx="1447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d05515_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156060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pe07677_" descr=""/>
          <p:cNvPicPr/>
          <p:nvPr/>
        </p:nvPicPr>
        <p:blipFill>
          <a:blip r:embed="rId5"/>
          <a:stretch/>
        </p:blipFill>
        <p:spPr>
          <a:xfrm>
            <a:off x="4952880" y="38862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371600" y="3733920"/>
            <a:ext cx="3809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Įrankia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S Pow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 Pres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Lotus Freelance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Harvard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4720" indent="-48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Išmokime parodyti save pasauliui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Ranka" descr=""/>
          <p:cNvPicPr/>
          <p:nvPr/>
        </p:nvPicPr>
        <p:blipFill>
          <a:blip r:embed="rId1"/>
          <a:stretch/>
        </p:blipFill>
        <p:spPr>
          <a:xfrm>
            <a:off x="4118040" y="2819520"/>
            <a:ext cx="907920" cy="12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1600"/>
            </a:b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odulio</a:t>
            </a:r>
            <a:r>
              <a:rPr b="1" lang="lv-LV" sz="2400" spc="-1" strike="noStrike">
                <a:solidFill>
                  <a:srgbClr val="ff3300"/>
                </a:solidFill>
                <a:latin typeface="Times New Roman"/>
              </a:rPr>
              <a:t> strukt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90840" y="1855800"/>
          <a:ext cx="6265800" cy="33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0840" y="1855800"/>
                    <a:ext cx="62658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02080" y="1103400"/>
            <a:ext cx="16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Times New Roman"/>
              </a:rPr>
              <a:t>Trukmė – 2 val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br>
              <a:rPr sz="2000"/>
            </a:br>
            <a:br>
              <a:rPr sz="2000"/>
            </a:b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amp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V_1" descr=""/>
          <p:cNvPicPr/>
          <p:nvPr/>
        </p:nvPicPr>
        <p:blipFill>
          <a:blip r:embed="rId3"/>
          <a:stretch/>
        </p:blipFill>
        <p:spPr>
          <a:xfrm>
            <a:off x="1523880" y="1752480"/>
            <a:ext cx="3886200" cy="21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47920" y="4114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4d4d4d"/>
                </a:solidFill>
                <a:latin typeface="Times New Roman"/>
              </a:rPr>
              <a:t>Senovinė reklama (1477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1676520"/>
            <a:ext cx="2361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aidmen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arketing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Komunikac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Ekonom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Sociali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486400"/>
            <a:ext cx="6934320" cy="703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ffffff"/>
                </a:solidFill>
                <a:latin typeface="Times New Roman"/>
              </a:rPr>
              <a:t>REKLAMA, tai sąmoningas, kryptingas ir planingas poveikis  vartotojams, siekiant tam tikrų tiksl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0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209680"/>
            <a:ext cx="28958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600" spc="-1" strike="noStrike">
                <a:solidFill>
                  <a:srgbClr val="000000"/>
                </a:solidFill>
                <a:latin typeface="Times New Roman"/>
              </a:rPr>
              <a:t>Ginčytini klausima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Išpūsta”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koni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os estetik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Flirto motyvas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nka" descr=""/>
          <p:cNvPicPr/>
          <p:nvPr/>
        </p:nvPicPr>
        <p:blipFill>
          <a:blip r:embed="rId3"/>
          <a:stretch/>
        </p:blipFill>
        <p:spPr>
          <a:xfrm>
            <a:off x="3962520" y="3581280"/>
            <a:ext cx="1304640" cy="175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2514600"/>
            <a:ext cx="335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Stereotipai reklam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 vaika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Ginčytinų prekių rekl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</a:rPr>
              <a:t>Reklama, veikianti į pasąmon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remosonasd" descr=""/>
            <p:cNvPicPr/>
            <p:nvPr/>
          </p:nvPicPr>
          <p:blipFill>
            <a:blip r:embed="rId1"/>
            <a:stretch/>
          </p:blipFill>
          <p:spPr>
            <a:xfrm>
              <a:off x="8244000" y="0"/>
              <a:ext cx="900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emovirsu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0760" y="205740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Dalyvi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Vykdytoj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os priemonė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Firmos įvaiz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avimo bū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Reklaminis praneš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Iliustr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Antrašt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Tek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</a:rPr>
              <a:t>Šūk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os</a:t>
            </a:r>
            <a:r>
              <a:rPr b="1" lang="lt-LT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kūr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0880" y="1828800"/>
            <a:ext cx="3181320" cy="4008240"/>
            <a:chOff x="380880" y="1828800"/>
            <a:chExt cx="3181320" cy="4008240"/>
          </a:xfrm>
        </p:grpSpPr>
        <p:pic>
          <p:nvPicPr>
            <p:cNvPr id="72" name="PAV21" descr=""/>
            <p:cNvPicPr/>
            <p:nvPr/>
          </p:nvPicPr>
          <p:blipFill>
            <a:blip r:embed="rId3"/>
            <a:stretch/>
          </p:blipFill>
          <p:spPr>
            <a:xfrm>
              <a:off x="2057040" y="2637000"/>
              <a:ext cx="1219320" cy="8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AV22" descr=""/>
            <p:cNvPicPr/>
            <p:nvPr/>
          </p:nvPicPr>
          <p:blipFill>
            <a:blip r:embed="rId4"/>
            <a:stretch/>
          </p:blipFill>
          <p:spPr>
            <a:xfrm>
              <a:off x="1904760" y="1828800"/>
              <a:ext cx="1417680" cy="48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MP_LOGO" descr=""/>
            <p:cNvPicPr/>
            <p:nvPr/>
          </p:nvPicPr>
          <p:blipFill>
            <a:blip r:embed="rId5"/>
            <a:stretch/>
          </p:blipFill>
          <p:spPr>
            <a:xfrm>
              <a:off x="380880" y="1990080"/>
              <a:ext cx="1388880" cy="17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ZIT4" descr=""/>
            <p:cNvPicPr/>
            <p:nvPr/>
          </p:nvPicPr>
          <p:blipFill>
            <a:blip r:embed="rId6"/>
            <a:stretch/>
          </p:blipFill>
          <p:spPr>
            <a:xfrm>
              <a:off x="380880" y="3929400"/>
              <a:ext cx="3181320" cy="19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remosonasd" descr=""/>
          <p:cNvPicPr/>
          <p:nvPr/>
        </p:nvPicPr>
        <p:blipFill>
          <a:blip r:embed="rId2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AV_2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1720800" cy="4876920"/>
          </a:xfrm>
          <a:prstGeom prst="rect">
            <a:avLst/>
          </a:prstGeom>
          <a:ln w="0">
            <a:noFill/>
          </a:ln>
        </p:spPr>
      </p:pic>
      <p:pic>
        <p:nvPicPr>
          <p:cNvPr id="80" name="REK4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3492360" cy="47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movirsu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Reklaminis </a:t>
            </a:r>
            <a:r>
              <a:rPr b="1" lang="lt-LT" sz="3200" spc="-1" strike="noStrike">
                <a:solidFill>
                  <a:srgbClr val="9933ff"/>
                </a:solidFill>
                <a:latin typeface="Times New Roman"/>
              </a:rPr>
              <a:t>skelbi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AV_3" descr=""/>
          <p:cNvPicPr/>
          <p:nvPr/>
        </p:nvPicPr>
        <p:blipFill>
          <a:blip r:embed="rId2"/>
          <a:stretch/>
        </p:blipFill>
        <p:spPr>
          <a:xfrm>
            <a:off x="5715000" y="1523880"/>
            <a:ext cx="2792520" cy="4191120"/>
          </a:xfrm>
          <a:prstGeom prst="rect">
            <a:avLst/>
          </a:prstGeom>
          <a:ln w="0">
            <a:noFill/>
          </a:ln>
        </p:spPr>
      </p:pic>
      <p:pic>
        <p:nvPicPr>
          <p:cNvPr id="84" name="PAV_4" descr=""/>
          <p:cNvPicPr/>
          <p:nvPr/>
        </p:nvPicPr>
        <p:blipFill>
          <a:blip r:embed="rId3"/>
          <a:stretch/>
        </p:blipFill>
        <p:spPr>
          <a:xfrm>
            <a:off x="0" y="609480"/>
            <a:ext cx="2297160" cy="624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95480" y="3505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lyginkim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remosonasd" descr=""/>
          <p:cNvPicPr/>
          <p:nvPr/>
        </p:nvPicPr>
        <p:blipFill>
          <a:blip r:embed="rId4"/>
          <a:stretch/>
        </p:blipFill>
        <p:spPr>
          <a:xfrm>
            <a:off x="8505720" y="0"/>
            <a:ext cx="638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m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Elektron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kompas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2133360" cy="1854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2160" y="342864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pausdintin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eiklos pristaty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2" name="removirsus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remoonas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80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Times New Roman"/>
              </a:rPr>
              <a:t>Reklamos rengimas kompiuterinėmis technologijomis</a:t>
            </a:r>
            <a:r>
              <a:rPr b="0" lang="lt-L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lt-LT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Elektroninė  </a:t>
            </a:r>
            <a:r>
              <a:rPr b="1" lang="lt-LT" sz="3200" spc="-1" strike="noStrike">
                <a:solidFill>
                  <a:srgbClr val="ff3300"/>
                </a:solidFill>
                <a:latin typeface="Times New Roman"/>
              </a:rPr>
              <a:t>spausdintinė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rek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638680" y="1828800"/>
            <a:ext cx="2210040" cy="3657600"/>
            <a:chOff x="5638680" y="1828800"/>
            <a:chExt cx="2210040" cy="3657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5848920" y="1828800"/>
              <a:ext cx="1387800" cy="28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638680" y="4833360"/>
              <a:ext cx="2210040" cy="65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Spalvų sistemos 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lt-LT" sz="1800" spc="-1" strike="noStrike">
                  <a:solidFill>
                    <a:srgbClr val="000000"/>
                  </a:solidFill>
                  <a:latin typeface="Times New Roman"/>
                </a:rPr>
                <a:t>B ir CMY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676520" y="2133720"/>
            <a:ext cx="342900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rafikos Progr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CorelD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Adobe Photo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Microsoft PhotoDraw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Times New Roman"/>
              </a:rPr>
              <a:t>iGrafx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uošė V. Keršienė, remiant Atviros Lietuvos Fondui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21:32:43Z</dcterms:created>
  <dc:creator>mes</dc:creator>
  <dc:description/>
  <dc:language>en-US</dc:language>
  <cp:lastModifiedBy>mes</cp:lastModifiedBy>
  <cp:lastPrinted>2000-05-15T04:45:18Z</cp:lastPrinted>
  <dcterms:modified xsi:type="dcterms:W3CDTF">2000-05-25T23:25:48Z</dcterms:modified>
  <cp:revision>63</cp:revision>
  <dc:subject/>
  <dc:title>Reklamos rengimas kompiuterinėmis technologijomis</dc:title>
</cp:coreProperties>
</file>