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2F6-C40B-42A9-97FA-BA7F7574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BD9-3AD0-46CE-8E8B-26D20C36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6A7-AF6A-4035-94E1-2665CADE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44C-BD13-44A6-B28A-9BC398DC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9445-AE02-4C32-ADB6-3A1F89FE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9950-CE3D-41F4-A02C-4E30D38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30B9-3CBF-4968-B0FA-DE6A2A55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6D2C-8027-4FC8-AAA2-57179E88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0658-186D-4D56-9A25-12203CE9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E512-B0A1-4248-8E2C-9836646E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D038-D776-44AF-8E9A-2C3E1816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295-52C7-4465-8ED1-6553F28A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B156-6A75-4B08-B169-37A841B4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8E27-EFD6-4E54-A995-C30E016D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49BC-C330-49B7-9C0D-4012BF15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394C-12B5-48A9-BC24-07CB2E26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FE5-8DBB-401E-999A-E18981BB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F81-6237-43FB-B9F2-10E161DC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C1B9-1D3B-4D3C-8189-6889E23E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36C-56ED-41DE-BAD8-2C209981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B76-3A07-4E50-A8E4-640AA054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E9E-6F4E-4500-8832-9A0D510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2A0-7A21-4FE6-A444-D147D3F1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10C-F76B-4EDC-9BE6-242E4B69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C20C-E72C-4A5E-AA22-E6F6E283B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AF14-3B16-404D-BE9D-523851A0D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lt-LT" sz="4000" spc="-1" strike="noStrike">
                <a:solidFill>
                  <a:srgbClr val="221304"/>
                </a:solidFill>
                <a:latin typeface="Times New Roman"/>
              </a:rPr>
              <a:t>DUOMENŲ BAZĖS IR  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2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Informacijos sistemos gyvavimo ciklas</a:t>
            </a:r>
            <a:br>
              <a:rPr sz="2800"/>
            </a:b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Organizacijos i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nformacin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rchitekt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60400" y="5040000"/>
            <a:ext cx="69343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.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as palaikymas 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nuolat besikeičiantį produktą daug sunkiau aptarnauti;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udėtingesnis programavimo proceso valdymas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nkiau suvaldyti nuolat besikeičiančius testavimo planus, projektų dokumentus ir t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C9C-B903-4132-B0C2-15C94E4572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Fontano” tipo IS GC model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37040" y="1542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11812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E4C-EB8A-450F-AEA5-AE3CD77A3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architektūra – pagrindinis organizacijos IT planavimo įrank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oje organizacijoje yra keletas įvairios paskirties IS, kurios kompiuterizuoja atskiras veiklos 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ai aišku, kad reikalingas vieningas IS planavimo būdas, kuris išspręstų IS kūrimo ir p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s problem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s architektūros paskir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kad kiekvienas veiklos dalyvis – vadybininkas, gamybininkas ar informatikas, IS skyriaus specialistas - turėtų tokį patį supratimą apie veiklą (veiklos modelį savo galvoj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F23-68E5-459D-B380-0570180EFF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architektūros sudėt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keletas skirtingų informacinės architektūros sudėties apibūdinimų (modelių).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ikiamas vienas iš labiau paplitusi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nė architektūra susided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 tokių sluoksni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Pagrindas yra organizacijos IT infrastruk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konkret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nė įranga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žtikrinanti paskirstytus duomenų šaltinius, būtinus organizacijos veiklai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entralizuota informacinės architektūros dal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Decentralizuota IA dalis - funkcinės IS, kitos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E12-4055-4C1D-85AB-AA9B625323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Organizacijos informacinė architektūr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3920" y="19954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838080"/>
          <a:ext cx="8232840" cy="534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8232840" cy="53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F59-A0AC-448D-B9FA-0390A4D5E1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entralizuota IA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dali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, kuri nulem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rganizacijos informac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reik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uome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unikacij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2CC-3279-4754-AA58-D93EDE8AA6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pagrindinė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ntralizuota I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pima organizacijos veiklos funkcijų IS (funkcines IS) ir paslaugų IS (kompiuterizuotos darbo vietos individualiems skaičiavimams, E-mail ir kt.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iskirsto organizacinio valdymo (vadybos) hierarchijos lygiais: strateginės IS, vadybos IS, žinių IS, operatyvaus valdymo IS (skirstomos pagal funkcijas į finansų valdymo IS, gamybos valdymo IS, apskaitos IS, personalo vadybos IS ir kitos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binė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aštinės IS ir komunikavimo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741-4B7B-4F63-AE47-F3989D384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techninius įrenginiu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laugas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ymo personalą, kuris aptarnauja organizacijos techninę įrang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743-D220-4E4F-82DF-761F21D92F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informacinė infrastru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nė infrastruktūr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ideda iš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ės techninės įrangos ir jų programinė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Bendros paskirties programinės įran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Duomenų perdavimo ir saugoji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echnologinės priemon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duomenų bazių valdymo sistemų (DB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ompiuterinių tinklų ir komunikacinių įrengim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vadybos personalo (IS skyriaus personal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6A5-7A54-4F74-8D3E-B8E710F838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nformacinės architektūros daly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171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img024IA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207-7DB4-476E-8E14-2A508D4833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ISTEMOS GYVAVIMO CIKLAS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vedame svarbią sąvoką – sistemos gyvavimo ciklas (system life cyc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yvavimo ciklas –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žinerij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odologijos realizavimo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ces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odel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iekviena iš metodologijų reikalauja atitinkamo gyvavimo ciklo, kuris efektyviai realizuoja metodologijos galimyb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 to, gyvavimo ciklo parinkimas susijęs su turimos programinės įrangos galimybėm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1DB-B455-4D66-9452-759895D1A6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Funkcinės IS ir inf. architektūr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1080" y="1828800"/>
            <a:ext cx="81504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3A5-49CE-48B1-B31E-B6F0BD87A0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442880" y="304920"/>
            <a:ext cx="7772400" cy="5665680"/>
            <a:chOff x="1442880" y="304920"/>
            <a:chExt cx="7772400" cy="5665680"/>
          </a:xfrm>
        </p:grpSpPr>
        <p:sp>
          <p:nvSpPr>
            <p:cNvPr id="196" name=""/>
            <p:cNvSpPr/>
            <p:nvPr/>
          </p:nvSpPr>
          <p:spPr>
            <a:xfrm>
              <a:off x="1598040" y="307800"/>
              <a:ext cx="1020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Organ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63800" y="496800"/>
              <a:ext cx="12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l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08160" y="4968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6340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2240" y="30780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Tarnaujanči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4968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grupė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5416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2080" y="684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42640" y="307800"/>
              <a:ext cx="51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S tip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076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31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48120" y="30780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Informaci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8640" y="307800"/>
              <a:ext cx="73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ė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07160" y="3078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s 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10320" y="307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49920" y="4968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42880" y="3049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52600" y="30492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32120" y="3049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41480" y="30492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304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0960" y="30492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0392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11840" y="30492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207360" y="30492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42880" y="312840"/>
              <a:ext cx="97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2120" y="312840"/>
              <a:ext cx="936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304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0392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07360" y="312840"/>
              <a:ext cx="7920" cy="56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48720" y="87948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rateg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81720" y="879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8796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7600" y="879480"/>
              <a:ext cx="77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yriausieji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37240" y="10666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188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720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56360" y="882720"/>
              <a:ext cx="60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Vadov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106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5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57080" y="1332000"/>
              <a:ext cx="50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(ES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2280" y="133200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7760" y="155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62680" y="8794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 m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61560" y="8794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13400" y="879480"/>
              <a:ext cx="23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krypties progno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51880" y="106668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58520" y="1066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45760" y="1254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35760" y="1254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59520" y="1254240"/>
              <a:ext cx="2117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operacinio planavimo IS 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69720" y="1254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45760" y="14414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5760" y="14414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59160" y="1441440"/>
              <a:ext cx="225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tų biudžetas prognozavim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17320" y="1441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04000" y="16257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5080" y="1625760"/>
              <a:ext cx="118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lno planav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47320" y="16257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42880" y="8748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52600" y="87480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32120" y="8748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41480" y="87480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304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0960" y="87480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92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87480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207360" y="87480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880" y="882720"/>
              <a:ext cx="97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2120" y="882720"/>
              <a:ext cx="936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5304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0392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207360" y="882720"/>
              <a:ext cx="7920" cy="9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8360" y="18208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59680" y="1820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96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38320" y="182088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idutinio lygi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37240" y="2008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81880" y="2008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720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58160" y="1820880"/>
              <a:ext cx="654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Vald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8520" y="2008080"/>
              <a:ext cx="90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8880" y="2195640"/>
              <a:ext cx="109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MIS)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708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977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4564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58880" y="2571840"/>
              <a:ext cx="723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prendim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09920" y="25718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8160" y="2759040"/>
              <a:ext cx="73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laiky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58880" y="2946240"/>
              <a:ext cx="106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DS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7480" y="29462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8320" y="1820880"/>
              <a:ext cx="2707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avimų valdymo IS; Inventorizacij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07600" y="2008080"/>
              <a:ext cx="2483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controlės IS; kasmetinio biudžeto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06160" y="2195640"/>
              <a:ext cx="2103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pitalo investicij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03040" y="21956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960" y="2382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51880" y="23828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95320" y="2382840"/>
              <a:ext cx="24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vimų regiono anaizės IS; Gamybo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06520" y="2571840"/>
              <a:ext cx="2199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lanavimo IS; Kaštų analizės I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17520" y="25718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24720" y="2571840"/>
              <a:ext cx="444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Kain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06880" y="2759040"/>
              <a:ext cx="2794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nalizės IS; Kontraktinių kaštų analizės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98280" y="2759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880" y="1817640"/>
              <a:ext cx="97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2600" y="1817640"/>
              <a:ext cx="1379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32120" y="1817640"/>
              <a:ext cx="9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1480" y="1817640"/>
              <a:ext cx="1411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5304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0960" y="1817640"/>
              <a:ext cx="1542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392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1840" y="1817640"/>
              <a:ext cx="33955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07360" y="1817640"/>
              <a:ext cx="7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2880" y="182412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32120" y="1824120"/>
              <a:ext cx="936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5304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392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07360" y="1824120"/>
              <a:ext cx="79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48720" y="3141720"/>
              <a:ext cx="71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ų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8240" y="31417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7960" y="314172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37240" y="3328920"/>
              <a:ext cx="608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iomi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6444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82240" y="351648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96000" y="35164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0080" y="370368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7404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37960" y="3890880"/>
              <a:ext cx="94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antieji su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37600" y="407988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uomenim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86560" y="40798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7720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77200" y="44496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59240" y="3141720"/>
              <a:ext cx="1116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inyb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58520" y="3328920"/>
              <a:ext cx="113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KW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73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59960" y="3516480"/>
              <a:ext cx="1262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irbtinio intelekt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9240" y="3703680"/>
              <a:ext cx="974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inklai (ANN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9468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57800" y="3890880"/>
              <a:ext cx="41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Biur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58880" y="4079880"/>
              <a:ext cx="1102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utomatiz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8520" y="426240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OA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55160" y="42624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7240" y="3141720"/>
              <a:ext cx="262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Darbo stočių inžinerija; Grafinės darb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080" y="3328920"/>
              <a:ext cx="205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totys;Valnadčios darbo stoty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15920" y="33289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6880" y="3516480"/>
              <a:ext cx="22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Žodžio apdorojimas; Dokument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7600" y="3703680"/>
              <a:ext cx="2478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paruošimas; Elektroniniai kalendo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739720" y="37036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2880" y="31370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52600" y="31370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32120" y="31370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1480" y="31370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304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0960" y="31370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0392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11840" y="31370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207360" y="31370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144960"/>
              <a:ext cx="97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2120" y="3144960"/>
              <a:ext cx="936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5304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0392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207360" y="3144960"/>
              <a:ext cx="7920" cy="14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48000" y="4645080"/>
              <a:ext cx="107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Operacinis ly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8172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9360" y="4645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6450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ykdant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5984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37240" y="4834080"/>
              <a:ext cx="80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enedžeria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81880" y="4834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720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58520" y="4645080"/>
              <a:ext cx="62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andėrių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58880" y="483408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pdoroj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59240" y="502128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 (TPS)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598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04960" y="520848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9920" y="5208480"/>
              <a:ext cx="58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r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58880" y="5396040"/>
              <a:ext cx="79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(funkcinės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8880" y="5583240"/>
              <a:ext cx="910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nformacinė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7440" y="577044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sistem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21640" y="57704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9040" y="4645080"/>
              <a:ext cx="262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Eilės sekimo IS; orderių apdorojimo IS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76160" y="46450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07960" y="4834080"/>
              <a:ext cx="2840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Mašinų kontrolės IS; Sodinimo planavimo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07240" y="5021280"/>
              <a:ext cx="196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IS; grynųjų pinigų valdy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41040" y="502128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06880" y="5208480"/>
              <a:ext cx="2455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Atlyginimai, paruošimas &amp; kūrimas;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06520" y="5396040"/>
              <a:ext cx="1788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Tarnautojų įrašų sekimo 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49160" y="539604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2880" y="464184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52600" y="4641840"/>
              <a:ext cx="1379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2120" y="464184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4641840"/>
              <a:ext cx="14115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5304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60960" y="4641840"/>
              <a:ext cx="15429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0392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11840" y="4641840"/>
              <a:ext cx="33955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207360" y="4641840"/>
              <a:ext cx="7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2880" y="4649760"/>
              <a:ext cx="9720" cy="131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42880" y="596268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452600" y="5962680"/>
            <a:ext cx="1379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32120" y="4649760"/>
            <a:ext cx="936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32120" y="596268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41480" y="5962680"/>
            <a:ext cx="1411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5304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5304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60960" y="5962680"/>
            <a:ext cx="1542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392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0392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11840" y="5962680"/>
            <a:ext cx="33955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207360" y="4649760"/>
            <a:ext cx="792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7360" y="596268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87960" y="596592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8C1-6EC7-43F6-86C3-BBB76032C7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Transakcijų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P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 ir 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valdymo IS (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MI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ir MIS yra skirstomos pagal funkcines sr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rdavimo ir marketing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inansų ir apskaitos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sonalo valdymo TPS (ir M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iklausomai nuo pramonės 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B55-C2E5-4602-8FA4-1EB785C8FB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in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 IS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(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Arial Unicode MS"/>
              </a:rPr>
              <a:t>KW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tos darbuotojam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, tvarkantiems veikl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žini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as (pvz., naujų gaminių ar technologijų projektuotojai)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NN – dirbtiniai neuroniniai tinkl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- ekspertinė sistem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711-6CD5-4F83-BFF3-59165A3320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Integr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549600" y="1676520"/>
            <a:ext cx="3219120" cy="2285640"/>
            <a:chOff x="3549600" y="1676520"/>
            <a:chExt cx="3219120" cy="2285640"/>
          </a:xfrm>
        </p:grpSpPr>
        <p:sp>
          <p:nvSpPr>
            <p:cNvPr id="416" name=""/>
            <p:cNvSpPr/>
            <p:nvPr/>
          </p:nvSpPr>
          <p:spPr>
            <a:xfrm>
              <a:off x="4787640" y="167652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S (EI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49600" y="2019240"/>
              <a:ext cx="74268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4960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87640" y="3390840"/>
              <a:ext cx="743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26040" y="281952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PS fun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26040" y="2019240"/>
              <a:ext cx="74268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3032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4292280" y="2018880"/>
              <a:ext cx="495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04460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96920" y="24764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4168440" y="3276720"/>
              <a:ext cx="6188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530680" y="3276720"/>
              <a:ext cx="619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397560" y="259092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 flipV="1">
              <a:off x="5283000" y="2247840"/>
              <a:ext cx="74304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4168440" y="2361600"/>
              <a:ext cx="1857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292280" y="304812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92280" y="2361960"/>
              <a:ext cx="17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155600" y="3809880"/>
            <a:ext cx="8750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administravimo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– vadybos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– sprendimo priėmimo I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ų (funkcinė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– ofiso automatizavimo siste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WS – žinių sistemos (pvz., kompiuterizuoto projektavimo CAD sistem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5CB-98A2-4143-A85D-6DB880E454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Informacijos sistem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ų klasifikavimas pagal integravimo laips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38400" y="1676520"/>
            <a:ext cx="825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ikomosios sistemos gamybos veiklai valdy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tskiroms funkcijoms kompiuterizuoti; šios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v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žai susijus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rpusavyje, pvz., įrenginių kontrolės IS , gamybos planavimo IS, sandėliavimo apskaito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- materialių resursų planavimo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integruoja atskiras funkcines gamybo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RP II – gamybos resursų planavimo 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IM – integruotos gamybos sistemos (stambesnė už MRP 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RP – įmonės resursų planavim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porganizacinės IS, kurios plečia 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galimybe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97C-4DEA-4512-B16B-065738376E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IS evoliucija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 a. 5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ui skirta programinė įr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ukurta pirmoji verslo IS, kuri galėjo atlikti elementarius skaičiavimus, prognozes, ataskaitas ir k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X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staigi verslo IS plėtra panaudojant elektronines telekomunikacijas (bilietų rezervavimo sistemos ir kt.), taip pat prasidėjo sprendimų priėmimo sistemų vystym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d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šimtmetis- dirbtinio intelekto ir ekspertinių sistemų plė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35B-3777-4D4C-A46B-97C521ACEA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Tradicinis  (top-down) arba “krioklio tipo” GC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kir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uktūrinei-funkcinei IS inžinerij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bjektinis (bottom-up) arba “fontano” tipo GC, skirtas realizuoti OO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S inžinerijos metod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Iteracinis GC (spira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tipo), realizuojantis evoliucinį IS 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Lygiagretusis GC, taikomas dideliems projektams, kuriuos vykdo dide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rojektavimo ko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SCRUM metodas, kurio privalumas - lei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 keisti reikalavimus IS kiekviename projektavimo etape bet kuriuo momen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641-D776-42A0-8CE0-271843E91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S kūrimo proceso gyvavimo ciklų modeli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yra sukurta daug (virš 50) CASE paketų, kiekvienas realizuoja savo gyvavimo ciklo modelį, kuris kažkuo skiriasi nuo kitų sistemų G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yzdžiui, CASE sistema “Rational Rose”  grindžiama gyvavimo ciklu, kuris vadinam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 – Rational Unified Proces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28D-F76B-412C-8821-065CA566F9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25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Tradicinis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krioklio tipo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”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 IS k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2400" spc="-1" strike="noStrike">
                <a:solidFill>
                  <a:srgbClr val="221304"/>
                </a:solidFill>
                <a:latin typeface="Times New Roman"/>
              </a:rPr>
              <a:t>rimo </a:t>
            </a:r>
            <a:r>
              <a:rPr b="1" lang="lt-LT" sz="2400" spc="-1" strike="noStrike">
                <a:solidFill>
                  <a:srgbClr val="221304"/>
                </a:solidFill>
                <a:latin typeface="Times New Roman"/>
              </a:rPr>
              <a:t>gyvavimo ciklas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7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2040" y="78264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4760" y="870120"/>
            <a:ext cx="161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124308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330200"/>
            <a:ext cx="203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rtotojo reikalavimų 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1676520"/>
            <a:ext cx="2505240" cy="5061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10000" y="1712880"/>
            <a:ext cx="195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ikalavimų 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inei įranga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4400" y="187020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pecifik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2040" y="2438280"/>
            <a:ext cx="2505240" cy="495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2514600"/>
            <a:ext cx="136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istemos (architektūr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2400" y="2666880"/>
            <a:ext cx="207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 (log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2040" y="3087720"/>
            <a:ext cx="2505240" cy="4935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10640" y="3097080"/>
            <a:ext cx="198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(detalusis) 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41560" y="3254400"/>
            <a:ext cx="121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fizinis projekt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2040" y="4008600"/>
            <a:ext cx="2505240" cy="309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097160"/>
            <a:ext cx="1497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alizavimas (Kodavima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72040" y="447192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5840" y="4481640"/>
            <a:ext cx="193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atskirų dali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7520" y="46371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2040" y="4932360"/>
            <a:ext cx="2505240" cy="3063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94080" y="5019840"/>
            <a:ext cx="20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gramų testavimas: IS tes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2040" y="5392800"/>
            <a:ext cx="2505240" cy="3078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9560" y="547992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eksploa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2040" y="5853240"/>
            <a:ext cx="2505240" cy="309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83480" y="59421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palaiky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8720" y="108900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69120" y="113652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8720" y="15508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69120" y="160020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8720" y="293364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69120" y="298116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8720" y="4317840"/>
            <a:ext cx="1440" cy="5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69120" y="436572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8720" y="477828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69120" y="4826160"/>
            <a:ext cx="7596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48" y="0"/>
                </a:moveTo>
                <a:lnTo>
                  <a:pt x="25" y="67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8720" y="5238720"/>
            <a:ext cx="1440" cy="58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69120" y="52894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570060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9120" y="574992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5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8720" y="5950080"/>
            <a:ext cx="1335240" cy="366480"/>
          </a:xfrm>
          <a:custGeom>
            <a:avLst/>
            <a:gdLst/>
            <a:ahLst/>
            <a:rect l="l" t="t" r="r" b="b"/>
            <a:pathLst>
              <a:path w="841" h="231">
                <a:moveTo>
                  <a:pt x="0" y="134"/>
                </a:moveTo>
                <a:lnTo>
                  <a:pt x="0" y="231"/>
                </a:lnTo>
                <a:lnTo>
                  <a:pt x="841" y="231"/>
                </a:lnTo>
                <a:lnTo>
                  <a:pt x="84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07240" y="5853240"/>
            <a:ext cx="76320" cy="10620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3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67200" y="843120"/>
            <a:ext cx="1001520" cy="8604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3960" y="1208160"/>
            <a:ext cx="41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aliz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7200" y="1857240"/>
            <a:ext cx="1001520" cy="19987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7320" y="2790720"/>
            <a:ext cx="79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jektavi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0" y="4008600"/>
            <a:ext cx="1001520" cy="2154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41720" y="4267080"/>
            <a:ext cx="896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nstravimas</a:t>
            </a: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>
                <a:solidFill>
                  <a:srgbClr val="000000"/>
                </a:solidFill>
                <a:latin typeface="Arial"/>
              </a:rPr>
              <a:t>(Taikomosios programinės įrango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68680" y="1703520"/>
            <a:ext cx="1440" cy="56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32320" y="175248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3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8680" y="3855960"/>
            <a:ext cx="1440" cy="57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2320" y="390528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48" y="0"/>
                </a:moveTo>
                <a:lnTo>
                  <a:pt x="23" y="65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1031760"/>
            <a:ext cx="1440" cy="422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2400" y="936720"/>
            <a:ext cx="75960" cy="102960"/>
          </a:xfrm>
          <a:custGeom>
            <a:avLst/>
            <a:gdLst/>
            <a:ahLst/>
            <a:rect l="l" t="t" r="r" b="b"/>
            <a:pathLst>
              <a:path w="48" h="65">
                <a:moveTo>
                  <a:pt x="0" y="65"/>
                </a:moveTo>
                <a:lnTo>
                  <a:pt x="25" y="0"/>
                </a:lnTo>
                <a:lnTo>
                  <a:pt x="48" y="65"/>
                </a:lnTo>
                <a:lnTo>
                  <a:pt x="0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0" y="144612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4349520" y="1203120"/>
            <a:ext cx="15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1954080"/>
            <a:ext cx="1440" cy="180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32400" y="1857240"/>
            <a:ext cx="75960" cy="106560"/>
          </a:xfrm>
          <a:custGeom>
            <a:avLst/>
            <a:gdLst/>
            <a:ahLst/>
            <a:rect l="l" t="t" r="r" b="b"/>
            <a:pathLst>
              <a:path w="48" h="67">
                <a:moveTo>
                  <a:pt x="0" y="67"/>
                </a:moveTo>
                <a:lnTo>
                  <a:pt x="25" y="0"/>
                </a:lnTo>
                <a:lnTo>
                  <a:pt x="48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3751200"/>
            <a:ext cx="75960" cy="104760"/>
          </a:xfrm>
          <a:custGeom>
            <a:avLst/>
            <a:gdLst/>
            <a:ahLst/>
            <a:rect l="l" t="t" r="r" b="b"/>
            <a:pathLst>
              <a:path w="48" h="66">
                <a:moveTo>
                  <a:pt x="48" y="0"/>
                </a:moveTo>
                <a:lnTo>
                  <a:pt x="25" y="66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4299120" y="277236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a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D67-AA6C-4813-BA10-7A40E09B1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IS 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GC etap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pavadinimai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analiz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totojo reikalavimų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kalavimų programinei įrangai specifik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os (architektūros) projektavimas (log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(detalusis) projektavimas (fizinis projekt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vimas (Kodavi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atskirų dalių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ų testavimas: IS tes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ksploat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laik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0D3-AB52-4E34-96FF-3E71F0B230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Tradicinio IS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kūrimo metu neatsižvelgiama į evoliucinius (kompiuterizuojamos sistemos) pakitim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šiuo metodu (“iš viršaus žemyn” – top down),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S siejama su veik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kcij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mi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i labai abejotinas dalyk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 nes jos nuolat k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ktuojant metodu “iš viršaus žemyn” yra atlie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 funkcinė dekompozicija, duomenų struktūrų aspektas užmirštamas, kartais visišk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ėl paminėtų priežasčių struktūrinis-funkcinis IS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jektavi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 bū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iš viršaus žemyn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tinka siekiant sukurti pakartotino panaudojimo programinę įrangą (reusability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E55-2B05-42B2-B0BE-667CEFC749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piralės 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</a:rPr>
              <a:t>tipo GC 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odel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71840" y="2471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93432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26C-F7CE-43BC-AE38-0F45496852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Spiralės tipo GC trūkumai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iekada nesibaigiantys projek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adangi "spiralės" modeliui būdingas nuolatinis tų pačių programos funkcijų peržiūrėjimas ir tobulinimas, o tobulinimui ribų nėra, atsiranda rizika, jog projektas niekada nesibaigs, jei jam nenustatytas termi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•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ežinomi kaštai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ugeliu atvejų neaišku, kiek iteracijų reikės praeiti, kol projektas bus galutinai įgyvendintas, todėl praktiškai neįmanoma apskaičiuoti jo trukmės ir kašt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 S. Gudas  DB ir 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D3C-EB13-4CD4-8CC6-9968533DF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Saulius</cp:lastModifiedBy>
  <cp:lastPrinted>2002-08-27T15:34:20Z</cp:lastPrinted>
  <dcterms:modified xsi:type="dcterms:W3CDTF">2002-09-18T06:01:05Z</dcterms:modified>
  <cp:revision>81</cp:revision>
  <dc:subject/>
  <dc:title>Informacinės sistemos gamybos valdymui  IT apibrėžimas ir klasifikacija</dc:title>
</cp:coreProperties>
</file>