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7A3-9225-4D23-8B21-750B999E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31B-E887-41B6-AB25-0B432D31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7F5-4BE6-4DAF-BF8A-E8A2E310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803-D2BB-468C-BD72-608F77F2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61AF-75F7-4815-999A-B195CA2E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4651-28F2-406B-B01D-C4A85810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8270-8F33-4B6F-A99F-3E969F47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9A05-52F5-44C9-8F7B-C3A709C6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2483-FD30-44FC-891A-8818FF3D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66A2-76B0-4A43-BFF5-00048DE2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304E-B233-449B-8C54-29323EAF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C08-03A5-4485-B79D-9700342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3379-E237-4B0E-ADB6-DABFBE2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6D1E-6468-437B-8329-4D19E777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6A8E-B96A-44D7-A249-A9E1D6DD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1AA1-F86D-45E0-97E0-6C111EE2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632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37400" y="175248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5524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632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37400" y="3902040"/>
            <a:ext cx="265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519A-ED26-4739-9B17-97F20FDB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767-D1DC-4AFD-AD27-EFBB7DFB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9C1-0358-4AAD-A025-CD666268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E0F-BA25-4A7F-81AA-31260E21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5240" y="380520"/>
            <a:ext cx="825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273-25F1-46E9-9B83-3FD403D2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3B5-40D8-4A51-8E74-DD3FBD5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85600" y="390204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CD1-D417-40E6-85F4-D1C0C6D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5600" y="1752480"/>
            <a:ext cx="4028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3902040"/>
            <a:ext cx="8255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3AE-9FAF-4671-A0C8-B326B8CA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0240" y="228600"/>
            <a:ext cx="892656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00160" y="1600200"/>
            <a:ext cx="831060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27944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98720" y="610704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740040" y="610704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454520" y="610704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DF6E-59C9-4CF5-AC1E-0168BC0EB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73120" y="201600"/>
            <a:ext cx="90979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27944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46200" y="4130640"/>
            <a:ext cx="11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27944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836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17432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816360" y="60958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531200" y="60958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43FA-2A05-4887-8220-6A03C9A17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vakarai.lt/klientam/tinklai/teorija/111.htm" TargetMode="External"/><Relationship Id="rId2" Type="http://schemas.openxmlformats.org/officeDocument/2006/relationships/hyperlink" Target="http://www.vakarai.lt/klientam/tinklai/teorija/111.htm" TargetMode="External"/><Relationship Id="rId3" Type="http://schemas.openxmlformats.org/officeDocument/2006/relationships/hyperlink" Target="http://www.vakarai.lt/klientam/tinklai/teorija/112.htm" TargetMode="External"/><Relationship Id="rId4" Type="http://schemas.openxmlformats.org/officeDocument/2006/relationships/hyperlink" Target="http://www.vakarai.lt/klientam/tinklai/teorija/11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e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3716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DUOMEN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 BAZ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S IR </a:t>
            </a: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NFORMACIJOS SISTEMOS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1 </a:t>
            </a:r>
            <a:r>
              <a:rPr b="0" lang="lt-LT" sz="28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askait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5040000"/>
            <a:ext cx="8153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oc. Saulius Gu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82551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n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</a:rPr>
              <a:t>žinerijos</a:t>
            </a: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lt-LT" sz="28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66840" y="1481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7760" y="2133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1523880"/>
          <a:ext cx="7543800" cy="459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75438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D15-7F7E-4609-BD22-131A8ADD8F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8400" y="294840"/>
            <a:ext cx="84628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jos sistemų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inžiner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ąsajos su kitomis mokslo sritimi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2680" y="1828440"/>
            <a:ext cx="8420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niu požiūriu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chnical approaches)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vystymuisi turi įtakos informatika (computer science), operacijų tyrimas, vadybos moks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gsenos požiūr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havioral approaches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grinėja IS kūrimo ir IS eksploatavimo (palaikymo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us. Svarbiausios problemos yra strateginis veiklos integravimas,  veiklos kompiuterizavimo IS projektavimas ir realizavimas, kompiuterizuoti vadybos procesai. Šių veiklos sričių modelių kompiuterizavimas  grindžiamas techninio požiūrio modeliais ir metodai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rečias požiūris į IS vietą organizacijos veikloje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ociotechnologinis požiūris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328-762E-4EED-BB0C-36CA1BBD37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55600" y="380880"/>
            <a:ext cx="8255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rganizacijos dal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ų sąsaja su IT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5600" y="1371600"/>
            <a:ext cx="825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5 pag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dinė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os dal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lemi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j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ą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ormuo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akymus į aplinkos poveiki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uktūra ir bendroji kultū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ganizacijos strategij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ybos ir biznio (verslo) proces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dividai ir jų rolė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formacinė technologija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57800" y="3886200"/>
            <a:ext cx="4038480" cy="2133720"/>
            <a:chOff x="5257800" y="3886200"/>
            <a:chExt cx="4038480" cy="2133720"/>
          </a:xfrm>
        </p:grpSpPr>
        <p:sp>
          <p:nvSpPr>
            <p:cNvPr id="119" name=""/>
            <p:cNvSpPr/>
            <p:nvPr/>
          </p:nvSpPr>
          <p:spPr>
            <a:xfrm>
              <a:off x="5257800" y="4739760"/>
              <a:ext cx="384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7192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16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65400" y="4739760"/>
              <a:ext cx="57672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2280" y="409932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22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8832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4248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04040" y="4099320"/>
              <a:ext cx="0" cy="64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449680" y="3886200"/>
              <a:ext cx="34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968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038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764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11800" y="3886200"/>
              <a:ext cx="0" cy="85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2280" y="4953240"/>
              <a:ext cx="76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88320" y="4953240"/>
              <a:ext cx="57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2480" y="4953240"/>
              <a:ext cx="5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5593320"/>
              <a:ext cx="403848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96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38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4988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04040" y="5166360"/>
              <a:ext cx="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2CB-32D3-48FB-AE3C-22CEC9AF9F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T apibūdin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560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ur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ąj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macin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ė dalis: techninė įranga, DB valdymo sistema, kompiuterinis tinklas, sisteminė programinė įran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kit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engin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čiąja prasme I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organizacijos techninė, komunikac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r programin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įrang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uri atitikti veiklos sričių poreikius. Atsiradus naujoms veiklos problemoms ar pasikeitus veiklos pobūdžiui, seni IT sprendimai turi būti modifiku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CCD-43B7-40D6-9075-4D04684866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55600" y="380880"/>
            <a:ext cx="825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IT dal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55600" y="1752480"/>
            <a:ext cx="8255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 metu organizacijos IT skirstoma į dal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eginės sistemos,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rtos pirmavimui konkurencinėje kovoj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latinio veiklos tobulinimo darb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ų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so reinžiner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PR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Verslo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yst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sist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 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ktroni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rcij</a:t>
            </a:r>
            <a:r>
              <a:rPr b="0" i="1" lang="lt-LT" sz="2400" spc="-1" strike="noStrike">
                <a:solidFill>
                  <a:srgbClr val="000000"/>
                </a:solidFill>
                <a:latin typeface="Times New Roman"/>
              </a:rPr>
              <a:t>os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yra viena iš organizacijos IT sudedamųjų dalių. Efektyvus veiklos sričių tvarkymas gali būti tik įdiegus atitinkamos paskirtie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0E6-FC3E-4182-A336-00F514E087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1998720"/>
            <a:ext cx="891540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S KOMPONENT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Į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– tai veiklos problemos, duomenys, nurodymai, galimybė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pdorojim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ai programos, įranga (technika), žmonės, D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šeig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ataskaitos, grafikai, skaičiavimo rezultatai, sprendim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ldym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yvauja sprendimą priimantys asmen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90720" y="1219320"/>
            <a:ext cx="8048160" cy="2412360"/>
            <a:chOff x="990720" y="1219320"/>
            <a:chExt cx="8048160" cy="2412360"/>
          </a:xfrm>
        </p:grpSpPr>
        <p:sp>
          <p:nvSpPr>
            <p:cNvPr id="147" name=""/>
            <p:cNvSpPr/>
            <p:nvPr/>
          </p:nvSpPr>
          <p:spPr>
            <a:xfrm>
              <a:off x="990720" y="1219320"/>
              <a:ext cx="10058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į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0240" y="2942640"/>
              <a:ext cx="1508760" cy="68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valdy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81400" y="1219320"/>
              <a:ext cx="125748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išei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7320" y="1219320"/>
              <a:ext cx="2012040" cy="68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20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apdoroji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96560" y="1563840"/>
              <a:ext cx="17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9360" y="1563840"/>
              <a:ext cx="20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769000" y="1908720"/>
              <a:ext cx="251532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014800" y="1908720"/>
              <a:ext cx="0" cy="10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493280" y="1908360"/>
              <a:ext cx="2766600" cy="137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138480" y="3808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s yra IS funkciniu požiūri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FF2-4BC7-44B9-8E84-1CFC0D7B69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5240" y="380880"/>
            <a:ext cx="8255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37160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a tendenc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ertinant kainos efektyvumo p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ai vis labiau pirmaus prieš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aus darb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is labiau dominuos draugiški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gui interfeisai (kalba, vaizdas ir k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ugojimo įrengin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alpa labai iša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augyk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ehouse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Jose bus saugoja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 visi veiklos duomeny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erabait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bai išaugs daugialypių ter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multimedijos) panaudoj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us diegia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ntelektualios siste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yrau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objektiškai orientuotas (OO) programavima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8.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tys kompiuteriai bus dar labiau kompaktišk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AD3-565B-4C9E-BB60-574D364617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3160" y="0"/>
            <a:ext cx="8255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lt-LT" sz="3600" spc="-1" strike="noStrike">
                <a:solidFill>
                  <a:srgbClr val="221304"/>
                </a:solidFill>
                <a:latin typeface="Times New Roman"/>
              </a:rPr>
              <a:t>Naujų</a:t>
            </a:r>
            <a:r>
              <a:rPr b="0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IT vystymosi kryptys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3160" y="1447920"/>
            <a:ext cx="8528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tosi skaičiavim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ompiuterių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kle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pagrįstos sistemos, kurių technologinis pagrindas -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klien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/server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o sistemo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 Tai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raujant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chitekt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r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 labiau įsig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ernešami komp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uteria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bas namuose su ko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uteriu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– perspektyvi sri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rneto reikš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naudojimas išaugs. Bus sukurtas informacijos supergreitkel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ranetas taps vyraujančia tinklo sistema organizacij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stysis elektroninė komercija iš es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keisdam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organizacijų veiklos (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znio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ob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telektua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programiniai agentai (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are agent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naršys duomen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bazes taupydami m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laik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821-781E-4288-BD2C-3F7F1F92C8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ai tinkla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r informaci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jos sistemo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us IS vaidmuo organizacijos veikloje yra paaiškinamas išaugusiu skaičiavimo technikos (techninės ir programinės įrangų) galingum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 kainos mažėjim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iuterinių sistemų pajėguma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 išaug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siradus kompiuterių tinklams.  Jie susiejo skirtingas darbo vietas, įgalino bendrai naudotis vieninga duomenų baze, paskirstyti informaciją pagal darbo vietų poreiki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 turėjo įtakos organizacijų struktūrų pokyčiams, veiklos formoms ir metodam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1AA-5834-4606-B1D2-DAC7A59D48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mpiuterinių tinklų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ompiuterinių tinklų topologijų tip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/>
              </a:rPr>
              <a:t>Bendros magistral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/>
              </a:rPr>
              <a:t> (Bus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/>
              </a:rPr>
              <a:t>Žvaigždės</a:t>
            </a:r>
            <a:r>
              <a:rPr b="0" lang="en-GB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/>
              </a:rPr>
              <a:t> (Star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edo (Ring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 (Tree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s su kiekvienu (Mesh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16B-CD7C-4572-883D-B40AB3D818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4160" y="580680"/>
            <a:ext cx="935676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nformac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sistema (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enka, apdoroja, saugo, analizuoja ir paskirsto informaciją, turinčią konkrečią paskirt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organizacijos veikl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a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oroj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uomenis) ir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suformuoja išeig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askaitas, 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uvestin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iuos nusiunčia vartotojui arba kitai sistem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c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jo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os veikia tam tikroje aplinkoj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organizacinėje aplinkoje, technologinėje aplinko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nformacijos sistemos yra informacinės technologijos, įdiegtos organizacijoje, dalis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DB59-B7B8-4A8F-A04C-7E411C4257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agistral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0524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111a" descr=""/>
          <p:cNvPicPr/>
          <p:nvPr/>
        </p:nvPicPr>
        <p:blipFill>
          <a:blip r:embed="rId1"/>
          <a:stretch/>
        </p:blipFill>
        <p:spPr>
          <a:xfrm>
            <a:off x="2063880" y="1371600"/>
            <a:ext cx="5448240" cy="1341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111b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3467160" cy="3200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111c" descr=""/>
          <p:cNvPicPr/>
          <p:nvPr/>
        </p:nvPicPr>
        <p:blipFill>
          <a:blip r:embed="rId3"/>
          <a:stretch/>
        </p:blipFill>
        <p:spPr>
          <a:xfrm>
            <a:off x="5410080" y="2895480"/>
            <a:ext cx="3549600" cy="32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F55-86E4-4C5C-93DE-4407BAF8C3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vaigždės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38560" y="2676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112a" descr="star topology picture"/>
          <p:cNvPicPr/>
          <p:nvPr/>
        </p:nvPicPr>
        <p:blipFill>
          <a:blip r:embed="rId1"/>
          <a:stretch/>
        </p:blipFill>
        <p:spPr>
          <a:xfrm>
            <a:off x="1238400" y="1752480"/>
            <a:ext cx="3714480" cy="3429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21120" y="2476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112b" descr=""/>
          <p:cNvPicPr/>
          <p:nvPr/>
        </p:nvPicPr>
        <p:blipFill>
          <a:blip r:embed="rId2"/>
          <a:stretch/>
        </p:blipFill>
        <p:spPr>
          <a:xfrm>
            <a:off x="5448240" y="1600200"/>
            <a:ext cx="388008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5CD-59A4-4B6F-BBCA-6D2EC25023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Žiedo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06880" y="2724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90920" y="1828800"/>
          <a:ext cx="4724280" cy="42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828800"/>
                    <a:ext cx="472428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4C2-70E7-4592-B193-2168FEAC54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Mesh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topolog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86360" y="27097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989440" y="2133720"/>
          <a:ext cx="4381200" cy="39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2133720"/>
                    <a:ext cx="438120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BDB-B631-4BA2-A712-4F907E0205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221304"/>
                </a:solidFill>
                <a:latin typeface="Times New Roman"/>
              </a:rPr>
              <a:t>IS klasifikavima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S gali būti klasifikuojama pag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Organizacinės struktūros lygme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unkcines veiklos sr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mpiuterizuojamo proceso (pagalbos) pobūd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stemos architektūr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eiklos, kuri kompiuterizuojama, valdymo lygmen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255-DC1B-4D36-88D9-0787E8F833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8040" y="685440"/>
            <a:ext cx="8057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IS klasifikacija pagal organizacinės struktūros lygmenis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dalin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dažniausiai būna skirta tik konkrečią funkciją atliekančiam padaliniui, pvz., žmogiškųjų išteklių valdymo IS skirta personalo skyriu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ganizacij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 Šio tipo IS skirta kelių arba visų organizacijos padalinių funkcijų kompiuterizavim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organizacinės I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Tai sudėtingos IS, kompiuterizuojanti kelių organizacijų veiklos procesus ar funkcijas, pvz.: pasaulinė aviabilietų rezervavimo sistem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571-74D7-40CA-8998-BA0095C789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veiklos 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f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unkcines sriti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255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skaitos I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apskaitos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ans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finansų valdym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myb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gamybos procesus, jų valdymą ir kontrol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rketing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kompiuterizuoja veiklos marketingo proces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sonal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kompiuterizuoja organizacijos personalo valdymo funkcij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9AA-3F46-4396-B20F-422E4521D9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Klasifikacija pagal pagalbos pob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ū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240" y="144792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PS – transakcij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vienai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nkcin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veiklos s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či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S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nformacijos sistema (Management I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AS - raš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iso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S - grupinio darbo informacijos sistemos (group suport system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SS - sprendimo pr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imo 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IS – vadovo IS (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xecutive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SS – intelektualios 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kspertin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 sistemos (ES), neuronin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tink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 (AN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6F7-48E2-4901-AF18-9FC27FFC48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IS klasifikacija pagal architektūrą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j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ka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čiavi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maši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veikiančios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infram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istem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ski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ersonalin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kompiuteri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pagrindu sudaryto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kirstytos informacijos sistemo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stributed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282-FC38-4938-82AA-BDD5CBE1E9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Klasifikacija pagal veiklos valdymo lygmenį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yv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us valdy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IS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arba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amybos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peration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dybo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agerial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rateginės I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ategic I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C45-5DB5-4275-912C-4179DCF720E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as yra informaci</a:t>
            </a:r>
            <a:r>
              <a:rPr b="1" lang="en-US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jos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a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aprastai organizacijos informacijos sistema (darb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su informacija ir priemonių visuma) yra dalinai kompiuterizuota, skirstoma į ne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 ir kompiuterizuo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dalį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stumo dėlei, mes sąvoką “kompiuterizuota informacijos sistema” toliau pakeisime terminu “informacijos sistema (IS)”, kadangi nekompiuterizuotų darbų su informacija nenagrinės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F1E-F5AC-46A9-8675-68CA578F0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5240" y="704880"/>
            <a:ext cx="8255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</a:rPr>
              <a:t>jos</a:t>
            </a:r>
            <a:r>
              <a:rPr b="0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sistemos sudėtis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5240" y="1371240"/>
            <a:ext cx="8255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rindiniai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kiekvieno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jo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sistemos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mponentai yr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chninė įrang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įrenginių rinkinys tokių kaip procesorius, monitorius, klaviatūra ir spausdintuvas, kurie priima duomenis, apdoroja ir išveda j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graminė įrang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programų rinkinys, kuris įgalina techninę įrangą apdoroti duomen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omenų bazė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susijusių failų, lentelių, ryšių ir t.t. rinkinys, kuriame saugomi duomenys ir asociacijos tarp j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nkla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ra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jų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, kuri leidžia resursų pasidalijimą tarp skirtingų kompiuteri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cedūro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instrukcijų rinkinys apie tai, kaip apjungti aukščiau išvardintus komponentus tam, kad būtų galima apdoroti informaciją ir sugeneruoti pageidaujamą rezultat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Žmonės</a:t>
            </a:r>
            <a:r>
              <a:rPr b="0" lang="lt-L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a tokie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rganizacijos darbuotoja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e naudojasi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ba naudoja j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ultatus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, taip pat informatikos specialistai, kurie užtikrina IS funkcionavim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D95-9759-43DF-AE67-B12C5A819B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20840" y="304920"/>
            <a:ext cx="784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ės sistemos </a:t>
            </a:r>
            <a:r>
              <a:rPr b="1" lang="lt-LT" sz="2600" spc="-1" strike="noStrike">
                <a:solidFill>
                  <a:srgbClr val="221304"/>
                </a:solidFill>
                <a:latin typeface="Times New Roman"/>
              </a:rPr>
              <a:t>sudėtis ir sąsaja su organizacija</a:t>
            </a:r>
            <a:r>
              <a:rPr b="0" lang="en-GB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600280" y="2038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18592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1523880"/>
          <a:ext cx="8585280" cy="45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523880"/>
                    <a:ext cx="8585280" cy="45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CE1-4F38-4638-A7BE-F3343B92DC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</a:t>
            </a:r>
            <a:r>
              <a:rPr b="1" lang="lt-LT" sz="36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 PROGRAMINĖS ĮRANGOS TIPAI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24120" y="2166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143000"/>
          <a:ext cx="883260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88326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66C-AFA2-4F35-B956-9355B16597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 (1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81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 klasifikacija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 y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arptautinės mokslininkų grupės darbo rezult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T srities pavadinimas,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lt-LT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os įvert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Adekvačios biznio procesui IT infrastruktūros sukūrimas.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9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Biznio proceso perprojektavimo kompiuterizavimas                      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7,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Paskirstytų IS kūrimas ir tvarkymas.                                                       7,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Organizacijos informacinės architektūros kūrimas ir realizavimas.        7,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Komunikacinių tinklų planavimas ir tvarkymas.                                     7,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IS kūrimo efektyvumo didinimas.                                                            7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Duomenų šaltinio tikslinio naudojimo užtikrinimas.                               7,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IS personalo kvalifikacijos kėlimas.                                                         7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IS organizavimas atsižvelgiant į organizacijos struktūros vystymąsi.     7,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IS strateginio planavimo įvertinimas.                                                     6,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82E-0876-46AC-A66D-81C4027E86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Organizacijos veiklos efektyvumui svarbios informacinės technologijos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 (2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A.Kolektyvinio darbo sistemų kūrimas ir valdymas.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B.IS efektyvumo ir našumo matavimas.                                                   6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Supratimo apie IS vaidmenį ir įtaką organizacijai didinimas.                 6,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Organizacijos personalo apmokymo kompiuterizavimas.                       6,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Esamos IS valdymas.                                                                                6,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Galutiniam vartotojui skirtų IS kūrimas ir tvarkymas.                             6,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IS panaudojimas konkurenciniam pirmavimui.                                        6,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Atvirų sistemų planavimas ir integravimas (skirtingų IS integravimas)  6,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Elektroninių duomenų mainų (EDI) kūrimas ir tvarkymas.                     5,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Atskirų informacinių paslaugų nuomavimas (outsourcing).                     5,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67E-94A9-4DE4-BD13-60497C2F32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3160" y="456840"/>
            <a:ext cx="808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nformacinių technologijų </a:t>
            </a:r>
            <a:r>
              <a:rPr b="1" lang="lt-LT" sz="3200" spc="-1" strike="noStrike">
                <a:solidFill>
                  <a:srgbClr val="221304"/>
                </a:solidFill>
                <a:latin typeface="Times New Roman"/>
              </a:rPr>
              <a:t>įtaka veikla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38040" y="15235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rim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liktas 1997 metų pabaigoje, nustat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kia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rbiausias IT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įtako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zacija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r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Našumo didinimas (improving productivit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Savikainos mažinimas (reducing cos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Priimamų sprendimų gerinimas (improving decision making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Ryšio su vartotojais tobulinimas (enhancing customer relation­ship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Naujų s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inės paskirties IS kūrimas (developing new strategic application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847-5521-4DD7-843F-67F545FBA1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240" y="1676160"/>
            <a:ext cx="8255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zav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dyba ir kontrolė globalioje rink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 pasaulio rink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darbo grupė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nės produkto paskirstymo sist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EFE-A42C-4B21-92AD-94C62D13B1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5240" y="1371600"/>
            <a:ext cx="8255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ustrinės ekonomik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mis ir informacija grindžiama ekonom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ktyv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ji produktai ir paslau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nios: pagrindinis gamybos ir strateginis tu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kurencija, kurioje svarbus laiko faktorius (time-based compet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mpesnis produkto gyvavimo lai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ulentinė apl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tas darbuotojų žinių bagaž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9ED-FA8F-40EA-961F-2588663A2F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2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Kodėl reikia IS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240" y="1752480"/>
            <a:ext cx="825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iuolaikinio biznio aplinkos savybės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 kurios reikalauja kompiuterizuotų I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iklos pokyči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cinės struktūros plokštėjimas (flatt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aldymo d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entralizav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slanku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 (flexi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etumas nuo geografinės padėties (location independ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mos transakcijų i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vimo ka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uotojo teisių didėjimas (empower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ektyvinis darbas ir grupinis dar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S. Gud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985-8EFD-49D3-AC36-4FCEA24ED0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47:31Z</dcterms:created>
  <dc:creator>Rasa</dc:creator>
  <dc:description/>
  <dc:language>en-US</dc:language>
  <cp:lastModifiedBy>isd</cp:lastModifiedBy>
  <cp:lastPrinted>2002-08-27T15:34:20Z</cp:lastPrinted>
  <dcterms:modified xsi:type="dcterms:W3CDTF">2002-09-11T14:42:15Z</dcterms:modified>
  <cp:revision>86</cp:revision>
  <dc:subject/>
  <dc:title>Informacinės sistemos gamybos valdymui  IT apibrėžimas ir klasifikacija</dc:title>
</cp:coreProperties>
</file>