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1AB2-F7BF-4961-8120-F2ADE3B3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C82C-2FBA-46CF-95D8-BD734753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F163-7876-40AE-A006-B6BB2281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6C48-ED89-4FA8-B890-916F336E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AD8-5EA4-4E9A-902F-1E14243A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FFC-2E09-46C7-BA97-C7388B54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8C74-15A8-4945-AF88-76D367D3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B62B-E6C4-4D44-91D5-0063E87B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BDD1-6FF9-4BB9-B641-9C1CD302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AF9-9E21-493A-85E1-1C56AF7F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B3D-AE6B-4FD7-A123-63EA5036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539D-1D83-4C79-ADAA-937B78E9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F054-827A-41A1-9CE0-BC54EE9279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tp://ftp.isi.edu/in-notes/rfc2616.txt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33526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TRANSMISSION CONTROL PROTOCO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( RFC 79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faqs.org/rfcs/rfc793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ile174298_left_right1" descr="Left-right"/>
          <p:cNvPicPr/>
          <p:nvPr/>
        </p:nvPicPr>
        <p:blipFill>
          <a:blip r:embed="rId1"/>
          <a:stretch/>
        </p:blipFill>
        <p:spPr>
          <a:xfrm>
            <a:off x="6553080" y="304920"/>
            <a:ext cx="2590920" cy="571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5CA9-8F91-4457-831B-566F20AA5C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tankin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ekiant leisti daugeliui procesų viename hoste naudotis TCP komunikacijos įrankiais vienu metu, TCP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ibę porto adres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iekviename ho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or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umeris, sujungtas su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hos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dresu (iš internetinio komunikacijų lygmens) sudar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ke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ketų po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ienareikšmiškai apibrėžia kiekvieną susijung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ketas vienu metu gali būti naudoj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augely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sijungi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BFE0-356D-4D3E-99AC-4C75A4A4FB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CP inicializuoja ir palaiko kiekvienam duomenų srautui tam tikrą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būvio informac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ke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ilės numer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ngų dydžia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eš pradedant procesams komunikuoti TCP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įkur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sijungimą (inicializacija būvio kiekvienoje pusė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ms baigus komunikacijas, susijungimas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uždaro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resursai atlaisvinami kiti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dangi susijungimai sudarom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patikimo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erpėj, susijungimai pradedami rankų paspaudimu, naudojant eilės numerius – siekiama išvengti klaidingų inicializacij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EF1D-BF9D-409E-B6B1-B838AA2871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Unicode MS"/>
              </a:rPr>
              <a:t>P</a:t>
            </a: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irmumas ir Sau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vartotojai opcijomis gali nurodyti saugą ir pirmumą susijusį su komunikac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Kai šios reikšmės nenurodomos, naudojamos reikšmės pagal nutylėj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9220-D10F-4EDC-BFB2-17CF12EAAF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eiksmų mode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oces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erduoda duomen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viesd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CP ir perduodami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duomenų bufer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ip argumen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pakuoja duomenis iš šių buferių į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ir kvieč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terne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odulį perdavimui kiekvieno segmento gavėjo TC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Gav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alpina duomenis iš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artoto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uferį ir informuoja vartotoj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 segmentus įtrauk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ontrol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formaciją, kuri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ikimam, eilišk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persiuntimui užtikrin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odulis užtikrin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sąsają su lokaliu tinkl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BDF4-54AA-4D73-A488-7C7E75D8E2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eiksmai ho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peraci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istemos modul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kreipiasi į jį kaip į failų siste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kvies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i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operacinės sistemos funkcijas, pavyzdžiui kurios valdo duomenų struktū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aktiškai sąsają su tinklu kontroli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įrenginio draiver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odul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esiogiai nesikreipia į įrenginio draiverį, jis kviečia internet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atagram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rotokolą, kuris kviečia įrenginio draiver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FF73-026A-4B72-B125-8608D1B32E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Patikima komun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erdavimai tampa patikimais naudojant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mer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nseptualiai kiekvienas baitas turi savo eilės numer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rmojo baito segmente eilės numeris yra perduodamas kartu su segmentu ir yra vadin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mer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 turi i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o numer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e rodo eilės numerį sekančio laukiamo duomenų baito atbulinėje perdavimo krypty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37D-56D6-48FD-80B6-6901E35777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kartotinas persiunt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Kai 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CP </a:t>
            </a:r>
            <a:r>
              <a:rPr b="1" i="1" lang="lt-LT" sz="2800" spc="-1" strike="noStrike">
                <a:solidFill>
                  <a:srgbClr val="000000"/>
                </a:solidFill>
                <a:latin typeface="Arial Unicode MS"/>
              </a:rPr>
              <a:t>perduoda segmentą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, kartu jo kopija įrašoma į </a:t>
            </a:r>
            <a:r>
              <a:rPr b="1" lang="lt-LT" sz="2800" spc="-1" strike="noStrike">
                <a:solidFill>
                  <a:srgbClr val="000000"/>
                </a:solidFill>
                <a:latin typeface="Arial Unicode MS"/>
              </a:rPr>
              <a:t>pakartotino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perdavimo eilę ir startuojamas laikrod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Gavus šio persiuntimo patvirtinimą, segmentas yra išmet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Jei patvirtinimas </a:t>
            </a:r>
            <a:r>
              <a:rPr b="1" lang="lt-LT" sz="2800" spc="-1" strike="noStrike">
                <a:solidFill>
                  <a:srgbClr val="000000"/>
                </a:solidFill>
                <a:latin typeface="Arial Unicode MS"/>
              </a:rPr>
              <a:t>negaunamas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ir praeina užduotas laiko intervalas, segmento siuntimas pakart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2986-2212-4C97-9837-B0DF78D69E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Susijung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oketų po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vienareikšmiškai apibūdina susijungimą tarp dviejų galinių tašk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okal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oketas gali dalyvau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augelyj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usijungimų su skirtingais išoriniais soket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as gali būti naudojamas duomenų perdavimu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biem krypti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CP gali surišti procesą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et kuriu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oketu. Tačiau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gerai-žinom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soketus TCP susieja tik su atitinkamais procesais(šie “valdo” tam tikrus portu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erai-žinomi soketai yra įprastas mechanizmas išankstiniam susiejimui soketo adreso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tandartin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vis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A64-6ED7-4348-AB97-2F871DD04A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o var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inicijuojamas kreipiniu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argumentais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okalus portas, išorinis soke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CP grąžin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ump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lokalų susijung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ard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uo vartotojas gali naudotis sekančiuose veiksm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a apie susijungimą(tam tikra duomenų struktūra) laiko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CB blok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mission Control Block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okaliu susijungimo vardu gali būti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orod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C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si su šiuo susijungim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06C5-E75F-4063-8A21-57B8639A84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syvus OP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OPEN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kreipinys apsprendžia ar susijungimas bus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aktyvus ar pasyvu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Pasyvi OPEN užklausa – procesas nori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riimt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ateinančias susijungimo užklausas, o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e inicijuot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susijungimą (žada teikti servis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Procesas, prašantis pasyvaus OPEN priims susijungimo užklausas iš kito h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Šiuo atveju išorinis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oketa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nurodomas visais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uliai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, kas rodo nenusakytą soket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enusakyt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išoriniai soketai yra leidžiami tik pasyviems O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15F-569C-4AD5-8241-11A5751E19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iks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CP 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protokolas skiriamas užtikrinti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atikimą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bendravimą tarp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ų komunikaciniuose tinklu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CP yra į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usijungimu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orientuotas protokolas, suprojektuotas taikymui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sluoksninėje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protokolų hierarchijoje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tarptinklini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aplikacij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alaikymu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CP užtikrina tarp-procesinį bendravimą tarp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poros proces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, besisukančių tam tikruose hostuose, kurie yra skirtingi, bet komunikaciniais tinklais surišti kompiuter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F2B2-81BB-407A-A60E-3F65C20EFB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i gali išduoti pasyvų OPEN ir laukti atitinkam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ktyvių OPEN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teinančių iš kitų procesų, jiems atsiradus TCP informuoja juos apie susijung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sidary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u procesai, kurie išdavė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ktyvius OPE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iens kitam tuo pačiu metu, bus teisingai sujung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rmu atveju susijungimas galimas su bet kuriuo išoriniu soketu, kuris yra nurodęs šį lokalų soketą, antru atveju susijungimas gali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ik su tam tikru soke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9C61-5BAA-4BF7-ACFF-3C28C5BC6B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o procedū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o procedūroje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YN vėliavėl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r jos metu vyksta apsikeitimas trimis pranešim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–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ijų pus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ankų paspaudimo procedū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inicijuoj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einanč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egmento su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ėliavėle su laukiančiu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CB įėji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ateinančio segment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ketas sutampa su laukia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nusakytas tiksliai arba bet koks), susijungi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icijuoja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sukuriamas po to k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ilės numeriai yra susinchronizuojami abiem krypt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2B32-3926-47B1-B8B1-7287511D43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Duomenų perd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Duomenys perduodami susijungimu – tai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baitų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seka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Jei siunčiamus duomenis reika tuoj pat perduoti gavėjui, tai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SEND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f-joje naudojama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vėliavėlė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Siunčiantis TCP gali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rinkti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iš vartotojo ateinančius duomenis,(iš buferio, esančio vartotojo/TCP sąsajoj),  dalinti juos segmentais ir siųsti juos savo nuožiūra, arba atėjus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vėliavėlei. Push nesiriša si segmento riba, push tik skelbia , kad reikia išsiųsti visus neišsiųstus duomen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B24-4D9F-43F0-A310-13B361F0E2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Unicode MS"/>
              </a:rPr>
              <a:t>P</a:t>
            </a: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irmumas ir sau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TCP naudoja interneto protokolo serviso tipas lauką bei saugos opcijas nusakydamas pirmenybę bei saugą atžvilgiu susijung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Ne visi TCP moduliai funkcionuoja saugioje daugelio lygių aplinkoje (galimas ir vienas saugos lygi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TCP moduliai, kurie operuoja daugelio lygių saugos aplinkoje, turi tiksliai atžymėti išeinančius segmentus pirmumo, saugos indikatori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Tokie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TCP modul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ai turi teikti aukštesnio lygio protokolams nusakyti norimą saugos lygį, pirmumo lygį susijungimo atžvilgi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9DDE-5327-4E50-AD80-56E808A709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P galvu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ės lauk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mma38" descr="Artwork for comma38"/>
          <p:cNvPicPr/>
          <p:nvPr/>
        </p:nvPicPr>
        <p:blipFill>
          <a:blip r:embed="rId1"/>
          <a:stretch/>
        </p:blipFill>
        <p:spPr>
          <a:xfrm>
            <a:off x="838080" y="1670040"/>
            <a:ext cx="7239240" cy="45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7E67-FDBD-4B06-B0C5-0745FCC0869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ilės numer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32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pirmo duomenų baito šiame segmente  numer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segmente įjungt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Y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ėliavėlė, tai eilės numeris rodo pradinę eilės numerio reikšmę.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itial sequence numbe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 pirmas duomenų baitas turės eilės N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N+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tvirtinimo numer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32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įjungt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CK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ntrolės bitai šis laukas rodo, koks laukiamas sekantis eilės NR iš siuntėjo pus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susijungimas sudarytas, jis visad yra siunči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ų poslink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4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2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 žodžių sudar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vutę. Rodo duomenų pradži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zervuot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. Rezervuota vėlesnėm reikmėm. Turi būti nul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352-FA52-4CE8-B9AF-2F7CE6B073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trolės bitai (6 bita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URG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Nuoroda į svarbius duomen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ACK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Patvirtinimo vėliavėlė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PSH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Push f-jos vėliavėlė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RST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Perkrauti(reset) jungtį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SYN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Sinchronizuoti eilės numerius</a:t>
            </a:r>
            <a:r>
              <a:rPr b="0" lang="lt-LT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FIN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nebėra duomenų iš siuntė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FECA-A328-4A4F-BADE-83F111DA98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angas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1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kį baitų kiekį pradedant nuo rodomu patvirtinimo eilės Nr šio segmento siuntėjas nusiteikęs priim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ntrolinė su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1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galvutės bei duomenų kontrolinė sum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segmente gaunasi nelyginis baitų kiekis , jis papildomas nuliais iki lyginio kiekio kontrolinės sumos skaičiavimui, šis papildinys nėra perduodamas, o kontrolinės sumos laukas skaičiuojant yra keičiamas nuli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uoroda į svarbius duomen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16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. Tai poslinkio reikšmė, atskaitant nuo segmento eilės NR, rodanti į svarbius duomenis. Būtina URG vėliavėlė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pc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li užimti erdvę TCP galvutės gale. Visos opcijos įtraukiamos į kontrolinę sumą. Jos užima keletą baitų, baigiasi  nulių lauku – “header padd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AD2-78EC-4ABE-81F2-5A04D008658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ilės numer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s TCP persiunčiamas baitas turi eilės N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s baitas turi būti patvirtin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 baito patvirtinimas žymi, kad yra patvirtintas visų baitų įskaitant ir X gavi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ukas skirtas eilės numeriams yra baigtinis.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**32 - 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. Visa aritmetika susijusi su eilės numeriais vykdom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**3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311F-2212-486A-A3AC-436F5AD1EDF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Tikrinimai, susiję su eilės numeria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statoma, a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umeris yra surištas su išsiųstų bet da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patvirtin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aitų eilės numeri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statoma, ar jau patvirtin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isų segmento bai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eilės numeriai – segmentas šalinamas iš pakartotino perdavimo eilė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statoma, ar įeinantis segmentas turi eilės numerius, kurie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aukti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 ar segmentas tilps į priėmimo langą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priėmimo langas lygus 0, gali priimti tik ACK segmentus ir siųsti duomenis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ors ir 0 langas, tačiau turi apdoroti ateinanč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RS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G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egmen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FAD5-1AAA-4812-987F-9C330AD29D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egz-darbas-protokolai_html_m7dde9bf8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5229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6680" y="60199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/OSI modelis ir TCP/IP protokolų pake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C7E-54C9-46E5-A737-7044790742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parink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kuriant naują susijungimą yra panaudojamas ISN generatorius, kuris generuoja naują ISN numer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eneratorius yra surištas su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2 bi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 laikrodžiu, kurio reikšmė kinta k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un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N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klas kartojasi k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55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l. Max segmento gyvavimo laikas paprastai būna &lt;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5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l. Skaitoma, kad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N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us unikalū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s susijungimas turi siuntimo eilės NR ir priėmimo eilės NR. Siuntim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 yra parenkamas, o priėmimo pradinis eilės Nr sužinomas užmezgant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A9CD-3893-40FB-B32A-47C9506D295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sinchron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sijungimo sukūrimui ir jo inicializacijai du TCP turi susinchronizuoti savus IS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atliekama pasikeičiant susijungimo įkūrimo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segmenta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kurie perduodami su sinchronizacijos bitu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 atitinkamai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gi reikalingas mechanizmas ISN parinkimui bei ISN reikšmių apsikeitimui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0061-6966-492B-BC6C-6A0402B0FE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nchronizacijo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nchronizacija reikalauja, kad kiekviena pusė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siųs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avo ISN  ir gautų j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virtin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š kitos pusės.  Kiekviena pusė privalo gauti kitos pusės ISN ir patvirtinti jo gav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A --&gt; B  SYN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no eilės  numeris y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A &lt;-- B  ACK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ūsų eilės numeris y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A &lt;-- B  SYN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no eilės  numeris y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A --&gt; B  ACK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ūsų eilės numeris y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ijų pusių rankų paspaudimas yra būtinas, kadangi ISN nėra surišti su globaliniu laikrodžiu ir kiekvienas TCP gali rinkt ISN pagal savo sche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A080-07B1-48F4-8189-A7C6D5AD37A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tylaus(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et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) laiko koncepci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Hostai, kurie nusimuša ir nelieka informacijos apie paskutinius perduotus eilės numerius kiekviena aktyvia jungtimi, turi palaukti tam tikrą laiko intervalą neišduodami jokių TCP segmentų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Segment Lifetime (MSL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pie2 min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turi užtikrinti tai, kad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sukurs segmento su tokiu eilės numeriu kaip ir esančio tink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et time”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tikrina tai, kad kažkurie seni duomenys nebūtų priimami kaip nauji ir nauji nebūtų priimami kaip senų dublika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3192-FBC9-4408-B7EA-608964A5B39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jungimo sudar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rijų pusių rankų paspaudimo procedūra yra naudojama sujungimo sudary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ormaliai ją inicijuoja vienas TCP ir atsako kitas TC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ocedūra taip pat veikia ir jei du TCP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vienu met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inicijuoja šią procedūr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bu TCP gauna SYN be ACK (jis praneštų apie SYN gavim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CB5E-B7A4-488E-BA48-2991835C701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Bazinė susijungimo sinchron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    TCP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                     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L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--&gt; 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=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 --&gt; SYN-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&lt;-- 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=3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=1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&lt;-- SYN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ESTABLISHED --&gt;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--&gt;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--&gt;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DATA&gt; --&gt;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7E3-0F6B-4936-B2DC-46723EE97E8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ienalaikė sinchron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TCP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                                          CL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 --&gt; &lt;SEQ=100&gt;&lt;CTL=SYN&gt;             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RECEIVED &lt;-- &lt;SEQ=300&gt;&lt;CTL=SYN&gt;              &lt;-- SYN-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          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&lt;SEQ=100&gt;&lt;CTL=SYN&gt;              --&gt; SYN-RECE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RECEIVED --&gt; &lt;SEQ=100&gt;&lt;ACK=301&gt;&lt;CTL=SYN,ACK&gt;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 &lt;-- &lt;SEQ=300&gt;&lt;ACK=101&gt;&lt;CTL=SYN,ACK&gt; &lt;--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             ... &lt;SEQ=101&gt;&lt;ACK=301&gt;&lt;CTL=ACK&gt;     --&gt;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3526-2322-4026-BB3C-2FB15F41A7C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tstatymas po dubliuojančio SY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    TCP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CLOSED                                               L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--&gt; &lt;SEQ=100&gt;&lt;CTL=SYN&gt;      ..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plicate) ... &lt;SEQ=90&gt;&lt;CTL=SYN&gt;               --&gt;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&lt;-- &lt;SEQ=300&gt;&lt;ACK=91&gt;&lt;CTL=SYN,ACK&gt;  &lt;-- SYN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SENT    --&gt; &lt;SEQ=91&gt;&lt;CTL=RST&gt;               -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LI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0C11-4521-484B-B62D-065387CA21B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   ... &lt;SEQ=100&gt;&lt;CTL=SYN&gt;               --&gt; SYN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SYN-SENT    &lt;-- &lt;SEQ=400&gt;&lt;ACK=101&gt;&lt;CTL=SYN,ACK&gt;  &lt;--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ESTABLISHED --&gt;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EQ=101&gt;&lt;ACK=401&gt;&lt;CTL=ACK&gt;      --&gt;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88E2-88AD-4095-8277-7113A25A2E0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usiau atviri susijung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ngimas vadin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siau atvir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jei vienas iš TCP uždarė ar nutraukė susijungimą savam gale be pranešimo kitam TCP arba jei abu tampa desinchronizuoti dėl atminties problem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okie susijungimai yra priverčiami restartuoti jei tik bandoma persiųsti duomenis kažkuria kryptimi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usiau atviri susijungimai skaitomi retais ir atstatymo procedura yra lengvai įtrauki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68D6-3FAD-422C-9D8A-E02A02CE612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P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CP protokolas informaciją siunčia bei priima įvairaus dydžio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egmentai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IP protokolas TCP protokolui užtikrina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būdą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segmentų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išsiuntimu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bei </a:t>
            </a:r>
            <a:r>
              <a:rPr b="1" i="1" lang="lt-LT" sz="2400" spc="-1" strike="noStrike">
                <a:solidFill>
                  <a:srgbClr val="000000"/>
                </a:solidFill>
                <a:latin typeface="Arial Unicode MS"/>
              </a:rPr>
              <a:t>gavimui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, virš TCP galvutės įdėdamas IP datagramos galvut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IP galvutėje nurodomas šaltinio bei paskirties punkto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IP adresa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. IP rūpinasi paketų fragmentacija, jų perdavimu komunikaciniais tinkl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2250-309E-4D27-BEE5-D43CE600E3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(CRASH)    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300,receive 1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CLOSED                 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SYN-SENT --&gt;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--&gt;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?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(!!)     &lt;--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&lt;--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SYN-SENT --&gt;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T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--&gt;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bort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SYN-SENT            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SYN-SENT --&gt; &lt;SEQ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usiau atviras susijung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2066-ACEC-4C11-AE7C-C0FD87AD250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(CRASH)                                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end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receive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(??)    &lt;--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ACK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DATA=10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&lt;--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     --&gt; &lt;SEQ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CTL=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                 --&gt; (ABORT!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ktyvi pusė iššaukia pusiau atviro susijungimo nutrauk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8583-377F-4A84-BAB3-46D3C112459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jungimo uždar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i trys atve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artotoj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icijuoja susijungimo nutraukimą perduoda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strukcij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icij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tolę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ųsda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ntrolės signa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b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artotojai vienu metu vykd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F44C-0627-4986-97B0-C50BCDF8348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v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kalus vartotojas inicijuoja uždary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uo atveju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yra sukonstruojamas ir įdedamas į išeinančių segmentų eil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š vartotojo nebepriimamos funkc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j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uris įeina į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-WAIT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ūv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iėmimai yra leidžiami šiame būvyje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si prieš tai einantys segmentai ir segmentas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us išsiųsti pakol bus sulauktas patvirtin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ki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virtin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vimą(FIN-WAIT-2) ir atsiųs sav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irmasi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ės patvirtinti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šį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vę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virtins jo gavimą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t nesiųs sav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ol jo vartotojas irgi neuždarys  susijungimo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708-01B8-4262-817A-247FAEED263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Atv.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:  TCP 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gauna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 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iš tink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eina iš 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jį gavę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patvirtinti (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 jį ir pranešti vartotojui, kad susijungimas yra uždaro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s turi atsakyt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struk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gal kuri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unč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t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o likusių duomenų persiunti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o 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laukia sav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virtinimo ir naikina susijung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sulaukiama, tai po laiko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ou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susijungimas nutraukiamas ir informuojamas vartoto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11A-EC68-4CCA-AEE8-8F1EE8361B7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tv.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: 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bu vartotojai vienu metu uždaro jungtį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nalaikė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strukcija abiejuose susijungimo galuose iššaukia pasikeit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gm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visi segmentai (susikaupę prieš FIN) yra išsiunčiami ir patvirtinami, kiekvien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patvirtinti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 susijungimo nutraukimą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, kurį jis yra gav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bu TCP, gavę patvirtinančiu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K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traukia susijungim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410-902F-4C04-BBBA-4693EC35C2F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ose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TCP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ESTABLISHED 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(Clo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-WAIT-1  --&gt; &lt;SEQ=100&gt;&lt;ACK=300&gt;&lt;CTL=FIN,ACK&gt;  --&gt; CLOSE-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FIN-WAIT-2  &lt;-- &lt;SEQ=300&gt;&lt;ACK=101&gt;&lt;CTL=ACK&gt;      &lt;-- CLOSE-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                                                   (Clo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WAIT   &lt;-- &lt;SEQ=300&gt;&lt;ACK=101&gt;&lt;CTL=FIN,ACK&gt;  &lt;-- LAST-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TIME-WAIT   --&gt; &lt;SEQ=101&gt;&lt;ACK=301&gt;&lt;CTL=ACK&gt;      --&gt; 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(2 MS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41CB-B457-41B6-8F19-A398F7C77E9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ienalaikė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ose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A      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TCP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ESTABLISHED                    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ESTABL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(Close)                                              (Clo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-WAIT-1  --&gt; &lt;SEQ=100&gt;&lt;ACK=300&gt;&lt;CTL=FIN,ACK&gt;  ... FIN-WAIT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- &lt;SEQ=300&gt;&lt;ACK=100&gt;&lt;CTL=FIN,ACK&gt;  &lt;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&lt;SEQ=100&gt;&lt;ACK=300&gt;&lt;CTL=FIN,ACK&gt; 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CLOSING     --&gt; &lt;SEQ=101&gt;&lt;ACK=301&gt;&lt;CTL=ACK&gt;      ... CLO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-- &lt;SEQ=301&gt;&lt;ACK=101&gt;&lt;CTL=ACK&gt;      &lt;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&lt;SEQ=101&gt;&lt;ACK=301&gt;&lt;CTL=ACK&gt;     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TIME-WAIT                                            TIME-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 MSL)                                              (2 MS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                                              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BB7A-A387-4234-BC56-512EB822693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Lango vald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yra surišta su tuo momentu laisva buferio sritimi naudojama šiam susijung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gaunama daugiau duomenų nei gali būti priimta, duomenys naikin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us reikalingi pakartotini persiuntimai, apkraunamas TC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rodant per mažus lango dydžius gaunamas per ilgas duomenų persiuntima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0F42-5CF0-40F7-B448-9DD653D70C8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Laus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/1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ftp://ftp.isi.edu/in-notes/rfc2616.t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12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tokolo paskirtis, naudojama terminolog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unikacija (klientas, proxy, gateway, tunnel origin), pagrindinės taisyklė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12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tokolo parametrai: versija, resursų identifikatorius, datos, laiko formatai, simbolių rinkinys, turinio kodavimas, persiuntimo kodavimas.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rotokolo parametrai:(Media Types,Product Tokens, Quality Values, Language Tags,    Entity Tags, Range Uni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FB51-A32E-4A68-98BB-949CB6CD925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 Unicode MS"/>
              </a:rPr>
              <a:t>Sąsaj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š vienos pusės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ąsają su vartotoj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r aplikaciniu procesu, iš kitos pusės su žemesnio lygio protokolu – IP protokol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ąsaja tarp aplikacijų ir TCP užtikrin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reipini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panašiais į tuos , kuriuos operacinė sistema teikia aplikaciniams procesams manipuliavimu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su fail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(Jungties atidarymas, uždarymas, duomenų siuntimas, priėmim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ąsaja tarp TCP ir žemesnio sluoksnio: skaitoma, kad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mechaniz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uo remdamiesi šie du sluoksniai gal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perd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formaciją viens kit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41F-95B8-4DF4-A4AF-D5732D20A2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 pranešimas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essage Types, Message Headers, Message Body, Message Length, General Header Fields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klausa ir atsaky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equest, Request-Line, Method, Request-URI, The Resource Identified by a Request,Request Header Fields, Response, Status-Line, Status Code and Reason Phrase, Response Header Fiel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a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ethod Definitions, OPTIONS, GET, HEAD, POST, PUT, DELETE TRACE, CONN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Būvio koda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 Status Code Definitions, Informational 1xx, Successful 2xx Redirection 3xx), Server Error 5x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TTP cach’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Caching in HTT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6909-A213-4BC8-9AFB-04C4755D5D3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ikslas yra užtikrin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tik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og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jung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grand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arp poros komunikuojančių proces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o serviso palaikymo užtikrinimui mažiau patikimoje Interneto komunikacijų terpėj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alingi šie mechaniz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ų perdav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ikimum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rauto kontrol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tankinimo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plexin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mumo ir saug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F4F-AEA3-41A5-B5A9-7457BEECCB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uomenų perd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perd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rau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oktetų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bie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ryptim, suskirstydamas srautą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gment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kartais nori būti tikri,  kad visi TCP perduoti duomenys buvo perduoti. Tam naudojama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f-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sitikinimui, kad duomenys, kurie yra perduoti TCP iš tikrųjų yra perduoti gavėjui, vartotojas nurodo veiksmą “push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696D-2245-4829-828E-67DD998D2D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tikimu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y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 bū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gadin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arasti, dubliuoti ar nusiųsti ne ta tvar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m persiunčiamam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ait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yra suteiki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umer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iš gavėjo reikalaujamas patvirtinimas 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ACK nėra gaunamas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laiko intervale, duomenų persiunti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kartoja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virtinimas dar negarantuoja kad duomenys pristatyti galiniam vartotojui, o tik tai, kad priimantis TCP apsiima šią atsakomyb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vėjo taške eilės numeriai naudojami priėmim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ilišku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alaikyti, nes duomenys gali būti gaunami ne ta tvarka, be to gali atsiras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blika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ų sugadinimui išvengti naudojam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ntrolin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Jos tikrinamos priėmus segmentą ir sugadinti segmentai yra naikinam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A5E1-C130-40BC-9EEE-A8961922A4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rauto kontrol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priemonę kuri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gavėj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valdy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siunt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siųstą informacijos kiek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kiekvienu ACK yra grąžinamas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ang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dydis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"window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ngo dydis indikuoja tą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eilės numerių interval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s gali būti priimtas po paskutinio priėmi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ango dydis rod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iek bai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nformacijos siuntėjas gali pasiųsti prieš gaudamas sekantį leid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A091-937B-4846-A0F0-4DF21EA869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10:10:04Z</dcterms:created>
  <dc:creator>Kristina</dc:creator>
  <dc:description/>
  <dc:language>en-US</dc:language>
  <cp:lastModifiedBy>Kristina</cp:lastModifiedBy>
  <dcterms:modified xsi:type="dcterms:W3CDTF">2004-10-06T08:15:24Z</dcterms:modified>
  <cp:revision>58</cp:revision>
  <dc:subject/>
  <dc:title>TCP</dc:title>
</cp:coreProperties>
</file>