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E4DA-017F-4084-8488-82EE625ED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85FB-3722-4B67-B375-2EAA57E7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1AD7-5356-4494-8528-F79AE81F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E611-94FE-47B1-B3F3-697D359B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DE04-B0B9-4AEC-9052-A3672A06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5DD7-B9D8-4C0B-A400-066E10B2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0C49-A04C-4421-9B80-741A489E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6C89-03A3-4336-A216-232E58C9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E7E2-DDCF-4240-B1C1-E90ACA86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7A60-2D2D-4BBB-89B5-DBE91848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250A-4DA8-49AF-8EE5-52AE0DFF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302F-4B85-49D3-B85B-853F2D92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125E-3456-4E2F-84A1-54970576E4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nsstuff.com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inpoc.delfi.lv/1618.html" TargetMode="External"/><Relationship Id="rId2" Type="http://schemas.openxmlformats.org/officeDocument/2006/relationships/hyperlink" Target="http://inpoc.delfi.lv/1618.html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00440" y="449532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6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2004-10-12_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3809880" cy="37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3FA-C9BA-4B30-A984-DD9502C77E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Trac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696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echo reque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echo reply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ą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maršrutizatorių trasavi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vykdy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t  target.my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ing route to target.my.com [1.2.3.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ver a maximum of 30 hops (šuolia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129 ms   126 ms   130 ms   router.my.com [1.2.3.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229 ms   124 ms   118 ms   target.my.com [1.2.3.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97C7-EBEC-4EF0-BCE3-643D624D96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95280" y="228600"/>
            <a:ext cx="6629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acert to pagonis.pit.ktu.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d by </a:t>
            </a:r>
            <a:r>
              <a:rPr b="0" lang="lt-LT" sz="1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www.DNSstuff.com</a:t>
            </a:r>
            <a:r>
              <a:rPr b="0" lang="lt-L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05:17:28 GMT on 12 Oct 2004.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1143000"/>
            <a:ext cx="9042480" cy="4602240"/>
            <a:chOff x="0" y="1143000"/>
            <a:chExt cx="9042480" cy="4602240"/>
          </a:xfrm>
        </p:grpSpPr>
        <p:grpSp>
          <p:nvGrpSpPr>
            <p:cNvPr id="63" name=""/>
            <p:cNvGrpSpPr/>
            <p:nvPr/>
          </p:nvGrpSpPr>
          <p:grpSpPr>
            <a:xfrm>
              <a:off x="4320" y="1147680"/>
              <a:ext cx="9033120" cy="4592520"/>
              <a:chOff x="4320" y="1147680"/>
              <a:chExt cx="9033120" cy="459252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4320" y="1147680"/>
                <a:ext cx="449640" cy="639720"/>
                <a:chOff x="4320" y="1147680"/>
                <a:chExt cx="449640" cy="6397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12960" y="1157040"/>
                  <a:ext cx="4316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320" y="11476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53960" y="1147680"/>
                <a:ext cx="612000" cy="639720"/>
                <a:chOff x="453960" y="1147680"/>
                <a:chExt cx="612000" cy="6397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62600" y="1157040"/>
                  <a:ext cx="5943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 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53960" y="11476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1066320" y="1147680"/>
                <a:ext cx="612360" cy="639720"/>
                <a:chOff x="1066320" y="1147680"/>
                <a:chExt cx="612360" cy="6397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1075320" y="1157040"/>
                  <a:ext cx="5940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 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066320" y="11476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1679040" y="1147680"/>
                <a:ext cx="612000" cy="639720"/>
                <a:chOff x="1679040" y="1147680"/>
                <a:chExt cx="612000" cy="6397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1687680" y="1157040"/>
                  <a:ext cx="5943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 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679040" y="11476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2291040" y="1147680"/>
                <a:ext cx="1077120" cy="639720"/>
                <a:chOff x="2291040" y="1147680"/>
                <a:chExt cx="1077120" cy="6397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300040" y="1157040"/>
                  <a:ext cx="10587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291040" y="11476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3368520" y="1147680"/>
                <a:ext cx="2220480" cy="639720"/>
                <a:chOff x="3368520" y="1147680"/>
                <a:chExt cx="2220480" cy="6397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3377160" y="1157040"/>
                  <a:ext cx="220248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stna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368520" y="11476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589000" y="1147680"/>
                <a:ext cx="942120" cy="639720"/>
                <a:chOff x="5589000" y="1147680"/>
                <a:chExt cx="942120" cy="6397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5597640" y="1157040"/>
                  <a:ext cx="9241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turn TT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589000" y="11476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6531480" y="1147680"/>
                <a:ext cx="1273320" cy="639720"/>
                <a:chOff x="6531480" y="1147680"/>
                <a:chExt cx="1273320" cy="6397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6540120" y="1157040"/>
                  <a:ext cx="125568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untr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531480" y="11476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7805160" y="1147680"/>
                <a:ext cx="1232280" cy="639720"/>
                <a:chOff x="7805160" y="1147680"/>
                <a:chExt cx="1232280" cy="63972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7814160" y="1157040"/>
                  <a:ext cx="12139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805160" y="11476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4320" y="1806480"/>
                <a:ext cx="449640" cy="639720"/>
                <a:chOff x="4320" y="1806480"/>
                <a:chExt cx="449640" cy="6397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12960" y="1815840"/>
                  <a:ext cx="4316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320" y="18064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453960" y="1806480"/>
                <a:ext cx="612000" cy="639720"/>
                <a:chOff x="453960" y="1806480"/>
                <a:chExt cx="612000" cy="6397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462600" y="1815840"/>
                  <a:ext cx="5943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53960" y="18064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1066320" y="1806480"/>
                <a:ext cx="612360" cy="639720"/>
                <a:chOff x="1066320" y="1806480"/>
                <a:chExt cx="612360" cy="63972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1075320" y="1815840"/>
                  <a:ext cx="5940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066320" y="18064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1679040" y="1806480"/>
                <a:ext cx="612000" cy="639720"/>
                <a:chOff x="1679040" y="1806480"/>
                <a:chExt cx="612000" cy="6397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1687680" y="1815840"/>
                  <a:ext cx="5943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679040" y="18064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291040" y="1806480"/>
                <a:ext cx="1077120" cy="639720"/>
                <a:chOff x="2291040" y="1806480"/>
                <a:chExt cx="1077120" cy="6397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300040" y="1815840"/>
                  <a:ext cx="10587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6.26.134.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291040" y="18064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3368520" y="1806480"/>
                <a:ext cx="2220480" cy="639720"/>
                <a:chOff x="3368520" y="1806480"/>
                <a:chExt cx="2220480" cy="6397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3377160" y="1815840"/>
                  <a:ext cx="220248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[www.DNSstuff.com 1st hop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368520" y="18064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589000" y="1806480"/>
                <a:ext cx="942120" cy="639720"/>
                <a:chOff x="5589000" y="1806480"/>
                <a:chExt cx="942120" cy="6397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597640" y="1815840"/>
                  <a:ext cx="9241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589000" y="18064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6531480" y="1806480"/>
                <a:ext cx="1273320" cy="639720"/>
                <a:chOff x="6531480" y="1806480"/>
                <a:chExt cx="1273320" cy="63972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6540120" y="1815840"/>
                  <a:ext cx="125568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531480" y="18064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7805160" y="1806480"/>
                <a:ext cx="1232280" cy="639720"/>
                <a:chOff x="7805160" y="1806480"/>
                <a:chExt cx="1232280" cy="6397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7814160" y="1815840"/>
                  <a:ext cx="12139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805160" y="18064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4320" y="2465280"/>
                <a:ext cx="449640" cy="639720"/>
                <a:chOff x="4320" y="2465280"/>
                <a:chExt cx="449640" cy="6397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2960" y="24750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320" y="24652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453960" y="2465280"/>
                <a:ext cx="612000" cy="639720"/>
                <a:chOff x="453960" y="2465280"/>
                <a:chExt cx="612000" cy="6397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62600" y="24750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53960" y="24652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1066320" y="2465280"/>
                <a:ext cx="612360" cy="639720"/>
                <a:chOff x="1066320" y="2465280"/>
                <a:chExt cx="612360" cy="6397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075320" y="24750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066320" y="24652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679040" y="2465280"/>
                <a:ext cx="612000" cy="639720"/>
                <a:chOff x="1679040" y="2465280"/>
                <a:chExt cx="612000" cy="6397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687680" y="24750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679040" y="24652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2291040" y="2465280"/>
                <a:ext cx="1077120" cy="639720"/>
                <a:chOff x="2291040" y="2465280"/>
                <a:chExt cx="1077120" cy="6397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300040" y="24750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6.26.129.8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291040" y="24652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368520" y="2465280"/>
                <a:ext cx="2220480" cy="639720"/>
                <a:chOff x="3368520" y="2465280"/>
                <a:chExt cx="2220480" cy="6397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377160" y="24750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ore-rtr01.ge-1-3-0.sdf.xodiax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368520" y="24652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5589000" y="2465280"/>
                <a:ext cx="942120" cy="639720"/>
                <a:chOff x="5589000" y="2465280"/>
                <a:chExt cx="942120" cy="6397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5597640" y="24750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589000" y="24652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531480" y="2465280"/>
                <a:ext cx="1273320" cy="639720"/>
                <a:chOff x="6531480" y="2465280"/>
                <a:chExt cx="1273320" cy="6397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540120" y="24750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531480" y="24652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7805160" y="2465280"/>
                <a:ext cx="1232280" cy="639720"/>
                <a:chOff x="7805160" y="2465280"/>
                <a:chExt cx="1232280" cy="6397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7814160" y="24750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45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805160" y="24652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320" y="3124080"/>
                <a:ext cx="449640" cy="639720"/>
                <a:chOff x="4320" y="3124080"/>
                <a:chExt cx="449640" cy="6397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2960" y="31338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20" y="31240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53960" y="3124080"/>
                <a:ext cx="612000" cy="639720"/>
                <a:chOff x="453960" y="3124080"/>
                <a:chExt cx="612000" cy="6397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62600" y="31338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3960" y="31240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066320" y="3124080"/>
                <a:ext cx="612360" cy="639720"/>
                <a:chOff x="1066320" y="3124080"/>
                <a:chExt cx="612360" cy="6397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075320" y="31338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066320" y="31240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679040" y="3124080"/>
                <a:ext cx="612000" cy="639720"/>
                <a:chOff x="1679040" y="3124080"/>
                <a:chExt cx="612000" cy="6397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1687680" y="31338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679040" y="31240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2291040" y="3124080"/>
                <a:ext cx="1077120" cy="639720"/>
                <a:chOff x="2291040" y="3124080"/>
                <a:chExt cx="1077120" cy="6397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300040" y="31338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6.26.128.2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291040" y="31240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3368520" y="3124080"/>
                <a:ext cx="2220480" cy="639720"/>
                <a:chOff x="3368520" y="3124080"/>
                <a:chExt cx="2220480" cy="6397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3377160" y="31338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edge-rtr02.ge-0-2-0.sdf.xodiax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368520" y="31240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5589000" y="3124080"/>
                <a:ext cx="942120" cy="639720"/>
                <a:chOff x="5589000" y="3124080"/>
                <a:chExt cx="942120" cy="6397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5597640" y="31338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589000" y="31240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6531480" y="3124080"/>
                <a:ext cx="1273320" cy="639720"/>
                <a:chOff x="6531480" y="3124080"/>
                <a:chExt cx="1273320" cy="6397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6540120" y="31338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531480" y="31240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7805160" y="3124080"/>
                <a:ext cx="1232280" cy="639720"/>
                <a:chOff x="7805160" y="3124080"/>
                <a:chExt cx="1232280" cy="639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7814160" y="31338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47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805160" y="31240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320" y="3782880"/>
                <a:ext cx="449640" cy="639720"/>
                <a:chOff x="4320" y="3782880"/>
                <a:chExt cx="449640" cy="6397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12960" y="37926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320" y="37828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453960" y="3782880"/>
                <a:ext cx="612000" cy="639720"/>
                <a:chOff x="453960" y="3782880"/>
                <a:chExt cx="612000" cy="6397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62600" y="37926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53960" y="37828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1066320" y="3782880"/>
                <a:ext cx="612360" cy="639720"/>
                <a:chOff x="1066320" y="3782880"/>
                <a:chExt cx="612360" cy="6397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075320" y="37926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066320" y="37828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1679040" y="3782880"/>
                <a:ext cx="612000" cy="639720"/>
                <a:chOff x="1679040" y="3782880"/>
                <a:chExt cx="612000" cy="6397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687680" y="37926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679040" y="37828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2291040" y="3782880"/>
                <a:ext cx="1077120" cy="639720"/>
                <a:chOff x="2291040" y="3782880"/>
                <a:chExt cx="1077120" cy="6397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2300040" y="37926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5.117.168.13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291040" y="37828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368520" y="3782880"/>
                <a:ext cx="2220480" cy="639720"/>
                <a:chOff x="3368520" y="3782880"/>
                <a:chExt cx="2220480" cy="6397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377160" y="37926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i-edge-09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368520" y="37828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589000" y="3782880"/>
                <a:ext cx="942120" cy="639720"/>
                <a:chOff x="5589000" y="3782880"/>
                <a:chExt cx="942120" cy="6397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597640" y="37926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589000" y="37828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6531480" y="3782880"/>
                <a:ext cx="1273320" cy="639720"/>
                <a:chOff x="6531480" y="3782880"/>
                <a:chExt cx="1273320" cy="6397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540120" y="37926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531480" y="37828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7805160" y="3782880"/>
                <a:ext cx="1232280" cy="639720"/>
                <a:chOff x="7805160" y="3782880"/>
                <a:chExt cx="1232280" cy="6397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7814160" y="37926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62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805160" y="37828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4320" y="4441680"/>
                <a:ext cx="449640" cy="639720"/>
                <a:chOff x="4320" y="4441680"/>
                <a:chExt cx="449640" cy="6397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12960" y="44514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320" y="44416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453960" y="4441680"/>
                <a:ext cx="612000" cy="639720"/>
                <a:chOff x="453960" y="4441680"/>
                <a:chExt cx="612000" cy="6397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462600" y="44514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53960" y="44416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1066320" y="4441680"/>
                <a:ext cx="612360" cy="639720"/>
                <a:chOff x="1066320" y="4441680"/>
                <a:chExt cx="612360" cy="6397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075320" y="44514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066320" y="44416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1679040" y="4441680"/>
                <a:ext cx="612000" cy="639720"/>
                <a:chOff x="1679040" y="4441680"/>
                <a:chExt cx="612000" cy="639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687680" y="44514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679040" y="44416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2291040" y="4441680"/>
                <a:ext cx="1077120" cy="639720"/>
                <a:chOff x="2291040" y="4441680"/>
                <a:chExt cx="1077120" cy="6397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2300040" y="44514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5.171.20.12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291040" y="44416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368520" y="4441680"/>
                <a:ext cx="2220480" cy="639720"/>
                <a:chOff x="3368520" y="4441680"/>
                <a:chExt cx="2220480" cy="6397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377160" y="44514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i-core-03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368520" y="44416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5589000" y="4441680"/>
                <a:ext cx="942120" cy="639720"/>
                <a:chOff x="5589000" y="4441680"/>
                <a:chExt cx="942120" cy="6397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597640" y="44514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589000" y="44416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6531480" y="4441680"/>
                <a:ext cx="1273320" cy="639720"/>
                <a:chOff x="6531480" y="4441680"/>
                <a:chExt cx="1273320" cy="6397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6540120" y="44514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531480" y="44416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7805160" y="4441680"/>
                <a:ext cx="1232280" cy="639720"/>
                <a:chOff x="7805160" y="4441680"/>
                <a:chExt cx="1232280" cy="63972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7814160" y="44514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64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805160" y="44416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4320" y="5100480"/>
                <a:ext cx="449640" cy="639720"/>
                <a:chOff x="4320" y="5100480"/>
                <a:chExt cx="449640" cy="63972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12960" y="5110200"/>
                  <a:ext cx="4316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320" y="5100480"/>
                  <a:ext cx="449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453960" y="5100480"/>
                <a:ext cx="612000" cy="639720"/>
                <a:chOff x="453960" y="5100480"/>
                <a:chExt cx="612000" cy="6397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462600" y="51102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53960" y="51004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1066320" y="5100480"/>
                <a:ext cx="612360" cy="639720"/>
                <a:chOff x="1066320" y="5100480"/>
                <a:chExt cx="612360" cy="6397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1075320" y="5110200"/>
                  <a:ext cx="5940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066320" y="5100480"/>
                  <a:ext cx="61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1679040" y="5100480"/>
                <a:ext cx="612000" cy="639720"/>
                <a:chOff x="1679040" y="5100480"/>
                <a:chExt cx="612000" cy="6397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1687680" y="5110200"/>
                  <a:ext cx="5943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679040" y="5100480"/>
                  <a:ext cx="61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2291040" y="5100480"/>
                <a:ext cx="1077120" cy="639720"/>
                <a:chOff x="2291040" y="5100480"/>
                <a:chExt cx="1077120" cy="6397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300040" y="5110200"/>
                  <a:ext cx="10587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5.171.20.17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291040" y="5100480"/>
                  <a:ext cx="1077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3368520" y="5100480"/>
                <a:ext cx="2220480" cy="639720"/>
                <a:chOff x="3368520" y="5100480"/>
                <a:chExt cx="2220480" cy="639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377160" y="5110200"/>
                  <a:ext cx="22024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i-core-02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368520" y="5100480"/>
                  <a:ext cx="2220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5589000" y="5100480"/>
                <a:ext cx="942120" cy="639720"/>
                <a:chOff x="5589000" y="5100480"/>
                <a:chExt cx="942120" cy="6397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5597640" y="5110200"/>
                  <a:ext cx="9241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589000" y="5100480"/>
                  <a:ext cx="942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531480" y="5100480"/>
                <a:ext cx="1273320" cy="639720"/>
                <a:chOff x="6531480" y="5100480"/>
                <a:chExt cx="1273320" cy="6397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6540120" y="5110200"/>
                  <a:ext cx="125568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531480" y="5100480"/>
                  <a:ext cx="1273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7805160" y="5100480"/>
                <a:ext cx="1232280" cy="639720"/>
                <a:chOff x="7805160" y="5100480"/>
                <a:chExt cx="1232280" cy="6397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7814160" y="5110200"/>
                  <a:ext cx="1213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65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805160" y="5100480"/>
                  <a:ext cx="1232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3" name=""/>
            <p:cNvSpPr/>
            <p:nvPr/>
          </p:nvSpPr>
          <p:spPr>
            <a:xfrm>
              <a:off x="0" y="1143000"/>
              <a:ext cx="9042480" cy="46022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6DC4-243F-488C-8D22-8A35350E0B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355680" y="0"/>
            <a:ext cx="8788320" cy="4602240"/>
            <a:chOff x="355680" y="0"/>
            <a:chExt cx="8788320" cy="4602240"/>
          </a:xfrm>
        </p:grpSpPr>
        <p:grpSp>
          <p:nvGrpSpPr>
            <p:cNvPr id="255" name=""/>
            <p:cNvGrpSpPr/>
            <p:nvPr/>
          </p:nvGrpSpPr>
          <p:grpSpPr>
            <a:xfrm>
              <a:off x="360360" y="4680"/>
              <a:ext cx="8778960" cy="4592520"/>
              <a:chOff x="360360" y="4680"/>
              <a:chExt cx="8778960" cy="459252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360360" y="4680"/>
                <a:ext cx="355680" cy="639720"/>
                <a:chOff x="360360" y="4680"/>
                <a:chExt cx="355680" cy="6397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369720" y="14040"/>
                  <a:ext cx="3366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60360" y="46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716040" y="4680"/>
                <a:ext cx="647640" cy="639720"/>
                <a:chOff x="716040" y="4680"/>
                <a:chExt cx="647640" cy="6397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725400" y="14040"/>
                  <a:ext cx="628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16040" y="4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1363680" y="4680"/>
                <a:ext cx="647640" cy="639720"/>
                <a:chOff x="1363680" y="4680"/>
                <a:chExt cx="647640" cy="6397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373040" y="14040"/>
                  <a:ext cx="6289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363680" y="4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2011320" y="4680"/>
                <a:ext cx="647640" cy="639720"/>
                <a:chOff x="2011320" y="4680"/>
                <a:chExt cx="647640" cy="6397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2021040" y="14040"/>
                  <a:ext cx="628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011320" y="4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2658960" y="4680"/>
                <a:ext cx="1231920" cy="639720"/>
                <a:chOff x="2658960" y="4680"/>
                <a:chExt cx="1231920" cy="6397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2668680" y="14040"/>
                  <a:ext cx="12128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5.171.205.3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658960" y="46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3890880" y="4680"/>
                <a:ext cx="2127240" cy="639720"/>
                <a:chOff x="3890880" y="4680"/>
                <a:chExt cx="2127240" cy="6397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900600" y="14040"/>
                  <a:ext cx="21081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er-core-01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890880" y="46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6018120" y="4680"/>
                <a:ext cx="432000" cy="639720"/>
                <a:chOff x="6018120" y="4680"/>
                <a:chExt cx="432000" cy="6397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027840" y="14040"/>
                  <a:ext cx="412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018120" y="46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6450120" y="4680"/>
                <a:ext cx="1366560" cy="639720"/>
                <a:chOff x="6450120" y="4680"/>
                <a:chExt cx="1366560" cy="6397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6459480" y="14040"/>
                  <a:ext cx="13478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6450120" y="46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7816680" y="4680"/>
                <a:ext cx="1322640" cy="639720"/>
                <a:chOff x="7816680" y="4680"/>
                <a:chExt cx="1322640" cy="63972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7826400" y="14040"/>
                  <a:ext cx="13032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66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16680" y="46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360360" y="663480"/>
                <a:ext cx="355680" cy="639720"/>
                <a:chOff x="360360" y="663480"/>
                <a:chExt cx="355680" cy="6397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369720" y="672840"/>
                  <a:ext cx="3366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60360" y="6634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716040" y="663480"/>
                <a:ext cx="647640" cy="639720"/>
                <a:chOff x="716040" y="663480"/>
                <a:chExt cx="647640" cy="6397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25400" y="672840"/>
                  <a:ext cx="628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16040" y="663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1363680" y="663480"/>
                <a:ext cx="647640" cy="639720"/>
                <a:chOff x="1363680" y="663480"/>
                <a:chExt cx="647640" cy="6397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1373040" y="672840"/>
                  <a:ext cx="62892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363680" y="663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2011320" y="663480"/>
                <a:ext cx="647640" cy="639720"/>
                <a:chOff x="2011320" y="663480"/>
                <a:chExt cx="647640" cy="63972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2021040" y="672840"/>
                  <a:ext cx="628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8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011320" y="663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2658960" y="663480"/>
                <a:ext cx="1231920" cy="639720"/>
                <a:chOff x="2658960" y="663480"/>
                <a:chExt cx="1231920" cy="63972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2668680" y="672840"/>
                  <a:ext cx="12128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5.171.139.14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658960" y="6634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890880" y="663480"/>
                <a:ext cx="2127240" cy="639720"/>
                <a:chOff x="3890880" y="663480"/>
                <a:chExt cx="2127240" cy="6397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900600" y="672840"/>
                  <a:ext cx="21081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p-brdr-01.inet.qwest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890880" y="6634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6018120" y="663480"/>
                <a:ext cx="432000" cy="639720"/>
                <a:chOff x="6018120" y="663480"/>
                <a:chExt cx="432000" cy="63972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6027840" y="672840"/>
                  <a:ext cx="41256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018120" y="6634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6450120" y="663480"/>
                <a:ext cx="1366560" cy="639720"/>
                <a:chOff x="6450120" y="663480"/>
                <a:chExt cx="1366560" cy="6397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6459480" y="672840"/>
                  <a:ext cx="134784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TED STA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50120" y="6634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7816680" y="663480"/>
                <a:ext cx="1322640" cy="639720"/>
                <a:chOff x="7816680" y="663480"/>
                <a:chExt cx="1322640" cy="63972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7826400" y="672840"/>
                  <a:ext cx="1303200" cy="6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816680" y="6634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360360" y="1322280"/>
                <a:ext cx="355680" cy="639720"/>
                <a:chOff x="360360" y="1322280"/>
                <a:chExt cx="355680" cy="63972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369720" y="13320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60360" y="13222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716040" y="1322280"/>
                <a:ext cx="647640" cy="639720"/>
                <a:chOff x="716040" y="1322280"/>
                <a:chExt cx="647640" cy="6397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25400" y="13320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16040" y="13222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63680" y="1322280"/>
                <a:ext cx="647640" cy="639720"/>
                <a:chOff x="1363680" y="1322280"/>
                <a:chExt cx="647640" cy="6397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373040" y="13320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63680" y="13222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011320" y="1322280"/>
                <a:ext cx="647640" cy="639720"/>
                <a:chOff x="2011320" y="1322280"/>
                <a:chExt cx="647640" cy="6397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021040" y="13320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011320" y="13222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2658960" y="1322280"/>
                <a:ext cx="1231920" cy="639720"/>
                <a:chOff x="2658960" y="1322280"/>
                <a:chExt cx="1231920" cy="6397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2668680" y="13320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84.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658960" y="13222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3890880" y="1322280"/>
                <a:ext cx="2127240" cy="639720"/>
                <a:chOff x="3890880" y="1322280"/>
                <a:chExt cx="2127240" cy="6397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3900600" y="13320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chi-bb1-geth0-2-1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890880" y="13222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6018120" y="1322280"/>
                <a:ext cx="432000" cy="639720"/>
                <a:chOff x="6018120" y="1322280"/>
                <a:chExt cx="432000" cy="6397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027840" y="13320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018120" y="13222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450120" y="1322280"/>
                <a:ext cx="1366560" cy="639720"/>
                <a:chOff x="6450120" y="1322280"/>
                <a:chExt cx="1366560" cy="6397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6459480" y="13320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450120" y="13222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816680" y="1322280"/>
                <a:ext cx="1322640" cy="639720"/>
                <a:chOff x="7816680" y="1322280"/>
                <a:chExt cx="1322640" cy="6397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7826400" y="13320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78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816680" y="13222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360360" y="1981080"/>
                <a:ext cx="355680" cy="639720"/>
                <a:chOff x="360360" y="1981080"/>
                <a:chExt cx="355680" cy="6397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369720" y="19908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60360" y="19810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716040" y="1981080"/>
                <a:ext cx="647640" cy="639720"/>
                <a:chOff x="716040" y="1981080"/>
                <a:chExt cx="647640" cy="63972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725400" y="19908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16040" y="19810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1363680" y="1981080"/>
                <a:ext cx="647640" cy="639720"/>
                <a:chOff x="1363680" y="1981080"/>
                <a:chExt cx="647640" cy="6397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1373040" y="19908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4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363680" y="19810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2011320" y="1981080"/>
                <a:ext cx="647640" cy="639720"/>
                <a:chOff x="2011320" y="1981080"/>
                <a:chExt cx="647640" cy="6397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2021040" y="19908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011320" y="19810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2658960" y="1981080"/>
                <a:ext cx="1231920" cy="639720"/>
                <a:chOff x="2658960" y="1981080"/>
                <a:chExt cx="1231920" cy="6397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2668680" y="19908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80.7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658960" y="19810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3890880" y="1981080"/>
                <a:ext cx="2127240" cy="639720"/>
                <a:chOff x="3890880" y="1981080"/>
                <a:chExt cx="2127240" cy="6397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3900600" y="19908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nyk-bb2-pos7-1-0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890880" y="19810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6018120" y="1981080"/>
                <a:ext cx="432000" cy="639720"/>
                <a:chOff x="6018120" y="1981080"/>
                <a:chExt cx="432000" cy="6397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6027840" y="19908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018120" y="19810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6450120" y="1981080"/>
                <a:ext cx="1366560" cy="639720"/>
                <a:chOff x="6450120" y="1981080"/>
                <a:chExt cx="1366560" cy="6397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6459480" y="19908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450120" y="19810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7816680" y="1981080"/>
                <a:ext cx="1322640" cy="639720"/>
                <a:chOff x="7816680" y="1981080"/>
                <a:chExt cx="1322640" cy="6397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7826400" y="19908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8.83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816680" y="19810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360360" y="2639880"/>
                <a:ext cx="355680" cy="639720"/>
                <a:chOff x="360360" y="2639880"/>
                <a:chExt cx="355680" cy="6397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69720" y="26496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60360" y="26398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716040" y="2639880"/>
                <a:ext cx="647640" cy="639720"/>
                <a:chOff x="716040" y="2639880"/>
                <a:chExt cx="647640" cy="63972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725400" y="26496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16040" y="26398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1363680" y="2639880"/>
                <a:ext cx="647640" cy="639720"/>
                <a:chOff x="1363680" y="2639880"/>
                <a:chExt cx="647640" cy="6397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1373040" y="26496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363680" y="26398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2011320" y="2639880"/>
                <a:ext cx="647640" cy="639720"/>
                <a:chOff x="2011320" y="2639880"/>
                <a:chExt cx="647640" cy="6397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2021040" y="26496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011320" y="26398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2658960" y="2639880"/>
                <a:ext cx="1231920" cy="639720"/>
                <a:chOff x="2658960" y="2639880"/>
                <a:chExt cx="1231920" cy="6397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2668680" y="26496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65.9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658960" y="26398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3890880" y="2639880"/>
                <a:ext cx="2127240" cy="639720"/>
                <a:chOff x="3890880" y="2639880"/>
                <a:chExt cx="2127240" cy="6397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3900600" y="26496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ldn-bb2-pos6-0-0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890880" y="26398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6018120" y="2639880"/>
                <a:ext cx="432000" cy="639720"/>
                <a:chOff x="6018120" y="2639880"/>
                <a:chExt cx="432000" cy="6397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6027840" y="26496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018120" y="26398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6450120" y="2639880"/>
                <a:ext cx="1366560" cy="639720"/>
                <a:chOff x="6450120" y="2639880"/>
                <a:chExt cx="1366560" cy="639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6459480" y="26496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450120" y="26398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7816680" y="2639880"/>
                <a:ext cx="1322640" cy="639720"/>
                <a:chOff x="7816680" y="2639880"/>
                <a:chExt cx="1322640" cy="6397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7826400" y="26496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9. 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816680" y="26398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360360" y="3298680"/>
                <a:ext cx="355680" cy="639720"/>
                <a:chOff x="360360" y="3298680"/>
                <a:chExt cx="355680" cy="6397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369720" y="33084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360360" y="32986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716040" y="3298680"/>
                <a:ext cx="647640" cy="639720"/>
                <a:chOff x="716040" y="3298680"/>
                <a:chExt cx="647640" cy="6397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725400" y="33084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16040" y="3298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1363680" y="3298680"/>
                <a:ext cx="647640" cy="639720"/>
                <a:chOff x="1363680" y="3298680"/>
                <a:chExt cx="647640" cy="6397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1373040" y="33084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363680" y="3298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2011320" y="3298680"/>
                <a:ext cx="647640" cy="639720"/>
                <a:chOff x="2011320" y="3298680"/>
                <a:chExt cx="647640" cy="6397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021040" y="33084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011320" y="32986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2658960" y="3298680"/>
                <a:ext cx="1231920" cy="639720"/>
                <a:chOff x="2658960" y="3298680"/>
                <a:chExt cx="1231920" cy="6397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2668680" y="33084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64.7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58960" y="32986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3890880" y="3298680"/>
                <a:ext cx="2127240" cy="639720"/>
                <a:chOff x="3890880" y="3298680"/>
                <a:chExt cx="2127240" cy="6397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3900600" y="33084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ldn-b2-pos12-3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890880" y="32986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6018120" y="3298680"/>
                <a:ext cx="432000" cy="639720"/>
                <a:chOff x="6018120" y="3298680"/>
                <a:chExt cx="432000" cy="6397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6027840" y="33084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018120" y="32986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6450120" y="3298680"/>
                <a:ext cx="1366560" cy="639720"/>
                <a:chOff x="6450120" y="3298680"/>
                <a:chExt cx="1366560" cy="6397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6459480" y="33084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450120" y="32986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7816680" y="3298680"/>
                <a:ext cx="1322640" cy="639720"/>
                <a:chOff x="7816680" y="3298680"/>
                <a:chExt cx="1322640" cy="6397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7826400" y="33084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9. 8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816680" y="32986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360360" y="3957480"/>
                <a:ext cx="355680" cy="639720"/>
                <a:chOff x="360360" y="3957480"/>
                <a:chExt cx="355680" cy="6397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369720" y="3967200"/>
                  <a:ext cx="3366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60360" y="3957480"/>
                  <a:ext cx="355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716040" y="3957480"/>
                <a:ext cx="647640" cy="639720"/>
                <a:chOff x="716040" y="3957480"/>
                <a:chExt cx="647640" cy="6397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725400" y="39672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0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16040" y="3957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1363680" y="3957480"/>
                <a:ext cx="647640" cy="639720"/>
                <a:chOff x="1363680" y="3957480"/>
                <a:chExt cx="647640" cy="6397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1373040" y="3967200"/>
                  <a:ext cx="62892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363680" y="3957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2011320" y="3957480"/>
                <a:ext cx="647640" cy="639720"/>
                <a:chOff x="2011320" y="3957480"/>
                <a:chExt cx="647640" cy="6397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2021040" y="3967200"/>
                  <a:ext cx="628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9 m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11320" y="3957480"/>
                  <a:ext cx="647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2658960" y="3957480"/>
                <a:ext cx="1231920" cy="639720"/>
                <a:chOff x="2658960" y="3957480"/>
                <a:chExt cx="1231920" cy="6397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2668680" y="3967200"/>
                  <a:ext cx="1212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3.248.75.1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658960" y="3957480"/>
                  <a:ext cx="1231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3890880" y="3957480"/>
                <a:ext cx="2127240" cy="639720"/>
                <a:chOff x="3890880" y="3957480"/>
                <a:chExt cx="2127240" cy="6397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3900600" y="3967200"/>
                  <a:ext cx="21081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lt-LT" sz="12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dante-01233-ldn-b2.c.telia.ne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890880" y="3957480"/>
                  <a:ext cx="2127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6018120" y="3957480"/>
                <a:ext cx="432000" cy="639720"/>
                <a:chOff x="6018120" y="3957480"/>
                <a:chExt cx="432000" cy="6397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6027840" y="3967200"/>
                  <a:ext cx="41256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018120" y="3957480"/>
                  <a:ext cx="4320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6450120" y="3957480"/>
                <a:ext cx="1366560" cy="639720"/>
                <a:chOff x="6450120" y="3957480"/>
                <a:chExt cx="1366560" cy="63972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6459480" y="3967200"/>
                  <a:ext cx="134784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6450120" y="3957480"/>
                  <a:ext cx="1366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7816680" y="3957480"/>
                <a:ext cx="1322640" cy="639720"/>
                <a:chOff x="7816680" y="3957480"/>
                <a:chExt cx="1322640" cy="63972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7826400" y="3967200"/>
                  <a:ext cx="1303200" cy="62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nix: 5:17:29.29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816680" y="3957480"/>
                  <a:ext cx="1322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5" name=""/>
            <p:cNvSpPr/>
            <p:nvPr/>
          </p:nvSpPr>
          <p:spPr>
            <a:xfrm>
              <a:off x="355680" y="0"/>
              <a:ext cx="8788320" cy="46022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886200" y="4572000"/>
            <a:ext cx="2133720" cy="1066320"/>
            <a:chOff x="3886200" y="4572000"/>
            <a:chExt cx="2133720" cy="1066320"/>
          </a:xfrm>
        </p:grpSpPr>
        <p:grpSp>
          <p:nvGrpSpPr>
            <p:cNvPr id="447" name=""/>
            <p:cNvGrpSpPr/>
            <p:nvPr/>
          </p:nvGrpSpPr>
          <p:grpSpPr>
            <a:xfrm>
              <a:off x="3888360" y="4577760"/>
              <a:ext cx="2129400" cy="1054080"/>
              <a:chOff x="3888360" y="4577760"/>
              <a:chExt cx="2129400" cy="1054080"/>
            </a:xfrm>
          </p:grpSpPr>
          <p:sp>
            <p:nvSpPr>
              <p:cNvPr id="448" name=""/>
              <p:cNvSpPr/>
              <p:nvPr/>
            </p:nvSpPr>
            <p:spPr>
              <a:xfrm>
                <a:off x="3892680" y="4589640"/>
                <a:ext cx="2120760" cy="10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lt-LT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br>
                  <a:rPr sz="1200"/>
                </a:br>
                <a:r>
                  <a:rPr b="0" lang="lt-LT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[4 hops with no response; assuming we hit a firewall that blocks pings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888360" y="4577760"/>
                <a:ext cx="2129400" cy="10540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3886200" y="4572000"/>
              <a:ext cx="2133720" cy="1066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672C-40F9-4A96-9232-8756B9A3A1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ert TCPdumpa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[ttl  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my.com &gt; tracer.net 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[ttl  1]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my.com &gt; tracer.net 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[ttl  1]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my.com &gt; tracer.net 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et.my.com &gt; tracer.net : icmp: echo reply (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et.my.com &gt; tracer.net : icmp: echo reply (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cer.net &gt; target.my.com : icmp: echo requ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et.my.com &gt; tracer.net : icmp: echo reply (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8421-C0EB-4F58-925B-2B28040D89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 Bender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DĖTINGESN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ik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35955 &gt;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21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1884312222:1884312222 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21 &gt; 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.com.35955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3113925437:3113925437 (0)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-18843122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35955 &gt;ftp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21: .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k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server.com.21 &gt; ftp.client.com.35955: P 1:24(23) ack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client.com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5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gt;ftp.server.com.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1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. ack 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02ED-A622-4AA1-94EF-8BC393C287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533520" y="990720"/>
            <a:ext cx="86104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as surenka komandą di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rver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gt; ftp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ient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6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3558632705:3558632705(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client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6 &gt;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server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: S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01007864: 1901007864(0) ack –35586327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server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gt; ftp.client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6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. ac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client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5956 &gt;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.server.com.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0 : ac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33520" y="44197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 skiriasi nuo kitų TCP servisų tuo, kad jis komunikuoja naudodamas du port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, kuris yra standartiniu FTP komandos portu. Antrasis yra 20 ir jis naudojams duomenims perduo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58F9-1AD9-4313-906E-B656B2156D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normal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io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užklaus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isukinėjantys (apeinantys) stimulai, atsakymo stok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5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3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26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45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17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7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51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52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eathy.com.50141 &gt;victim.org.30: F 0:0(0) win 4096 (D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Įjungta vėliavėlė FIN, portai arba neatsako arba siunčia RST/ACK, priklausomai nuo to , ar juose yra klausomasi. Tai “nedrąsus” skenavi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1975-0631-4B1B-837A-0C0FB9F364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alingi stimulai. Fatališki-pražūtingi atsakymai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Naudojama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source quench”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 arba “redirect” pranešim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242.241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69.129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150.44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84.212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253.173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8.65.28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74.88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.184.84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host &gt; 172.168.3.109 : icmp : source que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Vykdoma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tipo atak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 intencija sužlugdyti hosto sugebėjimus teikti atsakymu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“source quench” pranešimas yra būdas kaip hostas ar routeris gali informuoti šaltinį, kad šis siunčia per daug informacijos ir turi sumažinti perdavimo intensyvumą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irect” kontrolinis pranešimas  leidžiantis routeriui pasakyti hostui perduoti paketus skirtingam routeriui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7DC1-E7EC-41BA-A4AB-61F279686C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timulus, all responc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0.72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8.13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1.67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6.13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9.1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.252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3.56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43.6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172.16.13.15: icmp: time exceeded in-tran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2.16 hosta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anaudoti kaip šaltinio adresai, vykdant “spoof” tipo ataką, jei nesimato išeinančių sraut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F01B-6BB9-4CBC-AC09-C49C1DF147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ktyvios TCP vėliavėlė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ų vėliavėlių nustatymu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lima matyti vykdant</a:t>
            </a:r>
            <a:br>
              <a:rPr sz="2000"/>
            </a:b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CPdump su –x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cija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usdinim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ešioliktainėje sistemoj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Normalus TCPdump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odo šių dviejų bitų reikšmi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er.com.44388 &gt; target.com.domain : S 403915838:403915838(0) win 4096 &lt;wscale  10,nop,mss 256,timestamp 1061109567  0,eol &gt; (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4500 003c 7542 4000 3b06 15bd 0102 0304</a:t>
            </a:r>
            <a:br>
              <a:rPr sz="1800"/>
            </a:b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102 0305] ad64 0035 1813 443e 0000 0000</a:t>
            </a:r>
            <a:br>
              <a:rPr sz="1800"/>
            </a:b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0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42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1000 fa4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000 0303 0a01 0204 0109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80a       3f3f      3f3f     0000       0000      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42 – rodo įjungtą rezervuotą vėliavėl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905120" y="1523880"/>
            <a:ext cx="5736960" cy="990720"/>
            <a:chOff x="1905120" y="1523880"/>
            <a:chExt cx="5736960" cy="990720"/>
          </a:xfrm>
        </p:grpSpPr>
        <p:grpSp>
          <p:nvGrpSpPr>
            <p:cNvPr id="466" name=""/>
            <p:cNvGrpSpPr/>
            <p:nvPr/>
          </p:nvGrpSpPr>
          <p:grpSpPr>
            <a:xfrm>
              <a:off x="1908720" y="1527120"/>
              <a:ext cx="5728680" cy="983520"/>
              <a:chOff x="1908720" y="1527120"/>
              <a:chExt cx="5728680" cy="98352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1908720" y="1527120"/>
                <a:ext cx="798480" cy="491760"/>
                <a:chOff x="1908720" y="1527120"/>
                <a:chExt cx="798480" cy="49176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1964880" y="1527120"/>
                  <a:ext cx="68544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908720" y="1527120"/>
                  <a:ext cx="79848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2707200" y="1527120"/>
                <a:ext cx="704160" cy="491760"/>
                <a:chOff x="2707200" y="1527120"/>
                <a:chExt cx="704160" cy="49176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276336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707200" y="152712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3411360" y="1527120"/>
                <a:ext cx="704520" cy="491760"/>
                <a:chOff x="3411360" y="1527120"/>
                <a:chExt cx="704520" cy="4917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346752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411360" y="152712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4115880" y="1527120"/>
                <a:ext cx="704160" cy="491760"/>
                <a:chOff x="4115880" y="1527120"/>
                <a:chExt cx="704160" cy="4917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4171680" y="1527120"/>
                  <a:ext cx="59184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4115880" y="152712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4820040" y="1527120"/>
                <a:ext cx="704520" cy="491760"/>
                <a:chOff x="4820040" y="1527120"/>
                <a:chExt cx="704520" cy="4917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487620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820040" y="152712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524560" y="1527120"/>
                <a:ext cx="704160" cy="491760"/>
                <a:chOff x="5524560" y="1527120"/>
                <a:chExt cx="704160" cy="4917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58036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524560" y="152712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6228720" y="1527120"/>
                <a:ext cx="704520" cy="491760"/>
                <a:chOff x="6228720" y="1527120"/>
                <a:chExt cx="704520" cy="4917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628488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228720" y="152712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933240" y="1527120"/>
                <a:ext cx="704160" cy="491760"/>
                <a:chOff x="6933240" y="1527120"/>
                <a:chExt cx="704160" cy="4917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989040" y="152712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lt-LT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933240" y="152712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1908720" y="2018880"/>
                <a:ext cx="1502640" cy="491760"/>
                <a:chOff x="1908720" y="2018880"/>
                <a:chExt cx="1502640" cy="4917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1964880" y="2018880"/>
                  <a:ext cx="138996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zervuo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908720" y="2018880"/>
                  <a:ext cx="150264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411360" y="2018880"/>
                <a:ext cx="704520" cy="491760"/>
                <a:chOff x="3411360" y="2018880"/>
                <a:chExt cx="704520" cy="4917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46752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R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411360" y="201888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4115880" y="2018880"/>
                <a:ext cx="704160" cy="491760"/>
                <a:chOff x="4115880" y="2018880"/>
                <a:chExt cx="704160" cy="4917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4171680" y="2018880"/>
                  <a:ext cx="59184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4115880" y="201888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4820040" y="2018880"/>
                <a:ext cx="704520" cy="491760"/>
                <a:chOff x="4820040" y="2018880"/>
                <a:chExt cx="704520" cy="4917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487620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S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4820040" y="201888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524560" y="2018880"/>
                <a:ext cx="704160" cy="491760"/>
                <a:chOff x="5524560" y="2018880"/>
                <a:chExt cx="704160" cy="4917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58036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S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524560" y="201888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228720" y="2018880"/>
                <a:ext cx="704520" cy="491760"/>
                <a:chOff x="6228720" y="2018880"/>
                <a:chExt cx="704520" cy="4917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28488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Y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228720" y="2018880"/>
                  <a:ext cx="70452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6933240" y="2018880"/>
                <a:ext cx="704160" cy="491760"/>
                <a:chOff x="6933240" y="2018880"/>
                <a:chExt cx="704160" cy="4917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6989040" y="2018880"/>
                  <a:ext cx="591480" cy="49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lt-LT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933240" y="2018880"/>
                  <a:ext cx="704160" cy="49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2" name=""/>
            <p:cNvSpPr/>
            <p:nvPr/>
          </p:nvSpPr>
          <p:spPr>
            <a:xfrm>
              <a:off x="1905120" y="1523880"/>
              <a:ext cx="5736960" cy="990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8118-5448-4AE3-BCF8-C2954C9008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e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28800" y="17524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žklausos – atsakyma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C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akos, susijusios su TCP bei U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Frag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4F63-A6F0-4E51-B561-D7376EA80C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š target.com  į  scaner.co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arget.com.domain&gt;scaner.com.44388:S 4154976859: 4154976859(0) ack 403915839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in 8855 &lt;nop,nop,timestamp 16912287 1061109567 , nop,wscale 0,mss 265&gt; (D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4500 003c e04e 4000 ff06 e6af 83da d684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83da d683] 0035 ad64 f7a7 ea5b 1813 443f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0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1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2297 fd3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000 0101 080a 0102 0f9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3f3f       3f3f      0103     0300       0204      01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e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numestas fiktyv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tas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Leidžia daryti spėjimą apie operacinę siste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a operacinė sistema gal bū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aug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į fiktyvų bi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E7EF-B5BE-4687-8555-D40EBE71B9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Be TCP vėliavėli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caner.com.44388 &gt; target.com.domain: . win 4096 &lt;wscale 10,nop,mss 265, timestamp 1061109567 0,eol &gt;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[4500 003c 7542 4000 3b06 15bc 0102 0304</a:t>
            </a:r>
            <a:br>
              <a:rPr sz="2000"/>
            </a:b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102 0305] ad65 0035 1813 443e 0000 0000</a:t>
            </a:r>
            <a:br>
              <a:rPr sz="2000"/>
            </a:b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0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1000 fa8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000 0303 0a01 0204 0109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080a       3f3f      3f3f     0000       0000      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ia vėliavėlių baite matome 00. Tai reikštų kad vėliavėlės nėra įjung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iai TCP vėliavėlių baite būna įjungtas bent vienas bit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as target.com visai neatsako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 tokį nulinį TCP segmentą. Atsakymo nebuvimas irgi yra tam tikra informacija apie operacinę sistemą. Kita operacinė sistema gali identifikuoti save atsakydama su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3E1E-5BD3-4169-BE29-22A53E2DAC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opcij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caner.com.44388 &gt; target.com.domain : S 403915838:403915838(0) ,win 4096  &lt;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scale   10,nop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ss 256,timestamp 1061109567  0,eol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gt;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arget.com.domain&gt;scaner.com.44388:S 4154976859: 4154976859(0) ack 403915839</a:t>
            </a:r>
            <a:br>
              <a:rPr sz="2000"/>
            </a:b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win 8855 &lt;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p,nop,timestamp 16912287 1061109567 , nop,wscale 0,mss 265&gt;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as iš būdų, bando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ustatyt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cinę sistemą yra siunčiant jam daug skirtingų TCP opcijų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 kurios operacinės sistemos nepalaiko visų šių opcijų ir atsakyme kai kurias iš jų nume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kurios operacinės sistemos nustato skirtingas reikšmes kai kurioms opcijom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rtingos operacinės sistemos gražins opcijas jas išdėstant skirtinga tvarka.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a tai padeda identifikacij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7A31-DDCC-4CBA-BDC8-E175D0CFDB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os teorij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datagram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liaujant tinklu ja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enk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eiti į tinklą su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žesn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alia (mažesniu maximum transmision unit MTU), ir tas MTU dydis yra mažesnis už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gra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yd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simali MTU reikšmė Ethernet tinkle yra 1500 bait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gmentuoti turi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šrutizatori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B34A-8366-4A62-B9A3-EE25DE8ED3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kia informacija yra reikalinga fragment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fragmentas turi bū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riš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u kitais fragmentais naudoj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endr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fragmentų identifikacinį numerį. Jis yra “cloned” iš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lvutės  lauko , žinomo kaip IP identifikacinis numeris arba Fragmento 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fragmentas turi informuoti koks yra to fragment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oslink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riginaliame nefragmentuotame pak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fragmentas turi pranešti, koki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lg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omen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jis neša frag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kvienas fragmentas turi žinoti, ar už jo dar bus daugiau fragmentų – tai atžymima vėliavėle – daugiau fragmentų –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F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more fragments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CF44-57D2-4F2D-8058-AC12E66F6B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"/>
          <p:cNvGrpSpPr/>
          <p:nvPr/>
        </p:nvGrpSpPr>
        <p:grpSpPr>
          <a:xfrm>
            <a:off x="1371600" y="1219320"/>
            <a:ext cx="6171840" cy="4571640"/>
            <a:chOff x="1371600" y="1219320"/>
            <a:chExt cx="6171840" cy="4571640"/>
          </a:xfrm>
        </p:grpSpPr>
        <p:sp>
          <p:nvSpPr>
            <p:cNvPr id="524" name=""/>
            <p:cNvSpPr/>
            <p:nvPr/>
          </p:nvSpPr>
          <p:spPr>
            <a:xfrm>
              <a:off x="3175560" y="1956960"/>
              <a:ext cx="1505160" cy="72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CMP duomen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71600" y="1956960"/>
              <a:ext cx="1655640" cy="72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25320" y="1956960"/>
              <a:ext cx="0" cy="72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27240" y="1956960"/>
              <a:ext cx="451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27240" y="2679120"/>
              <a:ext cx="451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833720" y="1956960"/>
              <a:ext cx="0" cy="72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39600" y="1956960"/>
              <a:ext cx="0" cy="72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72560" y="1219320"/>
              <a:ext cx="451440" cy="48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575800" y="1219320"/>
              <a:ext cx="451440" cy="48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79040" y="1219320"/>
              <a:ext cx="3161160" cy="66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00baitų ICMP duomenų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71600" y="2903760"/>
              <a:ext cx="903240" cy="9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P galvut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74840" y="3384720"/>
              <a:ext cx="902880" cy="9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CMP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alvut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80000" y="2903760"/>
              <a:ext cx="300960" cy="1684080"/>
            </a:xfrm>
            <a:prstGeom prst="downArrow">
              <a:avLst>
                <a:gd name="adj1" fmla="val 50000"/>
                <a:gd name="adj2" fmla="val 1398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436000" y="2903760"/>
              <a:ext cx="300960" cy="1684080"/>
            </a:xfrm>
            <a:prstGeom prst="downArrow">
              <a:avLst>
                <a:gd name="adj1" fmla="val 50000"/>
                <a:gd name="adj2" fmla="val 1398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92360" y="2903760"/>
              <a:ext cx="300960" cy="1684080"/>
            </a:xfrm>
            <a:prstGeom prst="downArrow">
              <a:avLst>
                <a:gd name="adj1" fmla="val 50000"/>
                <a:gd name="adj2" fmla="val 1398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79040" y="4828680"/>
              <a:ext cx="1053720" cy="72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00 bait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135040" y="4828680"/>
              <a:ext cx="902880" cy="9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00 bait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41520" y="4828680"/>
              <a:ext cx="601920" cy="9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68 baitų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726280" y="266292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609480" y="56386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ICMP echo užklausos datagram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77120" y="83808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u MTU reikšmė 1500 bait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ADD0-CD94-4FA8-9E9B-5C6060770B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o ID numeris/ IP Identifikacinis numeris</a:t>
            </a:r>
            <a:r>
              <a:rPr b="1" i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identifikacin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ikšmė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bitų lauk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antis IP galvutė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Kai datagrama tampa fragmentuota visi iš šios datagramos sukurti fragmentai turi tą patį šį IP identifikacinį numerį arba fragmento ID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676520" y="3429000"/>
            <a:ext cx="5790960" cy="1980720"/>
            <a:chOff x="1676520" y="3429000"/>
            <a:chExt cx="5790960" cy="1980720"/>
          </a:xfrm>
        </p:grpSpPr>
        <p:sp>
          <p:nvSpPr>
            <p:cNvPr id="548" name=""/>
            <p:cNvSpPr/>
            <p:nvPr/>
          </p:nvSpPr>
          <p:spPr>
            <a:xfrm>
              <a:off x="3368880" y="3849840"/>
              <a:ext cx="1412280" cy="41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CMP duomen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676520" y="3852720"/>
              <a:ext cx="1553760" cy="41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665080" y="3852720"/>
              <a:ext cx="0" cy="41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230280" y="3852720"/>
              <a:ext cx="42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30280" y="4264560"/>
              <a:ext cx="42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925160" y="3852720"/>
              <a:ext cx="0" cy="414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37440" y="3852720"/>
              <a:ext cx="0" cy="414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958760" y="3429000"/>
              <a:ext cx="423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806200" y="3429000"/>
              <a:ext cx="423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654000" y="3429000"/>
              <a:ext cx="1271160" cy="38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472 baitų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676520" y="4393800"/>
              <a:ext cx="847440" cy="55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P galvut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523960" y="4718520"/>
              <a:ext cx="1271160" cy="69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CMP galvut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CMP echo užklau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36240" y="4393800"/>
              <a:ext cx="282240" cy="414720"/>
            </a:xfrm>
            <a:prstGeom prst="downArrow">
              <a:avLst>
                <a:gd name="adj1" fmla="val 50000"/>
                <a:gd name="adj2" fmla="val 367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925160" y="4580280"/>
              <a:ext cx="2118600" cy="82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00 bait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oslinkis =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lgis = 14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re Fragments =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47680" y="425556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89F5-E915-47FD-AD4A-238DA2A36FE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Fragmentacij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 kurios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S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ntrusion detection systems) be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ketų filtravimo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enginiai nepastebi bei neblokuoja to aktyvumo, kurio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veikla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išdalinta į daugybę datagramų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Svarbu yra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statyti ar tai yra normali fragmentacija ar fragmentacija naudojama kitais tikslais.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D06D-8C63-4F7E-B87C-CCEA50A73E3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irmas fragm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įprastų laukų, kurie būna IP galvutėje, tokių kaip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altin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nkto IP numeriai bei protokolas (šiuo atveju ICMP), čia yra laukai specialiai skir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ragment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vėliavėlės lauk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omenų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link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sos datagramos duomenų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žvilgiu; 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majam fragmentui šis poslinkis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nešamų duomenų dydis yra saugomas lauke fragmento ilgis ir jis yra 148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2134-B387-456F-B7F5-3B609C549D1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kantis fragm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295280" y="1905120"/>
            <a:ext cx="6134040" cy="3565080"/>
            <a:chOff x="1295280" y="1905120"/>
            <a:chExt cx="6134040" cy="3565080"/>
          </a:xfrm>
        </p:grpSpPr>
        <p:sp>
          <p:nvSpPr>
            <p:cNvPr id="569" name=""/>
            <p:cNvSpPr/>
            <p:nvPr/>
          </p:nvSpPr>
          <p:spPr>
            <a:xfrm>
              <a:off x="1295280" y="2261520"/>
              <a:ext cx="70092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996200" y="2261520"/>
              <a:ext cx="52596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522160" y="2261520"/>
              <a:ext cx="175248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74640" y="2261520"/>
              <a:ext cx="210312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CMP duomen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377760" y="2261520"/>
              <a:ext cx="1051560" cy="5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975920" y="1905120"/>
              <a:ext cx="1051560" cy="35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4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51240" y="2796120"/>
              <a:ext cx="350280" cy="534960"/>
            </a:xfrm>
            <a:prstGeom prst="downArrow">
              <a:avLst>
                <a:gd name="adj1" fmla="val 50000"/>
                <a:gd name="adj2" fmla="val 381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924360" y="3509280"/>
              <a:ext cx="875880" cy="71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P galvut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00600" y="3509280"/>
              <a:ext cx="2278440" cy="71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CMP duomen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099320" y="3152880"/>
              <a:ext cx="525960" cy="35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676840" y="3152880"/>
              <a:ext cx="1226520" cy="35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4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625280" y="4400640"/>
              <a:ext cx="2103120" cy="106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00 baitų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slinkis = 14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lgis = 14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re fragments =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9C89-7F9F-4AE7-BCF1-DE5864EEDFC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rauto tyrimo reikalingu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guma įsilaužimą aptinkančių sistemų turi aukštą klaidingų pranešimų laipsnį (false positives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litikas turi atskirti klaiding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praneši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p atrodo normalus ir nenormalus sraut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FA66-AACF-4570-99DB-B72A6B3AB8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os peržiūra naudojant TCPdu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žiūrėkime į sekančias TCPdump išvestas eilu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g.com &gt; myhost.com : icmp : echo request (frag 21223: 148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g.com &gt; myhost.com : (frag 21223: 1480@1480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g.com &gt; myhost.com : (frag 21223: 1048@2960+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6927-B8FB-44F1-B825-C6AB6073EB3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a ir Paketus filtruojantys įrenginiai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 kyla kai šie įrenginiai bando filtruoti – blokuoti fragmentuotą sraut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 pirmas fragmentas fragmentų sekoje turės protokolo TCP, UDP ar ICMP galvut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ėtų būti blokuoti ir kiti fragmentai, kurių fragmentų ID yra tokie patys kaip ir blokuoto frag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mas fragmentas, turintis informaciją su protokolo galvute gali būti prarasta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F872-E8E7-45A6-8E74-BDAF8A22DFE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fragment vėliavėlė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gmentacija su šia datagrama nebus atliekam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šrutizatoriui nustačius šį faktą, jis numet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oki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gramą ir siunčia ICMP klaidos pranešimą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untė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u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ie hostai tyčia, sąmoningai siunčia pirminę datagramą per tinklą su įjungta DF vėliavėle, tikslu sužinoti kokia bus MTU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tagramą siunčiant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 paskirties punk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a gal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ššauk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efektyvu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(T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E9CE-A538-41E0-9134-9E1C11DE0A6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ktavališka fragmentacij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cija sukuria plačias prielaidas hakerių atakom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 Pavyzdžiu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kantis TCPdump išvedimas buvo gautas naudojant komand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map  -f  -sS  –p  53   targe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 siunčia fragmentuotą SYN sujungimą (connection-ryšys) į target.com  53 port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ncated-tcp 16 (frag 25096:16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0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agger.org &gt;target.com 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frag 25096: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ncated-tcp 16 (frag 4265:16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0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agger.org &gt;target.com 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frag 4265: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ncated-tcp 16 (frag 34927:16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0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agger.org &gt;target.com 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frag 34927: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@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tikėtina, kad ID sistemos gali nepagauti tokio pobūdžio paslėpto skanav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74CB-6A7D-4FDB-8572-D2DB2B303EE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autas už paketų-filtravimo įrengini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12.15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444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17.56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296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17.57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444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2.20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148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2.21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296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2.22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444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2.23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592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7.24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296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27.25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592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37.23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148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37.24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296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37.24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444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37.25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592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:01:42.300572  DOS.com &gt; 192.168.133.0: (frag 54050:148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@1480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Courier New"/>
              </a:rPr>
              <a:t>Trūksta pirmų ir paskutinių fragment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6A60-2C54-43BF-92CF-A3DF9DC1A22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-SYN atak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YN Flooding ataka yra organizuojama iš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iešišk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nusiteikusio vartotojo, kuris naudodamas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lientin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iekia įvykdy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oS tipo ataką prieš serverį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čiamas didelis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klausų kiekis aukos sistem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į visus port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susijungimas susijęs su tam tikrų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esurs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šskyri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os sistemai atsakiu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/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klausantys portai arb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– uždari portai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ukos sistema laukia ACK iš siuntėjo ir nesulaukia – resursai lieka užimtame būvyj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Atakuotojas pakartotinai siunčia susijungimo užklau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aka yra panaši į TCP-SYN ataką, tik siuntėjo adresu irgi nurodomas aukos adresas. Gaunasi fatalus cikla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A973-C3E7-4A21-AA0F-AE16ED1A5C0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ak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otoj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iunč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dau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žklaus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oofed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ource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( padirbtais adresais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uk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uka negali nusiųsti RST paketų , nes adresai yra padib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uk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riskir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sur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iekvienai užklaus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Baigtinis kiekis pusia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tvir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žklausų yra palaik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sijungimo užklaus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egzistuoj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IMEOUT period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, jam pasibaigus ateina naujos užklau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ai resursai išsemiami, kitos užklausos atmetamos- nors jos ir yra teisin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4343400" y="3505320"/>
            <a:ext cx="4800600" cy="27302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30492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rmal connection e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8006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n Flooding at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0F4C-5292-4BF7-B864-5DA2DADE733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akuojant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nčia kelet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rtais užtenk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SYN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klaus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į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k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por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yzdžiu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elnet daem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akuojant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 turi būti tikras, kad IP-adresas, kuris nurodomas kaip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iuntėj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žymėtų tuo met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eprieina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hos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k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iųs savo atsakym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uo adres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 IP (ICM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riemonėm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nfor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 y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epasieki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TC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tys kad šios klaidos yra laikin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 paliks jas IP išsprendi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erout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-adr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 būti nepasiekiamas, n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a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otoj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nori, ka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ks nor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ho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ut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/AC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einančių iš auk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s iššaukt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š to hosto. Tai sutrukdytų atak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1038-24B7-4F0A-B1AB-E24A88BDBBD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psauga prieš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m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fig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ūrac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erin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Mažinama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ime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erio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Padidinama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cklo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lg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idesnio jungčių kiekio palaikymui  - tačiau atakuotojas gali pasiųsti papildomus pake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ršrutizatoria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fi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racijos gerin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o išoriniame interfeise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blokuojam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paketai su šaltinio adresu iš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idinio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tinklo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o vidiniame interfeise blokuojami paketai į išorę, kurių šaltinio adresu nurodytas šaltinis iš išorė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daug SYN ateina į tą patį portą – juos patyrinėti firewall’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7EE6-8C62-4C15-AB4C-CEFC3E62C0D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psauga prieš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ewal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p perjung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wall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sako Paskirties punkto var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ui įvyk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irewall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usak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q #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įkur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lt-LT" sz="2400" spc="-1" strike="noStrike" baseline="30000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sijungimą su Paskirties punk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rūkumai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 paketas patiria vėlini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5013360" y="1981080"/>
            <a:ext cx="30798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33DB-33DE-405D-AB0B-79BDF814669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ikėtinas srau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ku pademonstruoti visus normalaus srauto aspekt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malumą lengviau yra nusakyti kaip tai kas nėra nenormal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FC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for comment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 dokument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FC 793  skirtas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Transmition Control Protoc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FC 768 skirtas UDP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User Datagram Protoc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FC 791 skirtas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IP Internet Protoc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C 792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kir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Internet Control Message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F12B-442D-4AAA-AE79-59430ACA6E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psauga prieš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ewall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ip pusiau-skaidr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ate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Falsifikuoj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lt-LT" sz="2000" spc="-1" strike="noStrike" baseline="30000">
                <a:solidFill>
                  <a:srgbClr val="000000"/>
                </a:solidFill>
                <a:latin typeface="Times New Roman"/>
              </a:rPr>
              <a:t>i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liento rankų paspaudim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ck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– paskirties punkt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i ištraukia sujungimą iš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cklog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eilė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laisvin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esur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tai yr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ak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“real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ack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ebus atsiųst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tai bus tikras susijungimas pakartotin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k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gno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otas kai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ubliuojan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rūkum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idelis skaičius atvirų jungčių jei sistema yra atakuoj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eikia labai rūpestingai parinkt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out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erio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3EEA-368F-4F9E-BDC7-4665113013D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psauga prieš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 Flo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4419720" cy="381636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5181480" y="1371600"/>
            <a:ext cx="3962520" cy="386064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838080" y="52578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aka su pusiau-skaidri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486400" y="51814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lus susijungimas s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usia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dri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65C8-EC1E-44F2-BFDF-FC46527F9D6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762120"/>
            <a:ext cx="84582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ai tam tikr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erveris patiria SYN-Flood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u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stebimi keisti reiškinia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irmiausiai yra sugadinam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dary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laikrodi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The 1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e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klaus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laik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ke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_RCV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ūvyj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augiau ne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 minu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či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3 minutes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) Daug daugiau ne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5-s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ndes kiek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urėt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b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ū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o atsitiktinio laiko interval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ermeta šiuos soketus 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ūv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 ji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pasiliek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ko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eina 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ki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or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ei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tvindy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or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is yr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ūvyj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is neatsaky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rsi jis vis dar būtų užtvindyt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a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sijungi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ei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i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OSEd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oketa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us išardom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užtvindytas port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u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šlaisvint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ekančioms užklausoms vė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0880" y="4648320"/>
            <a:ext cx="83059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limos liūdnos pasekmė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limas variantas, kad  TCP serveris visai negalės atsakyti į užklaus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visi TCP serveriai yra užtvindomi, nebelieka nei vieno, kuris galėtų priimti susijungimo užklausą ir išvesti iš CLOSE būvio soket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90920" y="3049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erveri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1B82-6955-4E04-8B02-17C8943ADA6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P floo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čiamas didelis UDP datagramų kiekis aukos sistemai stengiantis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iaurinti pralaidu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Siunčiam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alsifikuo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aketai iš 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charge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 UDP serviso į 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ech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” servisą kitame hos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omasi -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raudžian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istemos diagnoze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kirtų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etų atėjimą į vidinį tinklą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š išorė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raggle tip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takos gaunasi pasiuntus UDP paketu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ršrutizatoria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roadca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dresu(paketai nukeliauja į aibę tinklų –ir visi tų tinklų hostai atsako)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murf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taka – Echo – į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roadca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dresą). Siuntėjo adresas gali būti pake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FFA9-975A-4DA1-A0E6-2145464959B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P adreso pakeitimas (spoof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YN Flooding, UDP Flooding atakos yra paremtos tuo, kad kaip šaltinio adresai yra nurodomi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dirbti adresai, kurie gali būti atsitiktinai sugeneruoti, bet turėti tikrų adresų įvaizdį, tačiau paimti iš nenaudojamo diapazo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imti iš visai kito, svetimos organizacijos tinklo (aukos tinklo adminai gali pradėt blokuoti paketus, ateinančius iš šio adreso – organizacijos tinklas nekaltai  atsiduria DoS pozicijo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 atsaka verčia siųsti atsakymus SYN/ACK, o jie gali keliauti padirbtais adresais, tuo pačiu užtvindant ir šiuos hos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16FD-42DC-490A-A142-86BA7CD06EE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SYN flooding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ource unreach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9.0.0.0/8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host &lt;----- router &lt;--- Internet &lt;----- router &lt;-- att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TCP/SYN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&lt;---------------------------------------------               Source: 192.168.0.4/32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SYN/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no rout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TCP/SY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&lt;---------------------------------------------               Source: 10.0.0.13/32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SYN/ACK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no route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TCP/SY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        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  <a:ea typeface="Courier New"/>
              </a:rPr>
              <a:t>&lt;---------------------------------------------               Source: 172.16.0.2/32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SYN/A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no ro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urodyti adresai skirti privatiems tinklams, jų nėra maršrutizacijos lentelės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5D5D-16DF-4909-9E15-2C551D24728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 SYN flooding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 valid source ad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kos hostui siunčiamas srautas TCP SYN paketų, nurodant teisingą, tačiau suklastotą adre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ka siunčia srautą SYN/ACK kaip atsakym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žeidžiami du hostai. Jų funkcionalumas krinta arba visai sustabdo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andoma kovoti tobulinant pačias operacines sistemas, kad esant dideliam susijungimo aktyvumui iš vieno taško, tai interpretuot kaip atak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BA5E-7D0F-4C5D-A326-8624A79690F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ketai su neteisingu šaltinio adresu nepraleidži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38080" y="1371600"/>
            <a:ext cx="5105520" cy="48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1.0.0.0/8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router 1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9.0.0.0/8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SP &lt;----- ISP &lt;---- ISP &lt;--- ISP &lt;-- router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&lt;-- attack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A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B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C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  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router 3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/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2.0.0.0/8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019920" y="228600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Maršrutizatoriai, priimdami paketus praleidžia tik tuos, kurių šaltinio adresu nurodomas teisingas ad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D850-8CEC-4C5F-93F8-0E8C0EBAE83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reso pakeitimas-spoof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od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spoofing”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iškia sav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te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astojimą, dar tikslia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tėjo IP adres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astojim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guma žmonių yra suinteresuoti šia klastote, nes mano, kad spoofingas leidžia įsilaužti į mašiną ir lik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šk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onim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ingas pilnai nepaslepia atakuotoj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roblema yra tame, kad visi atsakymai grįžt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tėj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aigi jei jūs suklastojote siuntėją, tai niekad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amatys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sakym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ingas yra nenaudingas normaliai veikl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ingas yra nauding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iose situacijose, kur atsakymo pamatymas nėra būtin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81DD-EC45-426C-9862-05BE153FDB0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dreso klasto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poofingas gali būti aklas arba ne akla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Aklo spoofingo atveju jūs nesužinote atsako, o ne aklo spoofingo atveju hakeris sėdi kažkur šalia ir gaudo (sniffing) paket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poofingas gali būt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naudojamas maršrutizatoriaus adresu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akeis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ustatant adresinę atitikimybę tarp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P bei MAC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dresų yra naudojamos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P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užklausos. Jų skaičiui sumažinti sužinota informacija yra laikoma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cho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entelėse. Jei hakeris pasiųs gretimoms mašinoms ARP užklausą, kurioje bus nurodytas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ršrutizatoriaus IP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dresas ,kuriam atitinkantis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C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dresas bus jo mašinos MAC adresas, tai šį atitikimą mašinos įsirašys į savas ARP lenteles ir ims tikėti, kad maršrutizatoriumi yra hakerio mašina ir siųs srautą į šią mašin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ofingas gali sukelti hostui DoS tipo ataką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ei hakeris panaudos tos mašino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resą ir savo MAC adresą,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i gausis , kad aukos mašina kaip ir išjungta iš tinklo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E306-14B4-4912-8309-D9824BCB45C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atsakoma į Telnet susijungimo bandym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unktas klauso reikalaujamam port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as </a:t>
            </a: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l_client.com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ndo vykdyti telnet </a:t>
            </a: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į myhost.co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l_client.com.38060 &gt; myhost.com.telnet 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774957990: 3774957990(0) win 8760 &lt;mss 1460 &gt; 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sakymas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host.com.telnet &gt; tel_client.com.38060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960000:200960000(0) ack 3774957991 win 1024 &lt;mss 1460 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3650-4FF8-4C60-A065-E91603EB61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ilės numerio at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ormalus susijungimo sudary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133720" y="2590920"/>
            <a:ext cx="502920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33720" y="2590920"/>
            <a:ext cx="5029200" cy="28213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 /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E8C2-BE53-405F-94C0-7F4A3C153CC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ilės numerio at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a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eikia atspėti eilės numerį kurį naudos mašina, su kuria norima susijung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ėra neįmano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in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cijuojam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lus susijungimas ir tada įsiterpiama spėjant pradinį sekos eilės n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psimetama ki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572000" y="4114800"/>
            <a:ext cx="4572000" cy="2133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572000" y="4114800"/>
            <a:ext cx="4572000" cy="24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R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R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R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st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39C1-245E-4171-9F05-F800AA5F9CE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(X)[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]----------S[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Pake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3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-&gt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aktiškaiX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-&gt;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t X apsimetaT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t-LT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pėtas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atspėtas ISN bus neteisingas, susijungimas nepavy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taba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Pake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2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: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-&gt; 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keliauja iki T, kuris gali atmesti jungtį. T yra pažeidžiamas SYN Floodingu, kad nebepriimtų jokių paket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8657-FA24-43E9-881C-3B80CED87DD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eoriškai neįmanoma panaudoti spoofingą TCP jungties atvej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ai yra dėl tos priežasties, kad abi TCP jungties pusės renkas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av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ISN-Initial Sequence Numbers)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adin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ekos numeri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eoriškai tai piln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tsitiktin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kaičius, kurio neįmanoma atspė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aktiškai jis kartais yra lengvai atspėjamas. Mitnikas naudojo šią techniką atakuodamas Shimomur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BB4A-BE17-4638-82C9-0CCB4363883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gene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inal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am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CP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jekte ISN tarnavo kaip priemonė perdavimo problemų išsprendimui, o ne kaip kovos prieš hakerius priemon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nesnėse operacinėse sistemose šių reikšmių generavimas vykdomas pagal paprastesnius algoritm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jami šie metod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na, 64K taisykl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laiku susijęs generav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itiktinių skaičių generatori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613E-B8E5-4A2D-BD2D-CE8B24117E5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64K taisykl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as kiekvieną sekundę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Q-counter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šmė padidinama pastovia konstant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žniausi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8000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inicijuojamas naujas susijungima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Q-counter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šmė didinama kita konstan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žniausi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000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gi žinant ISN vienam susijungimui, galima atspėti sekančio susijungimo IS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1 sekundė – pakankamai ilgas laiko tarpas kompiuteriniame pasauly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64K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sykl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r naudo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SF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nesn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nOS ver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34EB-61DB-4583-8628-5A4349422D7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 laiku susijęs gene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puliarus ir paprastas generav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-generato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a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oj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tsitiktinius skaiči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liz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cijos užkrovimo met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SEQ-generato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s yra didinamas kas kiekvien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x time_units‘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laiko interval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e vis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time_units'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lygaus dydžio, jų ilgis priklauso nuo to kaip jie matuojami, kokia kompiuterio apkrova  i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enesniu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UX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randuoliuose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-generato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s yra didinamas vienetu kas kiekvieną micro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A8C3-1599-44BF-BD06-3E65557E918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SN at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iunčiama eilė SYN paketų iš realaus IP tikslu gauti atsakymus ir juos studijuo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spėjama, kad yra taikoma “64K” taisyklė, tai nagrinėjami skirtumai tarp dviejų, viens po kito einančių SYN paketų, jis turi dalytis iš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000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ei naudojamas koks nors ryšys susijęs su laiku, spėjimo schema grindžiam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 Trip Tim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RTT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i laikas nuo paketo išsiuntimo iki atsakymo gav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udojamasi tokia seka f-j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transmit_TCP(fd_send, NULL, 0,0,0, SOURCE, port, TARGET, TARGET_P, STARTSEQ+i,0, SYN);    stat=wait_packet(fd_receive,&amp;pinfo,TARGET,TARGET_P,SOURCE,port,SYN,20);  gettimeofday(&amp;(time_list[i]),NULL)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o eilės SYN persiuntimų bandoma matematiškai apskaičiuoti, kaip keičiamas ISN skaičius aukos ho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27CC-2EDA-4AA2-A055-FCD0417C065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"/>
          <p:cNvGrpSpPr/>
          <p:nvPr/>
        </p:nvGrpSpPr>
        <p:grpSpPr>
          <a:xfrm>
            <a:off x="3429000" y="4191120"/>
            <a:ext cx="2857320" cy="793800"/>
            <a:chOff x="3429000" y="4191120"/>
            <a:chExt cx="2857320" cy="793800"/>
          </a:xfrm>
        </p:grpSpPr>
        <p:sp>
          <p:nvSpPr>
            <p:cNvPr id="651" name=""/>
            <p:cNvSpPr/>
            <p:nvPr/>
          </p:nvSpPr>
          <p:spPr>
            <a:xfrm>
              <a:off x="3429000" y="4191120"/>
              <a:ext cx="2857320" cy="79380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3429000" y="4191120"/>
              <a:ext cx="2856960" cy="793800"/>
              <a:chOff x="3429000" y="4191120"/>
              <a:chExt cx="2856960" cy="793800"/>
            </a:xfrm>
          </p:grpSpPr>
          <p:sp>
            <p:nvSpPr>
              <p:cNvPr id="653" name=""/>
              <p:cNvSpPr/>
              <p:nvPr/>
            </p:nvSpPr>
            <p:spPr>
              <a:xfrm>
                <a:off x="3429000" y="4191120"/>
                <a:ext cx="2856960" cy="3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429000" y="4191120"/>
                <a:ext cx="2856960" cy="7938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 u="sng">
                    <a:solidFill>
                      <a:srgbClr val="ccccff"/>
                    </a:solidFill>
                    <a:uFillTx/>
                    <a:latin typeface="Verdana"/>
                    <a:hlinkClick r:id="rId1"/>
                  </a:rPr>
                  <a:t>  </a:t>
                </a:r>
                <a:r>
                  <a:rPr b="0" lang="en-GB" sz="46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lt-LT" sz="4600" spc="-1" strike="noStrike">
                    <a:solidFill>
                      <a:srgbClr val="000000"/>
                    </a:solidFill>
                    <a:latin typeface="Verdana"/>
                  </a:rPr>
                  <a:t>Pabaiga</a:t>
                </a:r>
                <a:r>
                  <a:rPr b="0" lang="en-GB" sz="7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55" name="SKATEBOARDER" descr="Skateboard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2514600"/>
            <a:ext cx="236196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7E2D-FF02-4F48-B2E8-0487F600E7A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unktas nesiklauso užklausiamame por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l_client.com.38060 &gt; myhost.com.telnet : </a:t>
            </a: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 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774957990: 3774957990(0) win 8760 &lt;mss 1460 &gt; 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yhost.com.telnet &gt; tel_client.com.38060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:0(0)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k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3774957991 win 0</a:t>
            </a:r>
            <a:r>
              <a:rPr b="0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unktas neegzistuoj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tel_client.com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host myhost.com unreach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ortas blokuot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.com &gt; tel_client.com: </a:t>
            </a:r>
            <a:r>
              <a:rPr b="1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host myhost.com unreachable  - admin prohibited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775E-4375-4265-9C27-7D212D9C63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portas blokuotas, routeris neatsak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is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ers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lėti ir neteikti unreachable pranešim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informuo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l_client.com  kad kažkas yra negerai, tai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_client.co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unči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kartotin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jungimo bandym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kartojim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či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ko interval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urio metu šie pakartojimai yra siunčiami priklauso nuo operacinės sistemos to hosto, kuris siunči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375D-7319-418A-8924-ECFF00ED9C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P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tsaky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 užklausa yra panaudota parodymui kaip UDP atsako į skirting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klaus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hostas klauso reikalaujamam por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slookup.com.45070  &gt; myhost.com.domain : 51007+ (31)    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+ rodo kad rekursija yra leis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host.com vykdo domeno servisą ir atsak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yhost.com.domain &gt; nslookup.com.45070  51007 1/0/0 (193)     (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51007 – užklausos id , 1- atsakymų įrašas, 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name server records and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uthority record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– įrašo ilgis be galvučių 193 bait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AB6-1216-4854-9C9C-EAD38CAFDD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irties hostas nesiklauso reikalaujamam porte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žklaus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slookup.com.45070  &gt; myhost.com.domain : 51007+ (31)     (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host.com nevykdo domeno serv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atsak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yhost.com &gt; nslookup.com :</a:t>
            </a:r>
            <a:r>
              <a:rPr b="1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cmp</a:t>
            </a: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nslookup.com udp port domain unreach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F3F9-8743-42FA-8A14-07E2090097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3T17:11:56Z</dcterms:created>
  <dc:creator>Kristina</dc:creator>
  <dc:description/>
  <dc:language>en-US</dc:language>
  <cp:lastModifiedBy>Kristina</cp:lastModifiedBy>
  <dcterms:modified xsi:type="dcterms:W3CDTF">2004-10-13T09:28:45Z</dcterms:modified>
  <cp:revision>23</cp:revision>
  <dc:subject/>
  <dc:title>Temos</dc:title>
</cp:coreProperties>
</file>