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1526-E0A0-47AD-8C1A-5FA4E31B6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B23F-795F-4AD8-B57B-2A4442E1E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5650-456C-457A-A411-65AB37E75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7097-83EF-4195-B118-CBB4DFF2E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C1D4-E1BC-402A-8C33-772E555E2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B6FD-EF2B-4517-8787-A6EE89291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F8DE-F257-406C-B5DD-758FD282E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4AF2-6BF9-43EA-96AE-1F502E286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D1D6-43B6-419D-B6EB-78089395E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08C7-58A2-423E-A0AD-E6703F5BF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0C6E-B6F3-4AC9-9EF5-FAE14091D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3ECA-6D1F-4EDC-AF11-6743B36B5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1ED3A-4889-4B91-AB4A-8FC1E2B2FD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darby.daemonnews.org/episode.php3" TargetMode="External"/><Relationship Id="rId2" Type="http://schemas.openxmlformats.org/officeDocument/2006/relationships/hyperlink" Target="http://darby.daemonnews.org/episode.php3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540972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laptažodži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33760" y="5028840"/>
            <a:ext cx="2438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2 skyri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990720" y="762120"/>
            <a:ext cx="4875840" cy="1904400"/>
            <a:chOff x="990720" y="762120"/>
            <a:chExt cx="4875840" cy="1904400"/>
          </a:xfrm>
        </p:grpSpPr>
        <p:sp>
          <p:nvSpPr>
            <p:cNvPr id="44" name=""/>
            <p:cNvSpPr/>
            <p:nvPr/>
          </p:nvSpPr>
          <p:spPr>
            <a:xfrm>
              <a:off x="990720" y="762120"/>
              <a:ext cx="4875840" cy="190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990720" y="762120"/>
              <a:ext cx="4875120" cy="1904040"/>
              <a:chOff x="990720" y="762120"/>
              <a:chExt cx="4875120" cy="1904040"/>
            </a:xfrm>
          </p:grpSpPr>
          <p:grpSp>
            <p:nvGrpSpPr>
              <p:cNvPr id="46" name=""/>
              <p:cNvGrpSpPr/>
              <p:nvPr/>
            </p:nvGrpSpPr>
            <p:grpSpPr>
              <a:xfrm>
                <a:off x="990720" y="762120"/>
                <a:ext cx="4874400" cy="1903680"/>
                <a:chOff x="990720" y="762120"/>
                <a:chExt cx="4874400" cy="1903680"/>
              </a:xfrm>
            </p:grpSpPr>
            <p:sp>
              <p:nvSpPr>
                <p:cNvPr id="47" name=""/>
                <p:cNvSpPr/>
                <p:nvPr/>
              </p:nvSpPr>
              <p:spPr>
                <a:xfrm>
                  <a:off x="990720" y="762120"/>
                  <a:ext cx="4874400" cy="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990720" y="762120"/>
                  <a:ext cx="4874400" cy="19036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 u="sng">
                      <a:solidFill>
                        <a:srgbClr val="ccccff"/>
                      </a:solidFill>
                      <a:uFillTx/>
                      <a:latin typeface="Verdana"/>
                      <a:hlinkClick r:id="rId1"/>
                    </a:rPr>
                    <a:t>  </a:t>
                  </a:r>
                  <a:r>
                    <a:rPr b="1" lang="en-US" sz="7300" spc="-1" strike="noStrike">
                      <a:solidFill>
                        <a:srgbClr val="ffffff"/>
                      </a:solidFill>
                      <a:latin typeface="Verdana"/>
                    </a:rPr>
                    <a:t> </a:t>
                  </a:r>
                  <a:r>
                    <a:rPr b="1" lang="en-US" sz="800" spc="-1" strike="noStrike">
                      <a:solidFill>
                        <a:srgbClr val="ffffff"/>
                      </a:solidFill>
                      <a:latin typeface="Verdana"/>
                    </a:rPr>
                    <a:t>                                       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Verdana"/>
                    </a:rPr>
                    <a:t>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" name=""/>
              <p:cNvSpPr/>
              <p:nvPr/>
            </p:nvSpPr>
            <p:spPr>
              <a:xfrm>
                <a:off x="990720" y="762120"/>
                <a:ext cx="4875120" cy="1904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50" name="sourcewars" descr="Go to this week's installment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14400" y="887400"/>
            <a:ext cx="4952880" cy="404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B3F6-D112-4FBB-ACCF-3C698D88F63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Brute-force log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Remiamasi tais pačiais metodais kaip ir atspėjant slaptažodžius tik dirbama greičiau. Tikslas – greit rasti veikiantį prisijungimo vardą – slaptažodį kol ataka neužfiksuo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Kaip priešpriešą šioms atakoms galima naudoti prisijungimo užrakinimą(po kelių nesėkmingų prisijungimo bandymų) – galima sulaukti DoS tipo atak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B6CD-8277-4160-AC27-77A1DF7CD3C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ako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rieš slaptažodži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i,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 negali atspė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aug informacijos apie jus turintis žmogus,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l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daryt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li sudaryti apie pusę milijono spėjinių per sekundę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akos naudojant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odyn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i kitus triukus, kuriuos mums atrodo kad </a:t>
            </a:r>
            <a:r>
              <a:rPr b="0" lang="lt-L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ik me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ame sugalvoję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avyzdžiui: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ack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udoja daugelį filtrų, taiko perstatymus mėgindama atspėti slaptažodį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1DCB-8048-4702-95CD-98B4EC5BEDB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imes New Roman"/>
              </a:rPr>
              <a:t>Slaptažodžio nulaužimas (cracing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Tai efektyvesnė priemonė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nustatant slaptažodžius, nepadeda logino užrakinimas, nes vykdoma off-line principu. Programos dirba su tam tikrais dump failais, kurių išgavimas iš sistemos vykdomas naudojant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buferio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perpildymo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atakas prieš sisteminio lygio serverio proces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Šito tipo ataka reikalauja, kad atakuotojas turėtų tam tikras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priėjimo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teises sistemoje – tai gynyba ir susiveda į privilegijų bei teisių, kurias turi vartotojai valdym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Tačiau tokie įrankiai, kaip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  <a:ea typeface="Arial"/>
              </a:rPr>
              <a:t>Lp0phtcrack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  <a:ea typeface="Arial"/>
              </a:rPr>
              <a:t>LC3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ir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  <a:ea typeface="Arial"/>
              </a:rPr>
              <a:t>John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  <a:ea typeface="Arial"/>
              </a:rPr>
              <a:t>The Ripper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adarė slaptažodžių nulaužimo procesą labai trivialiu, todėl vartotojai turėtų naudoti tokius sunkiai nulaužiamus slaptažodžius, kuriuose būtų simboliai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  <a:ea typeface="Arial"/>
              </a:rPr>
              <a:t> "@&amp;#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9FE6-A323-481D-9631-9164D9E9028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Arial"/>
                <a:ea typeface="Arial"/>
              </a:rPr>
              <a:t>password sniffing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Slaptažodžių gaudytojas gali gaudyti slaptažodžius iš tinkl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Tai daroma su 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Windows password hashes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elnet sesi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m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HTTP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informacija – kai ji keliauja nešifru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TP, e-mail POP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i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IMAP proto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ol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ai taip pat nėra apsaugoti nuo šio tipo atak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Apsaugai siūloma naudoti SSH vietoj Telnet, saugų FTP,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POP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Slaptažodžių gaudymas nereikalauja aukštų privileginių teisių, normalus lokalaus administratoriaus loginas laptope gali būt pakanka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3AB0-2350-4EB1-B41F-392E68B9E63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niff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gram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Leidžia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žinot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in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sword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mbinacijas ir kitus duomenis iš daugelio(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text protocol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) atviro kodo protokolų, tokių kaip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FTP, Telnet, SMTP, HTTP, POP, poppass, NNTP, IMAP, SNMP, LDAP, Rlogin, RIP, OSPF, PPTP MS-CHAP, NFS, YP/NIS, SOCKS, X11, CVS, IRC, AIM, ICQ, Napster, PostgreSQL, Meeting Maker, Citrix ICA, Symantec pcAnywhere, NAI Sniffer, Microsoft SMB, Oracle SQL*Net, Sybase, and Microsoft SQ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5FB9-7179-412D-AA43-519EB73A8EC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ip apsisaugoti nuo tokio tipo atakų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niff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ikalauja, kad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nklinė sąsaj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irbtų “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miscuo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modoje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keriui reikalingo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ot’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eisės slaptažodžių gaudymu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sisaugant reikės taip apsaugoti sistemą, kad hakeri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galėt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rimti root’o teisių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udojam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šrutizatoria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urie sumažina riziką, kadangi hakeris galės vogti –sniffinti tik vieną hostą iš kiekvieno sukompromituoto hosto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5B6F-4684-4C4F-BCC1-C1A4F5285AF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aslaugi 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inė įrang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totojui siūlo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įsimin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o slaptažodį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ie gali būti pavogiami iš sistemos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zika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totojui yra tokio laipsnio, kokio laipsnio prieinamumu ta sistema pasižymi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šsaugoti slaptažodžiai </a:t>
            </a:r>
            <a:r>
              <a:rPr b="0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li būti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odomi</a:t>
            </a:r>
            <a:r>
              <a:rPr b="0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viru tekst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udojant specialius šiam tikslui skirtus įrankius ( jų paskirtis gali būti -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dė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rtotojui, kuri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begal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isiminti slaptažodžio po to kai nebenaudojo jo kelis mėnesiu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F7F4-ADB2-4049-96B4-73CCCE88792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laptažodžių įsimin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000000"/>
                </a:solidFill>
                <a:latin typeface="Times New Roman"/>
              </a:rPr>
              <a:t>Jei juos užsirašote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r ir kaip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uos užsirašote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žsiraš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yt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 patį slaptažodį, o tik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zę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uri padeda atsiminti slaptažodį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fl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You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Reikia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r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ė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avo schemą slaptažodžiams įsimint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40A8-732E-4241-8D1F-A9312832C77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Kontrpriemonė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ganizacijoje reikia sukurti priimtiną slaptažodžių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itiką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iki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testuo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laptažodžius su slaptažodžių nulaužimo program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kia įdiegti įrankius, kurie tikrina slaptažodžius, kai jie yr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kuriam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X – Npasswd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Reikia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vers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as kažkiek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iko keisti slaptažodį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lima kaupti sen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laptažodži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8007-A87B-43C6-8EB8-DEAC3FD5A42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X sistemų naudoja </a:t>
            </a:r>
            <a:r>
              <a:rPr b="1" lang="lt-LT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shadow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laptažodžius, tai hakeriams teikia šiokių tokių sunkumų prieinant prie jų, nes slaptažodžiai yra šifruoti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Naudojama NIS+.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čiau jei yra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udojama nesaugi NI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ba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gai sukonfigūruota NIS+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stema, tai pažeidžiamumas išliek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E1BA-7AE1-48E8-B67D-18F1D7945C5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utentifikacija ir identifikac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metodai, kurie leidžia įsitikinti, kad vartotojas iš tikrųjų yra tuo, kuo prisistato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ikavima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sutapatinimas, tapatybės nustatyma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entifikacij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tai p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virtint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atikrinimu pagrįsta identifikacij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m, kad vartotojas galėtų pasiekti resursą, turi būti nustatyta,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 tai tikrai tas individ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uriuo jis prisistato, ar jis turi reikiamas liudijimus, ar jam buvo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teiktos būtinos teisės/privilegijo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likti tuos veiksmus, kurių jis užsipraš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765D-EE67-4DC5-921C-D3DB89A2330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AM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1995m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Pluggable Authentication Modules)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tai autentifikacinis  metodas, kuris duoda administratoriui galimybę valdyti vartotojų prisijungimus ir tai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aip jie save autentifikuoj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istemos administratorius gali įjungti naujus autentifikavimo metodus instaliuodamas naujus PAM modulius ir keisti autentifikavimo politikas redaguodamas konfiguracinius fail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am sistema vartotoj</a:t>
            </a:r>
            <a:r>
              <a:rPr b="0" lang="lt-LT" sz="1600" spc="-1" strike="noStrike">
                <a:solidFill>
                  <a:srgbClr val="000000"/>
                </a:solidFill>
                <a:latin typeface="Verdana"/>
              </a:rPr>
              <a:t>ų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utentifikavimui</a:t>
            </a:r>
            <a:r>
              <a:rPr b="0" lang="lt-LT" sz="1600" spc="-1" strike="noStrike">
                <a:solidFill>
                  <a:srgbClr val="000000"/>
                </a:solidFill>
                <a:latin typeface="Verdana"/>
              </a:rPr>
              <a:t> leidžia naudoti 7 skirtingus būdus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lt-LT" sz="1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s/key, OPIE, opie_access, a cleartext password, Kerberos IV, Kerberos 5, and the traditional Unix password authentication system.</a:t>
            </a:r>
            <a:r>
              <a:rPr b="0" lang="lt-LT" sz="16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ttp://www.freebsd.org/doc/en_US.ISO8859-1/articles/pam/index.html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ttp://www.onlamp.com/pub/a/bsd/2003/02/20/FreeBSD_Basics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B874-74B0-467F-9A3D-4FFA8CD5FE4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vi-faktorė autentifikacija.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68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i kuriose sistemose naudojama kelių autentifikavimo priemonių kombinacij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ktroninė bankininkystė bei e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ersla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8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Token ar smart kortelė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600" indent="-186480" algn="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ienta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ziška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do savo token/smart kortelę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600" indent="-186480" algn="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k jis vienas žino savo kortelė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N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d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utentifikuojam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viem metoda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lt-L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uo ką jūs turite ir tuo ką jūs žinot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3040-FE4F-4C26-AEE7-017202F6CD4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3352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Centrinis serveris autentifikuoja vartotoją </a:t>
            </a:r>
            <a:br>
              <a:rPr sz="2800"/>
            </a:b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- serveris bei “smart” kortelė–žino slaptą raktą, serveris generuoj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tsitiktinį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skaičių, jį šifruoja slapto rakto pagalba, “smart” kortelė žinodama slaptą raktą dešifruoja šį skaičių ir siunči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tgal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atsitiktinį skaičių, jei jis sutampa su sugeneruotu – vartotojas autentifikuojam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rtais naudojam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vipusė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utentifikacija, kai iš vartotojo pusės taip pat generuojamas atsitiktinis skaičius, jis koduojamas ir siunčiamas serveriui kartu su dešifruotu skaičiumi, o serveris irgi turi gražinti dešifruotą skaičių – </a:t>
            </a:r>
            <a:r>
              <a:rPr b="1" lang="lt-LT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taip autentifikuojamas serveri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7568-21B8-4C16-B62F-32FF64BE9CC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enkartiniai slaptažodžiai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 generuojami 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rteli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b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inė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įrangos, arba vartotojui pateikiama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ąraš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ienkartinių slaptažodžių, kuriuos jis turi iš eilės naudo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enkartiniai slaptažodžia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tai strategija naudoti slaptažodį tik vieną kartą, tai jei jį sužinos, jo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b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lim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naudo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Toks slaptažodžių panaudojimas yra tikslingas Interneto kontekst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C0EF-2478-4ED6-B2A9-8FA569724B7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dicin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aptažodž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darom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ienkartiniai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Į slaptažodį įjungiama užšifruota laiko žymė (encrypted timestamp) – taip elgiamasi KERBEROS metode. Kadangi negalima pakeisti laiko žymės nežinant slaptažodžio, sunku juo pasinaudoti.  Šiam metodui deja reikalingi du dalyka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peciali klientinė programa, sugebanti į slaptažodį įjungta laiko žym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ikalinga gera sinchronizacija tarp kliento ir serverio, priešingu atveju ateinantis slaptažodis bus arba jau negalimas arba dar negalima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0A9A-33E3-422F-B024-9DEA050B4AA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tas būdas padaryt tradicinius slaptažodžius vienkartiniais naudojant sistemą klausimas-atsakymas(challenge-response system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sakymai autentifikuotam vartotojui būna iš anksto žinomi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nkai iš anksto duoda slaptažodžių sarašą, o jūs po prisijungimo paprašo įvesti n-tąjį skaičių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59D8-7086-4CAD-83D3-3321601D88C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chronizacij</a:t>
            </a:r>
            <a:r>
              <a:rPr b="1" lang="lt-LT" sz="4400" spc="-1" strike="noStrike">
                <a:solidFill>
                  <a:srgbClr val="000000"/>
                </a:solidFill>
                <a:latin typeface="Times New Roman"/>
              </a:rPr>
              <a:t>o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enkartiniai slaptažodžiai dažna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eudoatsitiktini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kaičių seka, jie dažnai yra įdiegiam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inėj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įrangoje. Naudojant vienkartinius slaptažodžius, kuriuos pateikia techninė įranga, gali kilti problemų su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chronizacij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chronizuotos laik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rtelės generuoja naują slaptažodį kiekvienu specifiniu laiko momentu, tą patį daro ir serveris. Reikalinga gera sinchronizacija su serverio laik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D6A1-E021-4287-BC82-1F1592DA346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metriniai įrankiai.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totojas turi būti identifikuojamas ne pagal ta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ką jis/ji žino”, bet pagal tai “ kas būdinga jam/ja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ą įgalina padaryti biometrinė (biometrics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ologija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ai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limybė automatiškai atpažinti asmenį naudojant pirštų antspaudus, pagal veidą, akis, balsą, rankos geometriją,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onalinį parašą ar spausdinimo manierą.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9FBB-B690-44CF-B94C-870A216F171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ila, bet biometrinės sistemos vis dar netinka panaudojimui Interne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ek daugiau šansų teikia technologija, pagrįsta “balso antspaudu” – kompiuteriai turi mikrofonu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valai tarp klavišų paspaudimų gerai charakterizuoja individualią spausdinimo manierą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5388-32BC-4B09-AA99-A721C4D4F3E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S slaptažodžiai turi būti naudojami kiekvienam organizacijos kompiuteriui tikslu apsaugoti priėjimą prie BIOS konfigūracinių utilitų.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rting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S slaptažodž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iekvienam kompiuteriu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guliariai juos keis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mpiuterių BIOS slaptažodžius reikia laikyti saugiame saraš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iems kompiuteriams turi būti nustatyta, kad jie pasikrautų tik iš kieto disk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ikia patikrinti ar kartais negalima įeiti su backdoor slaptažodži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mpiuterinės dėžes reikia užrakinti, užrakinti kambarius, kai nieko nėra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11C9-E0B3-4DED-8508-101086DA519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utentifikavimas remias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28191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o, kas būdinga individui</a:t>
            </a: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o, ką individas žino</a:t>
            </a:r>
            <a:r>
              <a:rPr b="0" lang="lt-L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o, ką individas turi</a:t>
            </a:r>
            <a:r>
              <a:rPr b="0" lang="lt-L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5363-246E-4B8E-A86A-2F21AF3779D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utorizac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sprendžia kokius kokio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rso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ributus gali naudoti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entifikuota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rtotoja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os esybė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pavyzdžiui vartotojai, aplikacijos, sistemos) kurios prieina prie informacijos šaltinio turi turėti atitinkamas 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rizacijas į šį resursą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rizacija reiškia leidimu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BDAC-E6B1-4797-A167-4D6FE28A9F7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utorizac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rizacija suteikia galimybę kontroliuoti vartotojų veiksmu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rizacija turi būti paremta mažiausių privilegijų principu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eigų atskyrima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ks žmogus negali atlikti vienas viso proceso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didėję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skaitomuma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en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dministratoriaus login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FF64-D4FF-49F3-BF50-99E13F78357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utorizac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einamu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tai galimybė matyti resursą ir rinkti informaciją iš / apie šį resurs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naudojimas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yra galimybė naudoti resurs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ifikacija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tai galimybė keisti tą resurs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kūrimas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tai galimybė kurti naują resurs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šmetimas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tai galimybė išmesti resurs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dymas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tai galimybė pakeisti resurso autorizacij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B5A2-5317-4651-BD1E-E9C5C8001DD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laptažodži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uguma kompiuterinių sistemų yra sukonfigūruotos taip, kad jos naudoj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aptažodžius kaip pirm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r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enintelę gynybinę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psaugos linij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otojo autentifikacijos( procesas individo identiškumui patikrinti) schemoje yra naudojami vien tik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totojo prisijungimo vardas ir slaptažodis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roma prielaida, kad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k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itinkamas vartotojas žino slaptažodį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entifikacija, paremta </a:t>
            </a:r>
            <a:r>
              <a:rPr b="1" lang="lt-L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uo, ką jūs žinot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986D-3BBB-41FC-9BB3-BD5224075F7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ugos problem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laptažodžių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nebuvi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leidžia laisvai prieiti prie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konfidenciali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duomen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artotojai dažnai pasirenk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lengva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įsimenamą slaptažodį, - vardą, gim metus Gaila, tačiau tokie slaptažodžiai labai paprasta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nulaužiam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(atspėjami) panaudojant specialias program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ei vartotojas pasirenk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udėting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slaptažodį, jis dažnai jį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užsiraš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arba sukuria komandinį failą, kad nereikėtų jo įvedinėt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aliekami sistemo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įdiegim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metu naudoti arba demonstracinėms versijoms taikytini slaptažodžia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87A4-6C97-4063-9F6A-16BB54F9FAD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aptažodžiai  yra pažeidžiami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 jie dažnai yra perduodami tinklu </a:t>
            </a:r>
            <a:r>
              <a:rPr b="1" lang="lt-LT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atviru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ekstu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(TELNET)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 esant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kankamam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sursų kiekiui (žinių, įrankių, kompiuterinių pajėgumų) jie gali būti atspėti ir nulaužt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3-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žgrobti slaptažodžius keliaujančius tinklu pasinaudo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jan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aliomi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gramomi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149E-538E-439D-AFFB-FFA36FBE9C1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tak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Dažniausiai sutinkamos atakos, nukreiptos prieš slaptažodžius, ta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laptažodžio atspėjima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brute forc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Crac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sniff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AA8C-509B-44F4-9DB3-9BAD220FFAC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tak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ukompromituo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slaptažodžiai vienas iš dažnai pasitaikančių sistemos pažeidžiamumų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artotojai yra nerūpestingi su savo PIN, slaptažodžių politika yra sunkiai įdiegiama, atakuotojai turi daugybę įrankių, leidžiančių pažeisti slaptažodži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takuotojas, įgavęs slaptažodį įgyja ir vartotojo tei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Organizacija turi šviesti, mokyti savo darbuotojus laikytis saugos politikos, o taip pat imtis tam tikrų priemonių apsisaugant prieš slaptažodių atak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203B-55BA-45E0-A393-5F4BC0CDA38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Arial"/>
              </a:rPr>
              <a:t>Slaptažodžio atspėj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laptažodžiai įvedami ranka arba naudojant programines priemones. Yra daug tokių programų, kurios yra įvairaus sudėtingumo, bandomi įvairūs variantai, remiamasi žodyna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Tai gali būti atliekama prisijungus – on-line režime  arba dirbama su turimais duomenimis off-line – neprisijungus prie sist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4019-FE58-4547-AF8A-4EC09B1C083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4T18:06:56Z</dcterms:created>
  <dc:creator>Kristina</dc:creator>
  <dc:description/>
  <dc:language>en-US</dc:language>
  <cp:lastModifiedBy>Kristina</cp:lastModifiedBy>
  <dcterms:modified xsi:type="dcterms:W3CDTF">2004-09-15T08:15:08Z</dcterms:modified>
  <cp:revision>7</cp:revision>
  <dc:subject/>
  <dc:title>Slaptažodžiai</dc:title>
</cp:coreProperties>
</file>