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DC1-24BB-4DC8-BECA-7E121C88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7C46-C30B-4DEF-9E8E-2CE3FE01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976-30A1-4012-A48B-91A66413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FF7-B159-4A9E-9285-6D53FFF5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DB1-C680-4970-BC96-2ABFB5FB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B8A-E129-43F4-9215-0EB00446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286-3A1D-443C-80CA-147F6316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FA9-9648-4BB5-A35A-FBC06C8A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A34-3173-410B-9E3B-76D9E894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814-C500-4F31-909A-7DD892E3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37B-E2D0-4982-AD9A-9888383C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A35-8DAA-483A-BA26-B6DE2F7C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1E54-433C-450B-B128-52AF7AD09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81480" y="4876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3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ile2546657_datori2" descr=""/>
          <p:cNvPicPr/>
          <p:nvPr/>
        </p:nvPicPr>
        <p:blipFill>
          <a:blip r:embed="rId1"/>
          <a:stretch/>
        </p:blipFill>
        <p:spPr>
          <a:xfrm>
            <a:off x="457200" y="0"/>
            <a:ext cx="59436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F69F-C2C6-43FF-B548-E83AD32BEB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a dokument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invento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z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po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sakingi asmen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el Nr nenumatytiems atveja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93F-3548-4CD8-AD5B-32095532E7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dėl reikalingas saugos audit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ja yra g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 tikėtis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uoj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kos suderinamumą su realy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kų rizik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g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g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akų įnešamą sugriovimų laipsn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daro tinkamus atsak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 saugo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F38-BD86-4C01-9EB6-D3D5A9B88C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ėl reikia atlikti tinklo auditą?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os saugumo auditas – tai rim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daug žinių reikalaujantis proc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dažnai nepraneša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ų žin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panaikina jūsų iliuzijas apie jūsų tinklo sau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a yra sunkus darbas jį vykdant ir sunkus procesas išaiškinant pašaliečiams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ditas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šališkai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įvertina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jūsų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žiūrimo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tinklo saugą </a:t>
            </a:r>
            <a:r>
              <a:rPr b="1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dovybės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aky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itas kuris pasako jums tik tai, ką jūs jau ir taip žinote nėra daug ver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C48-98F9-4AD3-A6A5-075AAE9E57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dažnai yra reikšmingas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, n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ų pir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is duod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šališk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žiūrį į jūsų tinklą, kurio neįtakoja nei vidinė politika, nei tvarkaraščio ribojimai, resursų limitai ar jūsų organizacijos žinių lyg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uditorius 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ią metodolog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rinėjimų atlikim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čia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rius turi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kirtingą perspektyv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Geras auditoriu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na išanalizavę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šim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 šimtus tinklų , yra matęs problemas ir sprendimus, apie kuriuos jūs gal nežino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8D9-9D8B-49D5-A412-5743D27EE0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aspektai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680" y="1523880"/>
            <a:ext cx="6096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diza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įdieg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ų sistemų architektū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Hostų sa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zinė sa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tatymas po nelaimė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ir procedū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akymo laikai sprendžiant proble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agavimas į kritines situaci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lgsena nedarbo val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8C0-F32B-488A-83EA-319F933C75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etod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tliekant auditą kertinis akmuo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osofin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ūri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, kur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ikomas matuojant tinklo saugumą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j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762-F9AA-43F7-96EC-E26903DF86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uol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itoriu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ai atakuoja tinkl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į testuoda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lamoji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tika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aidimas tipo “užgrobti vėliavą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auditorius sugeba užgrobti vėliavą – tai yra puolamas tinklas yra pakankamai sukompromituojamas nors jūs bandėte tam užkirsti kelią – taigi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las neatlaiko test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94C5-F74F-41F6-A428-86D1350C20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tipai: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Zero-Know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uolimas ( puolimas nuo nulio). Auditorius žino tik taikinį. Visa kita informacija kuri bus panaudojama puolime yra auditoriaus surenkama. Tai modeliu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taką visiško prašalieč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iš išorės). Šis audito tipas užima daug laiko ir brangiai kainuo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rtial-Knowledge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puolimas su dalinėm žiniom). Auditorius nemažai žino apie taikinį: DNS IP numerius, telefonų numerius serverių, palaikančių “dialin”, e-mail, proxy-serverius ir t.t. šis audito tipas yra tikriausiai pats bendriausias ti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B25-1590-4598-8E9F-CCE6E1C8FA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ull-Kno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uolimas. Tai atakuotojas su pilnu tiklo žemėlapiu, administratoriaus slaptažodžiais ir visa kita ką jūs galite jam pasiūlyti. Šis audita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modeliuoja ataką iš vidaus, žinančio žmog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Jei jūsų tinklas gali išlikti po tokios rūšies audito, jis turi įspūdingą saugumą. Tai gali reti tinklai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Zero-Effect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nulinio efekto). Uždedami suvaržymai auditoriui, apribojančiam jį nuo naudojimo atakų, kurios galėtų modifikuoti puolamą sistemą arba sužemintų puolamos sistemos serviso lygį. Tai panašu į auditą produkciją gaminančios sistemos, kai jūs norite pratestuoti, tačiau nenorite trukdyti produkcijos gamyb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432-F1B1-495B-B7AB-7B0C440296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ti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ull Penetratio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Auditoriui leidžiama modifikuoti sistemą, jei tuo galima įrodyti kad puolimas galimas, nesvarbu kaip tai atsilieps puolamai sistem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o-Holds-Barred Penetratio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Bet kokia technika kuri gali būti panautota yra leistina atakuotojui. Gali būti naudojami kyšiai, socialinė inžinierija, dokumentų vagystė, popieriaus skiaučių tyrinėjimas ir k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434-C88B-475A-ACD1-C5BF74A205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ėra garantijos, kad tiriamas tinklas bus saugesnis nei netiriamas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ėl reikalingas tinklo aud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tip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turi būti matuojama audito m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turi atlikti audit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iami rezultat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E5C-9AB7-48CC-9254-53B0D9CF7E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Teigiamos pus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ėkmingas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rafišk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vaizduoja tinklo proble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tuo padidind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nansavimo šansus papildomam tinklo saugu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Ribotas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nustatytais tikslais ir ribotom atakos priemonėm yra priimtinai nebrang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-holds-barred 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artimai panašus į tą būdą kuriuo atakos yra daromos realia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E5B-97B6-4389-A0C3-0F0B7FA6C1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ol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daugiau matuo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ditori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ntrybę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man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ei matuoja gynėjo kruopšt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uo kruopštesnis yra audito tipas tu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nkiau yra jį suplan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Puolimas reikalauja, kad silpnos vietos būtų nustatytos ir ištirtos, ir reikės keletos tokių ciklų tam kad būtų pasiektas puolimo tikslas. Iš anksto sunku pasakyti kiek laiko tai uži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pribojimai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uriuos jū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uždedate auditoriu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šio tipo audite gali būti būtinais jūsų tinklo apsaugai, bet jie gali duoti nukrypimą nuo realaus atakuotojo pasiekiamų rezultatų ( kuris veiks be apribojimų). Tai gali sukelti iliuziją, kad jūsų tinklas yra saugesnis nei iš tikrųjų y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20A-6604-4B0B-9E8B-B5B118BFCA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odugnus puolimas reikalauja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ditorius modifikuotų tinkl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backdoors( kaip realus atakuotojas). Tai pakeičia sąlygas i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mažin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jūsų tinklo saugumą. Kadangi audito tikslas yra padaryti tinklą saugesniu, jūs turite susitaikyti su saugumo susilpninimo idėja kaip dalimi proceso pagerinančio jūsų tinklo saug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audito tipas reikalauja kad jū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priai pasitikėtumėte auditoriu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udito gale auditorius turės daug jautrios informacijos apie įėjimą į jūsų tinklą. Jūs turite pasirinkti tokį auditorių kuriam galite patikėti tokią informacij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B74-BB01-469E-86AE-F1E8150CAC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išvad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portas apie sėkmę ar nesėk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kokio tipo atakos pasisek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išmėgintų atakų tip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talus aprašymas atakų, kurios nebuvo išmėgintos dėl uždėtų auditui apribojim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prašymas saugos spragų, kuriuos pastebėjo auditori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simal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ūlomi konfigūraciniai pataisymai arba programinės įrangos atnaujinimai, kurie eliminuotų arba minimizuotų problemas pastebėtas audito metu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03A-B07C-4FD4-A855-BF49FA8003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ė analizė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uditas yra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džiai detalizuotas revizijos sąraš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augumo aspektas yra egzaminu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as pagal tikrinimo sąrašą ir blogas stovis yra fiks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ei rastas problemų skaičius ir jų aštrumas yra pakankamai žemas, tinklas auditą praein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yra perdaug problemų, tinklas fiksuojamas kaip nesaug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DBA-EF35-4F6F-BA09-F04A66CA84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figūracinė analiz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udito tipas reikalauj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ilno priėjimo prie tinklo galimyb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lno tinklo žinojimo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Knoledg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ip kad puolamojo audito atvej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ngi tai nėra puolimo tipo auditas, iš auditoriaus nereikalaujama pralaužti tink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 gera šio priėjimo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, kad matavimai gali būti atlikti pilnoje jūsų priežiūroje.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 gera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 kad matavimus yra lengviau suplanuoti nei puolimo eig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2BA-E4EC-4081-89E5-AE3D470351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etap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i perprasti tinklo dizainą ir konfigūraciją taip pat gerai kaip ir sistemos tiksl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būti sudaromas audito tvarkarašt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avimai ir duomenų surink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inkti pakankamai informacijos iš kiekvien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nklo komp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nt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stų atlikti saugumo analiz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ra apklausiami žmonės atsakingi už įvairias operacijas ir tinklo saugą taip pat kaip ir tinklo vartotoj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urinkti matavimų bei interviu metu duomenys yra analizuojami ir sudaromas tinklo saugumo vaiz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196-63C1-4A8F-962D-3432CB0869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uomenų rink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okalbiai su žmonėmis-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v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jos apžvalg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g įrašų tyrim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is tyrimas, matavim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4491-9F7D-4E09-960C-FF15259786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okalbia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nku nusakyti, lengva padary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ai ignoruoja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ai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ysadm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dybinink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 žino – matė saugos politik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 jiems galima/ kas ne jų žodž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 jiems prieinamos root teis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m naudojama sistema, kokie kritiniai sistemos tašk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FCB-2AC5-4BAE-95F2-0C70938C5B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 apžvalg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invento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z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 topolo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tinklo sandara, maršrutizatoriai, ugniasienės, serveri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aršrutizatorių / ugniasienių taisyklė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g įrašai, jų rinkimo taisyklė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79A-C8B3-40A6-B280-C18B5219219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oceso ei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ikite tinklo 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ditą </a:t>
            </a:r>
            <a:r>
              <a:rPr b="1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ty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testuodami viską kas jums atrodo reikali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tvarkyki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asta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kvieskite 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uditorių iš išorė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leiskite jam atlikti testavi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tvarkykit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astas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ą šį procesą užbaigus turėsite </a:t>
            </a:r>
            <a:r>
              <a:rPr b="1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erai apsaugotą tinklą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BA3-1846-484F-BA90-4703C1EA57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atavi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būti sudaromas matavimų pl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turi būti suderinamas su organizacijos atstov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tavimo įrankiai turi būt patikimi, jų kodai turi būti patikri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rinama, siekiant įsitikinti, ar tinklą gerai saugo ugniasienės, ar nėra skylių programinėje įrangoje, ar gerai fiksuojamos problemos log įraš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6E57-F85C-4B37-B2FD-0CC5453D4A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Fizinė sau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alpų sauga – ypač serverių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s gali įeiti, ar yra registracijos žurnalai, kas turi rak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iėjimas prie hostų, serveri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paliekami kompiuteriai pertraukų me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psauga patalpų nuo stichinių nelaimi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DA7-798A-494B-A57C-0EFD716A5D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apor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o ruoš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ra paruošiamas detalus raportas aprašantis tinklą ir visus trūkumus ar potencialius trūkumus, kurie buvo atrasti analizės eigo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orto pristaty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aportas pristatomas tiriamai organizacijai su trūkumų aptarimu ir potencialiu galimu patvarkymu ar siūlomu dizaino pakeitim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E74-207B-4C92-94D3-6C0551CA81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giamos pusė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s audi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ruopštes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olamas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vertinamas sumanumas ir kruopštumas jūsų darbuoto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Matavimai gali būti atliekami tiesioginėje jūsų priežiūroje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okiu būdu jūs žinote tiksliai kokia informacija apie tinklą buvo parodyta audito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oriz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ali būti garantuojama auditoriui tik duomenų surinkimo faz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būti auditas atlikt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 maža arba be jokios įtakos sistemos veikl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viau su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arkaraš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imo atvej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7E6-BC7D-46FD-AC01-2093E7FC70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Daugiau išlaid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nei puolamo audito atvej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alauj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ukštai kvalifikuoto auditoria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ne vien tik įrankius įvaldžiusio žmoga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alinga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platus matavim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y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ma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ganizacijos tinklo jų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dorojimu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9F3-C6CC-4BE7-B4A5-24B11B6976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v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talus raportas, aprašantis trūkumus rastus analizės me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kusija apie tai kaip šie trūkumai gali būti ištaisyti ar išeliminu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sima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nklo dizaino analiz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odymas šaltinių, iš kurių galima gauti atnaujintą programinę įran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6C57-5638-480A-ABFD-3CC78E312CB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jūs tikitės iš aud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supratus, jums bus lengviau pasirinkti auditorių ir jums seksis geriau su juo bendraut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o audito tikslas turėtų būti  - atskleisti įdomią ir išsamią informaciją apie jūsų tinklo saugu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as audi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Kai kurie auditai nėra rimti, nors yra atlikti su deramu stropumu. Pavyzdžiu gali būti auditas, kurio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alauja biznio partneriai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metu siekiama atskleisti silpnas saugumo puses, kad jas galima būtų pataisy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uopšč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o audito esmė yra parodyti, kad nėra rimtų silpnumų jūsų saugu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779-4BD9-41B9-BFF1-B62E052BC0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o rezultat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rezultati bus įdomūs tik tu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veju, jei jūs jų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žinosite iš anks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jūs ruošiatės atlikti auditą,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ūs turėtumėte užtaisyti visas skyl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tada pažiūrėti, ką pasakys auditorius. Nerašyta audito žaidimo taisyklė yra ta, kad auditorius turi kažką ras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dito informacija turi bū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s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Jūs norite sužinoti n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 kas yra blogo su tinklo saugumu, bet norite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oti viską kas įmanoma apie j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Kuo daugiau įdomių faktų auditorius gali jums atskleisti, tuo jums geria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16E-CF78-4DA9-86FC-3C312B8415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škus problemos formul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žnai sutinkamas auditorių nepasitenkin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tai, kad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totojai nežin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 jie no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 nenori kad jiems būtų pasakyta ką jie g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Reikia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ir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m lai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pateik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i kurių minčių auditoriui, kaip pavyzdžiui apie matavi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kuriuos reikia atlikti, kokius tinklo elementus norima ištir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s iš to gausite didesnę naudą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744A-A6C1-4C01-AF3E-DA25F04DA74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ros sritys vertos dėmesio yr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ungtis tarp Interneto ir jūsų tink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ungtys tarp jūsų tinklo ir biznio partner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emonės kuriomis naudojasi jūsų darbuotojai nutolusiame ryšyje su darbo vi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dinė tinklo infrastruktūra (DNS serveriai, failų serveriai, pašto serveri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dinė specifinė-biznio infrastruktūra ( duomenų bazių serveriai, procesų kontrolės serveria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rbalaukio (desktop) apli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cesai ir procedū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lanai atstatymui po nelaimi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B1B-CEA2-46A6-B333-046A14D85F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di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i susiję su </a:t>
            </a:r>
            <a:r>
              <a:rPr b="0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mažom problemom, kaip pavyzdžiu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atlikti savo tinklo audit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ą tikrint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, jeigu problemos lengvai nepasitai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rasti auditorius iš išorės, kuriais galima būtų pasitikėti?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837-CECF-4AC8-8192-4C47263DD7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as </a:t>
            </a:r>
            <a:r>
              <a:rPr b="0" i="1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spektas audito yra žinojimas, kurios mašinos turi būti audituojamos ir kurios n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ei analizei ga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irink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etą skirtingų krypč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iklausomai nuo to , ką norite pamatuo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yzdžiui jūs galite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ov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 visos mašinos duotoje grupėje prisilaiko, remiasi tais pačiais standartai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a jūs galite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pnu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kant po vieną mašiną iš skirtingų grupių sulyginkite jas pagal kritinius saugumo rodikli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ola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atveju jūs norėsite atrinkti kuri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šin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ina už rib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gūracin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lizės atveju tikriausi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eliminuos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š nagrinėjim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kartojanči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igūracijas tikslu geriau įtrauk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kali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figūracijas, kad gauti platesnę vaizdo perspektyv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7B6-1A6E-4089-9FA5-C1D2DC3743B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Kas turėtų atlikti auditą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aus parinkimas daug priklauso nu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kurį rengiamasi audituo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jū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ū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 to tinklo saug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tyviai paprastiems tinklams daug kas gali atlikti naudingą ir funkcionalų auditą.  Ekstremaliai komplikuotiems tinklams jūsų pasirinkimas bus labiau ribo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u atve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ūs turite pasirinkti auditorių iš šių grupių: </a:t>
            </a: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priklausomi konsultantai, saugumo firmos, ir audito namai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144-E7FA-485B-8177-446E0321180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uditą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ykdanči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organizacijos parink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ikia rinktis tokią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ją, kur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bė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i tokio lygio auditą, kokio jūs nori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bėtų apdor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chnines detales, kurios jums reikalin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tų patik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ūsų duomenų požiūri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us formal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yšius su jūsų biznio partneria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ius neformal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yšius su jūsų biznio partneriais ar galimais atakuotoj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685-D556-43D4-A644-4BDDF67CE4D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klausomi konsultanta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lingiaus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rių pasirinkimų skaičiumi grupė. Šie konsultantai gali būti diapazone nu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kščiaus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ipsnio saugumo ekspertų  iki atakuotoj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žiūri kaip pasinaudoti kažkuria sistema bei tokių kurie turi parsisiuntę nemokamą įrangą arba pasiskaitę knyg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žvilgiu šių nepriklausomų konsultantų galima pasakyti, kad tie, kurie žino, ką jie daro yra dažniausi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ugais su tais iš “tamsios pusė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dant nepriklausomus konsultantus tenka susidurti su ta pačia praktika kaip samd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s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t keli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ugiau reikalavim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tik gal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formacijos neskleidimo susitarimai, šešėliniai patikrinimai, interviu yra svarbiu elementu ši</a:t>
            </a:r>
            <a:r>
              <a:rPr b="0" lang="lt-LT" sz="2400" spc="-1" strike="noStrike">
                <a:solidFill>
                  <a:srgbClr val="cc0000"/>
                </a:solidFill>
                <a:latin typeface="Times New Roman"/>
              </a:rPr>
              <a:t>uo atvej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4A6-333D-4933-942E-F41160D3755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valumai/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antykinai lengva sura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būti efektyvūs kainos atžvilg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rtais galima rasti talent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iai svyruoja kokyb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ikimumas gali būti problematiš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nku garantuoti nuoseklumą ir audito standartų laikymą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ulaukti paslėptos atak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 atsirasti neformalus kanalas atakuotoja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D7F-F5B6-4885-A30E-1F1DBC0DBFC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os firm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ompanijos, kurios specializuoja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gumo klausimuose. Jas gali sudaryti konsultatų grupė, bet dažniau jų audito grupė yra dalimi didesnio, su saugumu susijusio biz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žniausi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vačios, bet kai kuri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ybinės ir valdymo organizacijos tur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i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grup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naudojimas gamybinės organizacijos grupe gali duoti jums galimybę prieiti prie aukščiausio lygi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en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t jūs turite būti atidūs jei nenorite, kad audito rezultatai taptų tos grupė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k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k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limi. ( paprastai , grupės kurios tai daro užtikrina gerą anonimiškumą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F7C-798E-43AA-A421-632C695B0A1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ivalumai/trūk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ikras jų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biznis, tai kokybė turi tendenciją būti aukš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e tikriausiai jau yra jums padarę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šešėlin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tikrinimą. Ir jei jie to nepadarė, tai kažką sako apie fir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e tikriausiai yra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susipaž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naujausi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problemo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Ir jei jie tuo nepasižymi, tai pasako dar kai ką apie fir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žnai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turi per daug klient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ibotai </a:t>
            </a:r>
            <a:r>
              <a:rPr b="0" lang="lt-LT" sz="2800" spc="-1" strike="noStrike">
                <a:solidFill>
                  <a:srgbClr val="3333ff"/>
                </a:solidFill>
                <a:latin typeface="Times New Roman"/>
              </a:rPr>
              <a:t>brangū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092-CB66-415A-89C3-2D2A39D6706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nama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daug tokio tip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dito fir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Kai kurios iš jų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es giluminiam saugumo audit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val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iai detalus rapo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iprūs metodologišk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ūku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ditavimo metodologija gali bū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pakankam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lank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d pasakytų jums tai, ką jūs norėtumėte sužin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ebūti taip techniškai pagrįst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aip jums norėtų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na brang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BD6-D369-4BAD-A4FC-B59D66F8861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eikalavimai auditori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ional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rg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turi nekelti pavojaus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am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ris yra audituojamas n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trauktiems žmonėm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as nie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i sugriau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domo servis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kiais atvejais išskyrus iš anksto numatytus bei tiksliai aprašytus leidimu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nas atskleid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umo auditas gali būti susijęs su kartais keistu auditoriaus elges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ėtų aprašyti bent jau bendrais bruož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ą jis rengiasi daryti, jūs turite duoti tam sankciją geriau raštišką prieš jam padarant ką nors neįpras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A22-E051-434A-B786-BE33D146716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ai parašytas raportas ir puikus pristaty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turi sukurti gerai apgalvotą raportą, kuris būtų suprantamas ir pateiktų gerai patvirtintas išv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cija turėtų būti padaryta su galimybe paklausti auditoriaus detalių klausim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tija, kad jūsų duomenys bus traktuojami teising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š prasidedant auditui jūs ir auditorius turite susitarti apie audito metu surinktų duomenų, arba iš jų išvestų duomenų saugojimą, panaudojimą ir dispoziciją. Auditorius turi labai stengtis laikytis šio susitarim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ežtas konfidencial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702-06BF-42AE-A2DF-848A0C72329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s tas saugo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tikrinimas paremtas priimta saugos politik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galimos rizikos įvertini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tinklo konfigūracijos tyrimas bei įvert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io, saugaus funkcionavimo įvertinim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u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ų saugos įvertinima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5EB-C56E-424B-B47E-E8FAE0ECA7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 tikisi auditorius iš jūsų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aus elgesio” laišk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ūs mokate auditoriui už kai kurių saugumo pusių testavimą. </a:t>
            </a:r>
            <a:r>
              <a:rPr b="1" lang="lt-LT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Jis turi būti protingai laisv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urėti imunitetą) n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estavimo pasekmių. To užtikrinimui auditorius turi teisę prašyti raštiško patvirtinimo, atleidžiančio jį nuo kaltės už tai ką jūs arba jis susitarė lei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ratingas elgesy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augumo auditorius turėjo patirties, kai jis buvo sekamas iš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kos darbuotojo, kuris laikė savo pareiga perspėti bendradarbius, kad prasidėjo audit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059-4751-4CEC-97ED-0B2617E87FE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pareigojimų laikymas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varbu kiek išankstinių perspėjimų yra duota, auditoriai retai kada baigia auditą su visa informacija ar tomis priėjimo galimybėmis, kurios buvo žadėtos. Jei jūs pasakėte, kad išsiųsite kopiją savo saugumo politik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kančią savaitę, tai to reikia ir laiky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ūs – paskutinės minutės pakeitim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ės, kai auditorius jau laukia jūsų ofise – tai ne laikas keisti žaidimo taisykles. Taip pat jūs turite pripažinti kad auditoriaus laikas kainuoja pinig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nis nepriklausom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jūs esate suinteresuotas rimtu auditu, tai reikia atminti, kad auditorius nėra ginklu prieš jūsų priešus iš kito skyriaus. Iš auditoriaus negalima tikėtis kad jis dalyvaus vidinėje jūsų organizacijos politikoje, o bandymas 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yti sumažins audito reikšm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4CC-C0EA-4852-BEC7-48234A5CE45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turi būti atliekamas audit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yb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tariamas audito dydis ir tikslai. Grubus tinklo aprašymas yra pateikiamas auditori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udi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ieš audit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ankstiniai perspėjimai apie bet kokią r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lingą informaciją. Susitarimai apie audito tvarką ir priėjimą prie personalo bei dokumentacijos yra padaromi. Detalus tinklo aprašymas pateikiamas auditori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rinkimas sistem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e atliekami matavimai. Vykdomi interviu su pagrindiniu personalu. Daromi susitarimai dėl papildomos informacijos pateik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EAB-E150-4978-A1B0-EFAEE4A7C9E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79246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ė namuos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analizuojami surinkti duomenys. Gaunama papildoma informacija. Paruošiamas detalus raportas. Numatoma prezenta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zent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tu su suinteresuotomis grupėmis atliekama viena ar kelios prezentacijos. Galimi atsakymai į klausi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k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ūsų organizacija reaguoja į auditą adresuodama įvairius klausimus techniniam lygiui, kartais paneigiant auditoriaus išvadas, nors į jas reikia įsiklausyti kaip į galimo pavojaus ženkl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ęsiny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rius gali atlikti papildomus matavimus siekiant įsitikinti, kad organizacijos priimti sprendimai buvo teising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FE6-422E-458B-98DD-B238CB74920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o rezultat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ikia sudaryt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etal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eiksmų plan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gal nurodytas problemas parenkant žmones jų sprendimui, taisy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aisymai daromi saugumo administratoriau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oj pa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netempiant tai į kitas savaites ar mėnesi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uplanuoti dar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pildo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uditą po pataisymo ( nors tai brangu) įsitikinimui, kad komanda gerai susidorojo su problemo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028-7292-4B94-A6E5-39F42E908AD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da atlikt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enumatytais, kritiškais atveja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kūrus tinkl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eguliariai pagal tvarkarašt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4B2-4759-4DEC-9E9A-5596BD24E6B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­24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idelis tinkl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­24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okalus tinklas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2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gniasienė 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 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ėnesi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594-82CE-4F1E-8907-1AB7FD7958D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114560" y="2125800"/>
            <a:ext cx="6916680" cy="2546280"/>
            <a:chOff x="1114560" y="2125800"/>
            <a:chExt cx="6916680" cy="2546280"/>
          </a:xfrm>
        </p:grpSpPr>
        <p:sp>
          <p:nvSpPr>
            <p:cNvPr id="150" name=""/>
            <p:cNvSpPr/>
            <p:nvPr/>
          </p:nvSpPr>
          <p:spPr>
            <a:xfrm>
              <a:off x="1114560" y="2125800"/>
              <a:ext cx="454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14560" y="2125800"/>
              <a:ext cx="6916680" cy="25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2" name="file3968100_DATORIprehisordi5" descr=""/>
          <p:cNvPicPr/>
          <p:nvPr/>
        </p:nvPicPr>
        <p:blipFill>
          <a:blip r:embed="rId1"/>
          <a:stretch/>
        </p:blipFill>
        <p:spPr>
          <a:xfrm>
            <a:off x="1371600" y="1179360"/>
            <a:ext cx="6553080" cy="438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4D9-9F1A-4649-AC8B-3A0359D72B2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kie galimi saugos audito tipa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gal tiriamą objekt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 saugos tyr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ugniasienės teikiamos saugios užtvaros tyr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lokalaus tinklo saug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ientuoti į didelių tinklų saugą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346-1343-4B22-BB9E-D6F5993552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os politik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ent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 yra saugos politi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augos politikos komponentė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 turi ją parašy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ip ilgai ji turi būt nekeičia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24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, jei tokios politikos nė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ita dokumenta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F2E-F985-4AAF-AD17-F81DE7DBB4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augos politikos komponentė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s gali 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naudoti </a:t>
            </a:r>
            <a:r>
              <a:rPr b="1" lang="lt-LT" sz="2800" spc="-1" strike="noStrike">
                <a:solidFill>
                  <a:srgbClr val="00cc99"/>
                </a:solidFill>
                <a:latin typeface="Times New Roman"/>
              </a:rPr>
              <a:t>resurs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cc99"/>
                </a:solidFill>
                <a:latin typeface="Times New Roman"/>
              </a:rPr>
              <a:t>Tinkamas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 resurs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Prieinamu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užtikrin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lt-LT" sz="2800" spc="-1" strike="noStrike">
                <a:solidFill>
                  <a:srgbClr val="00cc99"/>
                </a:solidFill>
                <a:latin typeface="Times New Roman"/>
              </a:rPr>
              <a:t>autorizacija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m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s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ministrato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a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vile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j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artotojo teis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sakomybė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elgtis su “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aut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augos požiūriu informaci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lgsena atakų metu, sistemos atstatymas po atakų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DAA-347F-47D5-B823-D63130B749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C 1244 ­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``Site Security Handbook''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ibrėžia saugo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proce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ūr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os įvairo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blemų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tif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kav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eakcija į inciden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stemų palaikymas (patch’a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[ Lietuvos standartai susiję su saugos klausimai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810-EBC4-41A3-8AC6-20C5D8DC14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1:37:31Z</dcterms:created>
  <dc:creator>Kristina</dc:creator>
  <dc:description/>
  <dc:language>en-US</dc:language>
  <cp:lastModifiedBy>Kristina</cp:lastModifiedBy>
  <dcterms:modified xsi:type="dcterms:W3CDTF">2004-12-07T17:27:19Z</dcterms:modified>
  <cp:revision>16</cp:revision>
  <dc:subject/>
  <dc:title>13 paskaita</dc:title>
</cp:coreProperties>
</file>