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0.xml.rels" ContentType="application/vnd.openxmlformats-package.relationships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24F2-9506-45E2-95C8-305975378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D9DE-0871-4927-9035-343B5E75D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2232-D111-4E3A-9498-C44410D9E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04F6-E027-409F-9B1B-C72FDBD05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DEC9-20ED-4653-ACDF-82A553EDB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CD48-E6EE-4D06-9D99-2CD98EB16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081C-E36C-4300-930B-400436AE3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EE62-D0B4-4A62-81E8-E155D7550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064F-FE6F-48D1-9FD8-176B5514E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BE1F-F2F0-404C-A34C-43B49EEC8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00320" y="798480"/>
            <a:ext cx="4259160" cy="31939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1960" y="4355640"/>
            <a:ext cx="5194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5E0-3A2D-4EA6-9742-14D5287E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C21-BD65-42FD-AC94-D4B71E5A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663-944E-48EB-8CFD-E895F4EB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526-1789-415D-82E3-285E6AC5C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A76-149D-4338-B3E4-95F4E41C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835-C7C1-4EEF-9E00-E0E4E844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616-55C9-4EDB-A1FE-D3483174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FCE-4BE2-4717-94F0-C8161C6B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BE2-A26A-413D-84F5-F003F033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4E6-5E05-46CB-9305-0D53FAE6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3DC-63F7-4266-A04A-6FA31B85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A02-BDDB-4FDB-AF85-CC0D3364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C741-55EA-4CB2-BF84-59CCC87F6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67280" y="43430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1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le1570572_loveyou_datori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411480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94B-7DE5-4E96-B487-4A45481E1E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pasirašytas dokumentas, pagal reikalą pa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uojamas skaitmeninis parašas, naudojant viešą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rinama data ir laik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4BA-931B-4A0E-8E05-51292CEFDA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u raktu sena versij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žino atsitiktinį raktą k naudodamasis siuntėjo viešu rak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itai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nkatenacijai pranešimo ir rak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a rezultatą su atsiųsta kontroline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ataka – pranešimą galima perimti, sužinoti k, pakeisti pranešimą ir pasiųsti gavėjui, jis to neja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E71-EFB1-43B7-8622-45C310D9E4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Monotype Corsiva"/>
              </a:rPr>
              <a:t>Gal bandyti taip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s atsitiktinį raktą naudodamas sa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tų 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taiky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ir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s gautą rezultatą su atsiųsta kontroline suma su praneš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lim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ataka – perimamas pranešimas, pakeičiamas raktas, pranešimas ir siunčiama gavėj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E99-10EB-4B28-829A-422946B39B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Arial Black"/>
              </a:rPr>
              <a:t> su rakt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unt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MD5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 + E(E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r-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ublic), s-priv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avė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stato k naudodamas siuntėjo viešą raktą ir gavėjo privat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aik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D5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katenacijai pranešimo bei rak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lygina rezultatą su atsiųsta kontroline su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aka “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-in-the middl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” negali sužinoti k, nei jo pakei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nka, kai yra tik vienas gavė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E2F-EC31-40B3-BDFC-28E3AF87E3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D5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su raktais i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nt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E(MD5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i="1" lang="lt-LT" sz="1800" spc="-1" strike="noStrike">
                <a:solidFill>
                  <a:srgbClr val="000000"/>
                </a:solidFill>
                <a:latin typeface="Courier New"/>
              </a:rPr>
              <a:t>+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, s-priv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vė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uži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damas siuntėjo viešą rakt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k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D5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nešim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lygina rezultatą su gauta kontroline suma praneš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-in-the middl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takuotojas negali pakeisti pranešimo, nes kitas pranešimas duos kitą MD5(m) reikšmę, kurios nebus galima užšifru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E84-8B5A-483C-A900-9F8012F98C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asdien auga skaičius aplikacijų, naudojančių saugius protokolus. Tai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er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als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istancinis mok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C88-1F3C-436F-A6C8-13B5C5FDDDB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2280" y="533160"/>
            <a:ext cx="7245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c0000"/>
                </a:solidFill>
                <a:latin typeface="Arial"/>
              </a:rPr>
              <a:t>Web </a:t>
            </a:r>
            <a:r>
              <a:rPr b="1" lang="lt-LT" sz="4000" spc="-1" strike="noStrike">
                <a:solidFill>
                  <a:srgbClr val="cc0000"/>
                </a:solidFill>
                <a:latin typeface="Arial"/>
              </a:rPr>
              <a:t>reikalavimai saug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2120" y="14479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Didėjantis komercinis bei profesinis panaudojimas kelia griežtesnius saugos reikalavimus web paslaug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apriboti priėjimą prie web puslapi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Reikalavimas 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autenti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fikuoti serverį iš kliento pusės bei klientą iš serverio pusė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galėjimo patvirtinti šaltinį, vientisumą web puslapių, jų nepaneigiamumo (</a:t>
            </a: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non-repudiation</a:t>
            </a: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) tiks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000" spc="-1" strike="noStrike">
                <a:solidFill>
                  <a:srgbClr val="808080"/>
                </a:solidFill>
                <a:latin typeface="Arial"/>
              </a:rPr>
              <a:t>Iškyla poreikis turėti konfidencialius web persiuntim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sa tai sukelia daug  saugos problemų, kurios sprendžiamos skirtingame lygy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B7C-06F6-42DE-9240-CEA6B144E8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TTP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ykdom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a saugie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ersiuntim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S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paprastai sukas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4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or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ia serverio patikrinimą pagal sertifikat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naudoja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zuotą patikimą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 šaltin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E35-20F4-4460-8387-8D69909911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gū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au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l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cini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įtraukia šifravimą kaip aplikacinio lygio protokolo sudedamąją dalį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raukta šifravim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 dali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radus stipresniems šifravimo įrankiams reikia keisti protokol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81F-C147-4AD1-8E6E-3CF1AEA7993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2120" y="456840"/>
            <a:ext cx="7385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0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4000" spc="-1" strike="noStrike">
                <a:solidFill>
                  <a:srgbClr val="cf0e30"/>
                </a:solidFill>
                <a:latin typeface="Arial"/>
              </a:rPr>
              <a:t>augūs transporto kanala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1960" y="1980720"/>
            <a:ext cx="7034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Jie realizuojami naudojant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cure Socket Layer (SSL)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, pasiūlytą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Netscape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fikaciją tarp 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lient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 ir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erver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 naudojant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 tiek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s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metr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nį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viešo rakt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šifravimą ir skaitmeninius paraš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Užtikrina konfidencialum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Yra nepriklausomi nuo jokio 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pli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in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io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 proto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ol</a:t>
            </a:r>
            <a:r>
              <a:rPr b="1" lang="lt-LT" sz="2400" spc="-1" strike="noStrike">
                <a:solidFill>
                  <a:srgbClr val="000066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734-FA86-4A10-8A53-4BB3131398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ui keliamas uždavinys – įsitikinti, kad esybė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uojami gali būti tiek klientai, tiek serveri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o procesas yra nusakomas autentifikavimo protokol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27C-BE80-43BB-AD4F-DE8C9DCA48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84240" y="624852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5320" y="6248520"/>
            <a:ext cx="267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457200"/>
            <a:ext cx="3089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3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990720"/>
            <a:ext cx="8001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tokolas naudojas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nkų paspaud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procedūra, kurios metu tiek klientas, tiek serveris tarpusavy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s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asiekia susitarimo dėl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lientui susijungus su serveriu, serveris pasiunčia sav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ą,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tifika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lientui. Klientas patikrina sertifikatą naudodamasis patikimų sertifikatų saraš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klien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eneruo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imetrinį raktą, kurį siunčia serveriui, užšifruotą serverio viešu raktu. Šis raktas panaudojamas 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ster rak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kančių duomenų konfidencial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spcBef>
                <a:spcPts val="6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ebūtinai, tačiau ir klientas gali būti serveri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utentifik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tam ir klientas turi turėti raktų porą ir sertifika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C8F-00F4-4CDD-B63B-67FF819C77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6500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4700" spc="-1" strike="noStrike">
                <a:solidFill>
                  <a:srgbClr val="bc3700"/>
                </a:solidFill>
                <a:latin typeface="Arial"/>
              </a:rPr>
              <a:t>SS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duoda jokios autentifikacijos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web d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yra tiesiog saugus transpoto kana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Sockets Layer (SSL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–tai naujai įvedamas  lygis, kuris užtikrina saugų kanalą per TCP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L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transporto lygio saugos standartas, pagrįstas SSL.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port Layer Security IETF standard based on S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CFA-F492-4753-9CEF-679C2D0A19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4120" y="1676520"/>
            <a:ext cx="2971800" cy="2743200"/>
            <a:chOff x="5334120" y="1676520"/>
            <a:chExt cx="2971800" cy="2743200"/>
          </a:xfrm>
        </p:grpSpPr>
        <p:sp>
          <p:nvSpPr>
            <p:cNvPr id="162" name=""/>
            <p:cNvSpPr/>
            <p:nvPr/>
          </p:nvSpPr>
          <p:spPr>
            <a:xfrm>
              <a:off x="533412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12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3412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12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38080" y="1676520"/>
            <a:ext cx="2971800" cy="2743200"/>
            <a:chOff x="838080" y="1676520"/>
            <a:chExt cx="2971800" cy="2743200"/>
          </a:xfrm>
        </p:grpSpPr>
        <p:sp>
          <p:nvSpPr>
            <p:cNvPr id="167" name=""/>
            <p:cNvSpPr/>
            <p:nvPr/>
          </p:nvSpPr>
          <p:spPr>
            <a:xfrm>
              <a:off x="838080" y="1676520"/>
              <a:ext cx="2971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080" y="2362320"/>
              <a:ext cx="2971800" cy="685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S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3048120"/>
              <a:ext cx="2971800" cy="685800"/>
            </a:xfrm>
            <a:prstGeom prst="rect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TC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3733920"/>
              <a:ext cx="2971800" cy="685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9880" y="2057400"/>
            <a:ext cx="152424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2666880"/>
            <a:ext cx="1524240" cy="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3352680"/>
            <a:ext cx="1524240" cy="0"/>
          </a:xfrm>
          <a:prstGeom prst="line">
            <a:avLst/>
          </a:prstGeom>
          <a:ln w="57240">
            <a:solidFill>
              <a:srgbClr val="cc66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4038480"/>
            <a:ext cx="1524240" cy="0"/>
          </a:xfrm>
          <a:prstGeom prst="line">
            <a:avLst/>
          </a:prstGeom>
          <a:ln w="57240">
            <a:solidFill>
              <a:srgbClr val="eaeaea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4429080"/>
            <a:ext cx="4511880" cy="1057320"/>
          </a:xfrm>
          <a:custGeom>
            <a:avLst/>
            <a:gdLst/>
            <a:ahLst/>
            <a:rect l="l" t="t" r="r" b="b"/>
            <a:pathLst>
              <a:path w="2842" h="666">
                <a:moveTo>
                  <a:pt x="7" y="23"/>
                </a:moveTo>
                <a:lnTo>
                  <a:pt x="0" y="666"/>
                </a:lnTo>
                <a:lnTo>
                  <a:pt x="2842" y="666"/>
                </a:lnTo>
                <a:lnTo>
                  <a:pt x="2842" y="0"/>
                </a:ln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46A-5C3D-453B-A5B3-64D1BB5E0F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L/TL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rivalu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epriklausomas nuo aplikacijų ly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traukia derybas, kurių metu yra susitariama dėl bendrų  šifravimo metodų, kurie bus naudojami perdavim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eidžia lengvai įjungti nauju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6B7-C5E5-44C9-9F20-D37348B477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Sockets Layer (SSL) protoc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iai sukurtas Netscapui , SSL buvo visuotinai priimtas  World Wide Web autentifikacijai ir šifravimui komunikacijų, vykstančių tarp klientų ir serve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05120" y="3733920"/>
            <a:ext cx="4952880" cy="24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0EB-F0EC-4FD1-8FAA-ED6FEE7A76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 funk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rverio autentifikaci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vartotojui patvirtinti serverio identiškumą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kliento autentifikacij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serveriui įsitikinti vartotojo identišku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as SSL ryšy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a inform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unčiama tarp kliento ir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uojama siunčiančios programinės įrangos ir dešifruojama priimančios programinės įrangos, tuo užtikrinant aukštą konfidencialumo lyg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84E-F5BB-461B-A64A-8F0691DD84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dar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sub-protokol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-paspaudimo protokolas įtraukia SSL įrašo (record) protokolą pasikeitimui eile pranešimų tarp SSL-palaikančio serverio ir SSL palaikančio kliento, kai jie pirmą kartą įkuria SSL ryš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įrašo (record) protokolas nusako formatą, kuris naudojamas duomenų perdavimu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F85-C996-4F6B-8FBE-C184706280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sijos vis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ideda apsikeitimu praneši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kirtas sekančių veiksmų palengvinimui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lient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džia klientui ir serveriu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rinkti šifr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us ar šifrus, kuriuos abu palaiky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rivaloma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u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audoti viešų raktų šifravimo techniką generavimui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i naudojamų paslap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hared secr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kurti šifruotą SSL ryš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796-3E54-4598-979A-3FD6D22F6C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kolas naudoj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šr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naudojama ir viešo-rakto ir simetrinis šifravi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entai ir serveriai gali palaikyt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u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nkini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rankų paspaudimo protokolas apsprendžia, kaip serveris ir klienta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a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šifravimo rinkinius jie naudos vienas kit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davimui, be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steigim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7A0-B645-457B-951D-DC31F37150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Naudojami šifravimo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metrinis šifravimo algoritm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tmeninio paraš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oritmas, dalis skaitmeninio autentifikav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da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ų pasikeitimo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Digest algorit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2 and RC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ravimo šifr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jam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SA Data Secur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o rak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 skirtas šifravimui ir autentifikacij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key exchange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keit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-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h Algorit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PJACK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metrinis algoritma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7A8-E2A3-4BDF-844E-FD90542313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vimo protokol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13560" y="1260360"/>
            <a:ext cx="2378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CHK, SHK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raktai, kurie žinomi abiem pusė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89880" y="2860560"/>
            <a:ext cx="245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vus šį pranešimą kliento identiškumas nėra ži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7800" y="3276720"/>
            <a:ext cx="144792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241800"/>
            <a:ext cx="205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klientas žino serverio identiškumą, nes jis iššifrav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4191120"/>
            <a:ext cx="914400" cy="7596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89880" y="4765680"/>
            <a:ext cx="245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ame taške serveris žino kliento identiškumą, nes jis iššifrav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14640" y="4876560"/>
            <a:ext cx="114300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03680" y="5908680"/>
            <a:ext cx="34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sikeičiama naujais sesijos rakt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038480" y="5257440"/>
            <a:ext cx="533520" cy="76212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79640" y="2971800"/>
            <a:ext cx="649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Cli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79840" y="297180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Myriad Roman"/>
              </a:rPr>
              <a:t>Ser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200400"/>
            <a:ext cx="1800" cy="2664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4520" y="3220920"/>
            <a:ext cx="1800" cy="2662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62240" y="3365640"/>
            <a:ext cx="2370240" cy="536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271680" y="3936960"/>
            <a:ext cx="2376720" cy="44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0886600">
            <a:off x="3503880" y="502920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SK, 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62240" y="4411800"/>
            <a:ext cx="2376720" cy="522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13400" y="4902120"/>
            <a:ext cx="141120" cy="57240"/>
          </a:xfrm>
          <a:custGeom>
            <a:avLst/>
            <a:gdLst/>
            <a:ahLst/>
            <a:rect l="l" t="t" r="r" b="b"/>
            <a:pathLst>
              <a:path w="108" h="52">
                <a:moveTo>
                  <a:pt x="0" y="52"/>
                </a:moveTo>
                <a:lnTo>
                  <a:pt x="108" y="52"/>
                </a:lnTo>
                <a:lnTo>
                  <a:pt x="14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1680" y="4964040"/>
            <a:ext cx="237024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56120" y="5383080"/>
            <a:ext cx="141120" cy="61920"/>
          </a:xfrm>
          <a:custGeom>
            <a:avLst/>
            <a:gdLst/>
            <a:ahLst/>
            <a:rect l="l" t="t" r="r" b="b"/>
            <a:pathLst>
              <a:path w="108" h="56">
                <a:moveTo>
                  <a:pt x="94" y="0"/>
                </a:moveTo>
                <a:lnTo>
                  <a:pt x="0" y="51"/>
                </a:lnTo>
                <a:lnTo>
                  <a:pt x="108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56120" y="4349880"/>
            <a:ext cx="133200" cy="61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94" y="0"/>
                </a:moveTo>
                <a:lnTo>
                  <a:pt x="0" y="52"/>
                </a:lnTo>
                <a:lnTo>
                  <a:pt x="103" y="5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3875040"/>
            <a:ext cx="139680" cy="57240"/>
          </a:xfrm>
          <a:custGeom>
            <a:avLst/>
            <a:gdLst/>
            <a:ahLst/>
            <a:rect l="l" t="t" r="r" b="b"/>
            <a:pathLst>
              <a:path w="107" h="52">
                <a:moveTo>
                  <a:pt x="0" y="52"/>
                </a:moveTo>
                <a:lnTo>
                  <a:pt x="107" y="52"/>
                </a:lnTo>
                <a:lnTo>
                  <a:pt x="18" y="0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993400">
            <a:off x="3200400" y="396216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x+1, SHK), E(y,S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739800">
            <a:off x="3733560" y="3428640"/>
            <a:ext cx="210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lientID, E(x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739800">
            <a:off x="3885840" y="457164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(y+1,CH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A0A-7EEE-434B-9F78-4459AB10786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ų pasikeitimo algoritma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A ir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ako 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p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is bei klientas nustato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ius rakt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abu naudos laike SSL sesij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2.0 ir SSL 3.0 protokolai palaiko persidengiančius šifrų rinkinius. Administratoriai gali priimti ar atšaukti bet kurį iš palaikomų šifrų rinkinių klientuose ar serveryj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dentifiku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priausi gali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šifrų rink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uos jie turi bendrus ir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ie yr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doj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i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j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FFB-8496-4A23-8E03-D1948BCA56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L rankų paspaudimo žingsnia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iunčia serveriui informaciją apie s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o SSL versija, naudojami šifrai, atsitiktinai sugeneruotus duomeni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unčia klientu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erverio SSL versija, šifrai, sertifikatas, atsitiktinai sugeneruotus duomenis ir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ando autentifikuoti serverį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lientas pagal serverio sertifikatą bando autentifikuoti serverį, jei nepavyksta – sesija nesukuri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kur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premaster secret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šifruoja tai su serverio viešu raktu ir pasiunčia server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emaster secret” sukuriamas naudojantis visais sugeneruotais duomeni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88A-DD9E-45A0-ACA8-29420313CB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5.Jei serveris užprašė kliento autentifikavimo (tai nebūtinas žingsnis), tai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siunčia pasirašytus unikalius šiam rankų paspaudimui duomenis, žinomus abiem pusėm ir savo sertifikatą serveriui kartu su šifruotais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6.Server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jei reikia – autentifikuoja klientą, su savo slaptu raktu dešif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 atlikdamas eilę žingsnių (juos atlieka ir klientas) sugeneruoja “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master secre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6AE-32CA-4D2E-B326-F858C5946A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bu – tiek klientas, tiek server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 “master secret” sesijos raktų generavimui.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imetrin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Klien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uoja serverį, kad tolimesni kliento pranešimai bus šifruojami su sesijos raktu. Taip pat pasiunčiamas atskiras šifruotas pranešimas indikuojantis,  kad klientas baigė rankų paspaud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ver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ako tuo pač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rankų paspaudimas yra baigtas, prasideda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SL sesi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ja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ek klientas, tiek serveris naudoja sesijos raktus siunčiamos informacijos  šifravimui-iššifravim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295-F4AA-4DD5-A3DF-12EF7FB853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o bei serveri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sijusi su tam tikrų duomen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avimu naudoj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ną iš raktų: privatų-slaptą ir dešifravimu kit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e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atvej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lientas šifruoja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su serverio viešu raktu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serveris nežino slapto rakto, jis negali iššifruo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ster secre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ir sugeneruoti simetrinių raktų, reikalingų sesij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fikaci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tsitiktinius duomenis su kliento privačiu raktu, tai yra jis sukuria skaitmeninį parašą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Viešas raktas kliento sertifikate gali patvirtinti paraš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F70-B653-4107-9A99-3F87476565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DF5-0FCF-4E6A-94EC-8CA008EA85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ip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scape serve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k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68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CE3-8E2A-4BF7-893D-76BDE17781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-the-Middl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n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l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ri patikrinti serverio DN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na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urodo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ve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realiu DN to serverio su kuriuo komunikuojama. Tai leidžia išvengti 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in the middl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a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o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man in the middle"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kenkėjišk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gr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, kuri peri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unikacijas tarp kliento ir serverio, ji perima teisėtus raktus vykdant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nkų paspaudimą, įstato jų vieton sav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r sukelia įvaizdį klientui, kad tai serveris, o serveriui, kad tai klien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989-57E8-48D1-AC6F-510E847182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Viešo rakto perd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p gali Bobas patikimai perduoti viešą raktą?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ikacin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las gali būti tok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al šitokį protokolą bet kas gali būti Bob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443-CC92-4082-8DCE-6D12173062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tų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304-FF8E-4024-A67E-A11711448A2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Trijų-pusių rankų paspaud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laikoma, kad abi pusės žino šifravimo raktu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i klientinė pusė nežino raktų – reikia tam tikro būdo, kuris garantuotų pasikeitimo raktais saug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0BE-AB63-4375-812E-8E4CB56479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746C-9E96-42D7-85D6-5DB5654D521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sikeitimas slapta inform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B3E-E3E4-46C4-AB2D-5070E654EAD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71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2DD-90F1-4861-A37C-2B85828504C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ta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ble[ {some message}secret-key 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61B-453A-48F5-8A61-1CFBF0F6374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authentication code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'm Bob, bobs-cer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ce, This Is b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digest[Alice, This Is Bob] } bobs-private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&gt;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k bob, here is a secret {secret} bobs-public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&gt;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ome message,MAC}secret-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352-2276-46BA-B3F8-D3C11AD83DB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-Secure Shell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H – ta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tandar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audoja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ia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nutolusiam prisijungimui per nesaugius tinkl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t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rminalinę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esiją su stipri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tiek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erveri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viešo-rakto šifravimą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šifruoja visus perduodam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slaptažodžius, failus, koman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F02-237F-4883-8022-B2609154C2E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dvi Secure Shell versijos SSH1 ir SSH2, kuri yra patobulinta saugos požiūriu. Jos nėra tarpusavyje suderinamos. SSH1 naudoti nerekomenduo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buvo sukurtas dviejų pagrindinių problemų išsprendimu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nutolusio terminalinio prisijungi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aus failų perd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taip pat gali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uo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et kokią TCP sesij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šiuo šifruotu SSH kanalu.  Tuneliavimas leidžia apsaugoti kitų aplikacijų komunikavimą, nekeičiant pačių aplikacij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6AD-A12C-455E-865A-70CE2ED2782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šifravimas, autentifik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 naudoja stipriausius šifravimo algoritmus: 3DES, CAST-128, Twofish, A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DES algoritmas palaikomas, tačiau skaitomas nesaugi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yra kliento-serverio protokolas ir abu jie yra autentifikuoja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SH2 daro negalimu slaptažodžių perėmimą, todėl  galima saugi kliento autentifikacija, paremta slaptažodžiais, o pagal reikalą SSH2 gali įtraukti ir viešo-rakto autentifikaciją.(PKI ir sertifikata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A238-0DD9-4DE0-AEEE-6F3360EFD3D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verio auten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an-in-the-middle” ataka. Apsaugai nuo tokio tipo atakų, serveris taip pat turi būti autentifikuoj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erveris turi viešą bei privatų ra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cija paremta DSA arba RSA algoritm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utentifikuojamas skaitmeninis paraš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ei nepalaikomi sertifikatai, tai klientas ieško viešo rakto patikimų serverių duomenų bazė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19D-9A09-46E3-ABD5-DE13F8A7404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SH sprendžiamos saugumo problem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keičia nesaugų “TELNE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 paketų klastojimas (adreso pakeiti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NS paketų klastojim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inkl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uomenų klastojimas (įterpiant valdymo informaciją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X autentifikavimo klausym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laidinantys jungimaisi prie X11 serv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B9A-191C-4B5F-B67A-BE33E3C7117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tikimas šaltin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Kerbe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35040"/>
            <a:ext cx="8534520" cy="509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1800" y="17575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7560" y="1757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1800" y="2112840"/>
            <a:ext cx="180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1480" y="17352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45360" y="2090880"/>
            <a:ext cx="1800" cy="4292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53040" y="2112840"/>
            <a:ext cx="1440" cy="429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1480" y="4203720"/>
            <a:ext cx="38354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94800" y="500364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8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800" y="3225960"/>
            <a:ext cx="3837240" cy="888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03560" y="402588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7" y="0"/>
                </a:moveTo>
                <a:lnTo>
                  <a:pt x="140" y="56"/>
                </a:lnTo>
                <a:lnTo>
                  <a:pt x="0" y="5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8800" y="2313000"/>
            <a:ext cx="3864240" cy="89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800" y="3114720"/>
            <a:ext cx="22248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42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53040" y="5114880"/>
            <a:ext cx="3836880" cy="86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53040" y="5894280"/>
            <a:ext cx="222120" cy="88920"/>
          </a:xfrm>
          <a:custGeom>
            <a:avLst/>
            <a:gdLst/>
            <a:ahLst/>
            <a:rect l="l" t="t" r="r" b="b"/>
            <a:pathLst>
              <a:path w="140" h="56">
                <a:moveTo>
                  <a:pt x="140" y="56"/>
                </a:moveTo>
                <a:lnTo>
                  <a:pt x="0" y="56"/>
                </a:lnTo>
                <a:lnTo>
                  <a:pt x="1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817200">
            <a:off x="4497840" y="4209480"/>
            <a:ext cx="29160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A,T),K), 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900000">
            <a:off x="1270440" y="3727800"/>
            <a:ext cx="16693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A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0580000">
            <a:off x="5467680" y="5232240"/>
            <a:ext cx="98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T+1,K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960000">
            <a:off x="1401480" y="3347280"/>
            <a:ext cx="1736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((T,L,K,B),K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20640000">
            <a:off x="2057040" y="2439720"/>
            <a:ext cx="48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, 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1752480"/>
            <a:ext cx="3353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dalinasi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A,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tačia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, 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žin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80808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7524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š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rakto komunikavimui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438280"/>
            <a:ext cx="3808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657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atsako užkoduodamas sesijos raktą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K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ir 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timestamp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T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 ir galiojimo laikas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negali iššifruoti antro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raneš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5800" y="3352680"/>
            <a:ext cx="685800" cy="1371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371600" y="4038120"/>
            <a:ext cx="685800" cy="213372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048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 </a:t>
            </a:r>
            <a:r>
              <a:rPr b="0" lang="lt-LT" sz="2400" spc="-1" strike="noStrike">
                <a:solidFill>
                  <a:srgbClr val="808080"/>
                </a:solidFill>
                <a:latin typeface="Times New Roman"/>
              </a:rPr>
              <a:t>patvirtina, kad jis žino raktą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505320"/>
            <a:ext cx="76320" cy="533160"/>
          </a:xfrm>
          <a:prstGeom prst="line">
            <a:avLst/>
          </a:prstGeom>
          <a:ln w="1908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3886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ersiunčia iš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086240" y="4267080"/>
            <a:ext cx="152280" cy="2286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7913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B </a:t>
            </a:r>
            <a:r>
              <a:rPr b="0" lang="lt-LT" sz="2000" spc="-1" strike="noStrike">
                <a:solidFill>
                  <a:srgbClr val="808080"/>
                </a:solidFill>
                <a:latin typeface="Times New Roman"/>
              </a:rPr>
              <a:t>patvirtina kad jis gali iššifruoti pranešimą iš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095520" y="5486400"/>
            <a:ext cx="228600" cy="38088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161-454F-4CD8-A4A0-C8093347BF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ai rinkinys standar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užtikrinančių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aug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ivat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unikavimą IP tinkluose. Šis protokolas palengvina tiesiogius IP susijungimus tarp jautrių hostų per nesaugius tinklus(VPN pagrind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augo vartotojus, kurie nori saugių ryšių ir saugos sumetimais yra varžomi įprastinio nesaugaus ryšio Intern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ti paketai yr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okie kaip ir įpras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IP paketai, jie lengvai maršrutizuojami, nereikalauja pakeitimų tarptinkliniuose įrenginiu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 galiniai komunikavimo taškai žino apie šifravi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IP Security 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vybė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unikacijų sauga remiasi šifravimais, o ne IP adresais, kurie gali būti pakeičia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Atskirtas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fikavimas ir konfidencialumo tikrinimas, leidžia platesnį pritai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Raktų valdymo protokolas atskirtas nuo IP security protok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Taikomas tiek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 IPv4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, tiek 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IPv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PS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v4 neturi įjungto informacijos saugos mechanizmo – saugos funkcijas nusako IPSec standart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PSec protokolą sud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KE (Internet Key Exchange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H (Authentication Header)protokol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ESP (Encapsulation Security Payload) protoko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861-26EC-4DAF-AB90-2B2AFB7B277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Naudojamas ryšio sukūrimo pirmame etape, kai šalys susitaria dėl šifravimo metodų, raktų bei kitų duomenų, kuriuos naudos sukuriant apsaugotą ryšio seansą – </a:t>
            </a: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sukuriant saugos asociaciją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– tai kombinacija ISAKM bei Qakley protokol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SAKM – nusako formatus paketams, kurie naudojami sukuriant ir valdant apsaugotus ryši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Qakley – pasikeitimo raktais protokola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IKE protokolas nepriklauso nuo šifravimo algoritmų, naudojamų autentifikacijai bei duomenų šifravimu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Times New Roman"/>
              </a:rPr>
              <a:t>IKE nusako apibendrintą saugaus informacijos pasikeitimo procedūr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07B-5532-473C-A01D-091974CAC77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500" spc="-1" strike="noStrike">
                <a:solidFill>
                  <a:srgbClr val="000000"/>
                </a:solidFill>
                <a:latin typeface="Times New Roman"/>
              </a:rPr>
              <a:t>Visi apsaugoti ryšiai yra vienos krypties</a:t>
            </a: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Apsaugoti ryšiai pasižymi šiom savybėm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Šifravimo algoritmai, kurie reikalingi seanso metu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ai, kuriais pasikeičiama seanso pradžioj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aktų keitimo dažn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aus ryšio “gyvavimo laikas”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Ryšio iniciatoriaus adresa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500" spc="-1" strike="noStrike">
                <a:solidFill>
                  <a:srgbClr val="000000"/>
                </a:solidFill>
                <a:latin typeface="Times New Roman"/>
              </a:rPr>
              <a:t>Saugos parametro indeksas (Security Parameter Index -SPI ) – tai saugaus ryšio unikalus identifikatoriu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A93-BC9E-4F58-A667-23F70D228E3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KE gali sukurti apsaugotą ryšį – saugos asociaciją dviem režimais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grindiniu bei agresyv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grindinio režimo atveju IKE sukuria apsaugotą ryšio kanalą , kuris naudojamas deryb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icijuojantis mazgas siunčia sarašą siūlomų ryšio parametrų, tokių kaip šifravimo bei hash f-jos skaičiavimo algoritmai, autentifikavimo metodai, reikalavimai įjungti AH bei ESP protokolus ir t.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o to šalys tikrina abipusę autentifikaciją naudodamos viešų raktų technologiją bei sertifik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FD0-B926-44EF-8AE7-38099BF2D41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KE protoko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gresyva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ežimo atveju reikia mažesnio skaičiaus pasikeitimų informacija, tačiau kiekviename pasikeitime naudojama daugiau duomenų. Sauga realizuojama ne taip kruopšč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o pradinio (pagrindinio ar agresyvaus ) režimo protokolas pereina prie greito režimo (quick mode), kurio metu nustatomi įtrauktų tarnybų parametrai bei generuojami sesijos raktai. Šio režimo metu paketai jau keliauja šifruoti. Sukuriami du saugos ryš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BB0-006B-4644-B3F3-05E67F259DC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S</a:t>
            </a: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augos asociacijos</a:t>
            </a: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Jos sukuriamos veikiant raktų pasikeitimo protokol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Kombinacija saugos parametro indekso(</a:t>
            </a:r>
            <a:r>
              <a:rPr b="1" lang="de-DE" sz="3200" spc="-1" strike="noStrike">
                <a:solidFill>
                  <a:srgbClr val="00279f"/>
                </a:solidFill>
                <a:latin typeface="Arial"/>
              </a:rPr>
              <a:t>Security Parameter Index (SPI) </a:t>
            </a:r>
            <a:r>
              <a:rPr b="1" lang="lt-LT" sz="3200" spc="-1" strike="noStrike">
                <a:solidFill>
                  <a:srgbClr val="00279f"/>
                </a:solidFill>
                <a:latin typeface="Arial"/>
              </a:rPr>
              <a:t>) ir paskirties adreso vienareikšmiškai nusako atitinkamą saugos asociacij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cf0e30"/>
                </a:solidFill>
                <a:latin typeface="Arial"/>
              </a:rPr>
              <a:t>Saugos asocia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ugos asociacijos parametrai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fikacini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 ir moda, naudojama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Šifravimo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lgorit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o mod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in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cializacijos 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ve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tor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u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transfor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cijos, naudojamo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(raktai) ir raktų gyvavimo laikas, taikant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ir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s asociacijos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Autenti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kacinis algoritmas, kuris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ESP (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jei naudojam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Saugomų duomenų jautrumo ly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gos asociacijos yra vienos kryp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augos asociacij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 saugos asociacija gali teikti arba šifravimą, arba vientisumo kontrolę, arba autentifikavimą arbaviską kartu – tai nusakoma atitinkamom opcijom, kuriant asociacijas. SA vienareikšmiškai apibūdinama SPI bei paskirties 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i sistema siunčia paketą, kuriam reikia IPSec apsaugos, ji peržiūri SA duomenų bazę ir pritaiko atitinkamą saugos servisą bei įjungia SPI į IPSec galvut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us tokį paketą, patikrinama DB ir pagal SPI procesas atkartoj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810-B544-4877-BAEA-F7BB7F5F0D1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naudojamas kaip sesijos raktas šifruojant pag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psikeitimas raktu yra surištas su patikimu šaltin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696-CAA7-4785-A227-3361A217F6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hentication Header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– galvutės autentifikavimo protokolas. Jo pagrindinis tikslas – užtikrinti duomen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leidžia aptikti informacijos pakitimus paketo galvutėje ir autentifikuoti paketo siuntėją bei užtikrina persiuntimų vientisu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H galvutė įdedama tarp IP (IPv4) bei TCP /UDP galvučių. Galvutė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I indeksas – unikaliai identifikacija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ilės numer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tentifikavimo duomenys – skaitmeninis paraš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AD9-7013-4855-88E8-F36ACD7D577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cf0e30"/>
                </a:solidFill>
                <a:latin typeface="Arial"/>
              </a:rPr>
              <a:t>Authentication Header (A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62120" y="1447920"/>
            <a:ext cx="4038480" cy="1980720"/>
            <a:chOff x="762120" y="1447920"/>
            <a:chExt cx="4038480" cy="1980720"/>
          </a:xfrm>
        </p:grpSpPr>
        <p:sp>
          <p:nvSpPr>
            <p:cNvPr id="252" name=""/>
            <p:cNvSpPr/>
            <p:nvPr/>
          </p:nvSpPr>
          <p:spPr>
            <a:xfrm>
              <a:off x="768240" y="1454400"/>
              <a:ext cx="4025880" cy="197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190620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120" y="2364840"/>
              <a:ext cx="40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1880" y="1522440"/>
              <a:ext cx="60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0020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61040" y="152244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1447920"/>
              <a:ext cx="0" cy="45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81960" y="198108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36640" y="2745720"/>
              <a:ext cx="1957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cation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029200" y="1279440"/>
            <a:ext cx="4013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SPI + destination address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pibrėžia saugos asociaciją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(algoritm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rak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autentifikacinių duomenų struktūra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960" y="3641760"/>
            <a:ext cx="8093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ikomas raktu pagrįstas</a:t>
            </a: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 MD5 </a:t>
            </a: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tam tikriems IP galvutės lauk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audojamas slaptas raktas, kuriuo dalijasi galiniai komunikavimo ta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556272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lt-LT" sz="2400" spc="-1" strike="noStrike">
                <a:solidFill>
                  <a:srgbClr val="00279f"/>
                </a:solidFill>
                <a:latin typeface="Arial"/>
              </a:rPr>
              <a:t>Negalimumas paneigti yra garantuojamas, jei AH yra naudojamas kartu su asimetriniais algoritmais (skaitmeniniais paraša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SP protokolas- tai saugaus turinio uždarymo protoko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užtikrina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utentifik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datagramo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entisu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vykd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atagramos duomenų šifravim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otokolas dirba dviejuose režimuose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ransportiniame bei tuneliav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inio režimo atveju šis protokolas apsaugo duomenis ir aukštesnio lygio protokolų (tokių kaip TCP) galvutes. Nerealizuojama IP galvutės apsau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65A-FB52-4C6B-821C-A67E24B8E1E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Encapsulation Security Paylo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unelinis darbo reži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rnauja ryšiui tarp dviejų vartų, kai tuo tarpu transporto režimas naudojamas ryšiui hostas-hostas arba hostas-vart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o režimo atveju visa IP datagrama talpinama į vidų ESP paketo, o jo galvutėje rašomi tik vartų adres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ikrieji galutinių taškų adresai yra užšifruo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žtikrinant didesnę kanalo saugą, abu protokolai taikomi kartu – tai garantuoja tiek autentifikaciją, tiek konfidencialumą, tiek perdavimų vientisu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5E3-8250-4CDA-8A18-F4B39ED6278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2208240"/>
            <a:ext cx="7924680" cy="839880"/>
            <a:chOff x="762120" y="2208240"/>
            <a:chExt cx="7924680" cy="839880"/>
          </a:xfrm>
        </p:grpSpPr>
        <p:sp>
          <p:nvSpPr>
            <p:cNvPr id="270" name=""/>
            <p:cNvSpPr/>
            <p:nvPr/>
          </p:nvSpPr>
          <p:spPr>
            <a:xfrm>
              <a:off x="768240" y="2597040"/>
              <a:ext cx="791208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98560" y="2665440"/>
              <a:ext cx="109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574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71600" y="2665440"/>
              <a:ext cx="1762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ther IP Head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51960" y="2665440"/>
              <a:ext cx="131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S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38680" y="25909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09000" y="2665440"/>
              <a:ext cx="151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ypte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12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720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86800" y="2209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23623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625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48320" y="2362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01000" y="23623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93840" y="2208240"/>
              <a:ext cx="66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27400" y="220824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70680" y="1538280"/>
            <a:ext cx="6465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IP datagram with encrypted por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1040" y="3595680"/>
            <a:ext cx="231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279f"/>
                </a:solidFill>
                <a:latin typeface="Arial"/>
              </a:rPr>
              <a:t>ESP Hea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62120" y="4349880"/>
            <a:ext cx="4724280" cy="1282680"/>
            <a:chOff x="762120" y="4349880"/>
            <a:chExt cx="4724280" cy="1282680"/>
          </a:xfrm>
        </p:grpSpPr>
        <p:sp>
          <p:nvSpPr>
            <p:cNvPr id="290" name=""/>
            <p:cNvSpPr/>
            <p:nvPr/>
          </p:nvSpPr>
          <p:spPr>
            <a:xfrm>
              <a:off x="768240" y="4349880"/>
              <a:ext cx="471168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120" y="4876920"/>
              <a:ext cx="472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08760" y="44179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9320" y="5103720"/>
              <a:ext cx="3704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paque transform data, variable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f0e30"/>
                </a:solidFill>
                <a:latin typeface="Arial"/>
              </a:rPr>
              <a:t>Encapsulating Security Payload (E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8880" y="1355760"/>
            <a:ext cx="552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279f"/>
                </a:solidFill>
                <a:latin typeface="Arial"/>
              </a:rPr>
              <a:t>Must-implement for ESP is DES-C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62120" y="2286000"/>
            <a:ext cx="7407720" cy="2743200"/>
            <a:chOff x="762120" y="2286000"/>
            <a:chExt cx="7407720" cy="2743200"/>
          </a:xfrm>
        </p:grpSpPr>
        <p:sp>
          <p:nvSpPr>
            <p:cNvPr id="297" name=""/>
            <p:cNvSpPr/>
            <p:nvPr/>
          </p:nvSpPr>
          <p:spPr>
            <a:xfrm>
              <a:off x="762120" y="2286000"/>
              <a:ext cx="6159240" cy="2730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2120" y="281952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365760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120" y="4495680"/>
              <a:ext cx="617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94560" y="2360520"/>
              <a:ext cx="299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curity Parameter Index (SP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74360" y="3046320"/>
              <a:ext cx="2274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itialization Vector (I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56320" y="388476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12960" y="4570560"/>
              <a:ext cx="930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47040" y="4570560"/>
              <a:ext cx="1222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d 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18280" y="4570560"/>
              <a:ext cx="1427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 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8148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86200" y="44956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86600" y="2819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86600" y="50292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91520" y="2819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91520" y="42670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70400" y="3732120"/>
              <a:ext cx="1099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5920" y="533520"/>
            <a:ext cx="73710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H and ESP Layering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81120" y="1927080"/>
            <a:ext cx="1089000" cy="378000"/>
            <a:chOff x="681120" y="1927080"/>
            <a:chExt cx="1089000" cy="378000"/>
          </a:xfrm>
        </p:grpSpPr>
        <p:sp>
          <p:nvSpPr>
            <p:cNvPr id="316" name=""/>
            <p:cNvSpPr/>
            <p:nvPr/>
          </p:nvSpPr>
          <p:spPr>
            <a:xfrm>
              <a:off x="681120" y="192708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3760" y="19537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778040" y="1925640"/>
            <a:ext cx="93816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21040" y="195912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700360" y="1927080"/>
            <a:ext cx="1865160" cy="378000"/>
            <a:chOff x="2700360" y="1927080"/>
            <a:chExt cx="1865160" cy="378000"/>
          </a:xfrm>
        </p:grpSpPr>
        <p:sp>
          <p:nvSpPr>
            <p:cNvPr id="321" name=""/>
            <p:cNvSpPr/>
            <p:nvPr/>
          </p:nvSpPr>
          <p:spPr>
            <a:xfrm>
              <a:off x="2700360" y="1927080"/>
              <a:ext cx="18651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32920" y="19537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81120" y="2557440"/>
            <a:ext cx="3920760" cy="387360"/>
            <a:chOff x="681120" y="2557440"/>
            <a:chExt cx="3920760" cy="387360"/>
          </a:xfrm>
        </p:grpSpPr>
        <p:grpSp>
          <p:nvGrpSpPr>
            <p:cNvPr id="324" name=""/>
            <p:cNvGrpSpPr/>
            <p:nvPr/>
          </p:nvGrpSpPr>
          <p:grpSpPr>
            <a:xfrm>
              <a:off x="681120" y="2560680"/>
              <a:ext cx="1089000" cy="379440"/>
              <a:chOff x="681120" y="2560680"/>
              <a:chExt cx="1089000" cy="379440"/>
            </a:xfrm>
          </p:grpSpPr>
          <p:sp>
            <p:nvSpPr>
              <p:cNvPr id="325" name=""/>
              <p:cNvSpPr/>
              <p:nvPr/>
            </p:nvSpPr>
            <p:spPr>
              <a:xfrm>
                <a:off x="681120" y="256068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34120" y="258768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736000" y="2559240"/>
              <a:ext cx="1865880" cy="380880"/>
              <a:chOff x="2736000" y="2559240"/>
              <a:chExt cx="1865880" cy="380880"/>
            </a:xfrm>
          </p:grpSpPr>
          <p:sp>
            <p:nvSpPr>
              <p:cNvPr id="328" name=""/>
              <p:cNvSpPr/>
              <p:nvPr/>
            </p:nvSpPr>
            <p:spPr>
              <a:xfrm>
                <a:off x="2736000" y="2559240"/>
                <a:ext cx="186588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69640" y="25862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787760" y="2557440"/>
              <a:ext cx="934920" cy="387360"/>
              <a:chOff x="1787760" y="2557440"/>
              <a:chExt cx="934920" cy="387360"/>
            </a:xfrm>
          </p:grpSpPr>
          <p:sp>
            <p:nvSpPr>
              <p:cNvPr id="331" name=""/>
              <p:cNvSpPr/>
              <p:nvPr/>
            </p:nvSpPr>
            <p:spPr>
              <a:xfrm>
                <a:off x="1787760" y="25574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20680" y="259416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681120" y="3176640"/>
            <a:ext cx="4841280" cy="387360"/>
            <a:chOff x="681120" y="3176640"/>
            <a:chExt cx="4841280" cy="387360"/>
          </a:xfrm>
        </p:grpSpPr>
        <p:grpSp>
          <p:nvGrpSpPr>
            <p:cNvPr id="334" name=""/>
            <p:cNvGrpSpPr/>
            <p:nvPr/>
          </p:nvGrpSpPr>
          <p:grpSpPr>
            <a:xfrm>
              <a:off x="1785600" y="3176640"/>
              <a:ext cx="936720" cy="387360"/>
              <a:chOff x="1785600" y="3176640"/>
              <a:chExt cx="936720" cy="387360"/>
            </a:xfrm>
          </p:grpSpPr>
          <p:sp>
            <p:nvSpPr>
              <p:cNvPr id="335" name=""/>
              <p:cNvSpPr/>
              <p:nvPr/>
            </p:nvSpPr>
            <p:spPr>
              <a:xfrm>
                <a:off x="1785600" y="3176640"/>
                <a:ext cx="936720" cy="387360"/>
              </a:xfrm>
              <a:prstGeom prst="rect">
                <a:avLst/>
              </a:prstGeom>
              <a:solidFill>
                <a:srgbClr val="ff5008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02680" y="3211920"/>
                <a:ext cx="4276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81120" y="3176640"/>
              <a:ext cx="1088640" cy="387360"/>
              <a:chOff x="681120" y="3176640"/>
              <a:chExt cx="1088640" cy="387360"/>
            </a:xfrm>
          </p:grpSpPr>
          <p:sp>
            <p:nvSpPr>
              <p:cNvPr id="338" name=""/>
              <p:cNvSpPr/>
              <p:nvPr/>
            </p:nvSpPr>
            <p:spPr>
              <a:xfrm>
                <a:off x="681120" y="3176640"/>
                <a:ext cx="1088640" cy="3873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4120" y="32054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3656520" y="3178440"/>
              <a:ext cx="1865880" cy="385560"/>
              <a:chOff x="3656520" y="3178440"/>
              <a:chExt cx="1865880" cy="385560"/>
            </a:xfrm>
          </p:grpSpPr>
          <p:sp>
            <p:nvSpPr>
              <p:cNvPr id="341" name=""/>
              <p:cNvSpPr/>
              <p:nvPr/>
            </p:nvSpPr>
            <p:spPr>
              <a:xfrm>
                <a:off x="3656520" y="3178440"/>
                <a:ext cx="1865880" cy="385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890160" y="320688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708640" y="3176640"/>
              <a:ext cx="934920" cy="387360"/>
              <a:chOff x="2708640" y="3176640"/>
              <a:chExt cx="934920" cy="387360"/>
            </a:xfrm>
          </p:grpSpPr>
          <p:sp>
            <p:nvSpPr>
              <p:cNvPr id="344" name=""/>
              <p:cNvSpPr/>
              <p:nvPr/>
            </p:nvSpPr>
            <p:spPr>
              <a:xfrm>
                <a:off x="2708640" y="3176640"/>
                <a:ext cx="934920" cy="387360"/>
              </a:xfrm>
              <a:prstGeom prst="rect">
                <a:avLst/>
              </a:prstGeom>
              <a:solidFill>
                <a:srgbClr val="d9319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1560" y="3211920"/>
                <a:ext cx="5374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S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681120" y="4586400"/>
            <a:ext cx="5022360" cy="379440"/>
            <a:chOff x="681120" y="4586400"/>
            <a:chExt cx="5022360" cy="379440"/>
          </a:xfrm>
        </p:grpSpPr>
        <p:grpSp>
          <p:nvGrpSpPr>
            <p:cNvPr id="347" name=""/>
            <p:cNvGrpSpPr/>
            <p:nvPr/>
          </p:nvGrpSpPr>
          <p:grpSpPr>
            <a:xfrm>
              <a:off x="2741760" y="4586400"/>
              <a:ext cx="1089360" cy="379440"/>
              <a:chOff x="2741760" y="4586400"/>
              <a:chExt cx="1089360" cy="379440"/>
            </a:xfrm>
          </p:grpSpPr>
          <p:sp>
            <p:nvSpPr>
              <p:cNvPr id="348" name=""/>
              <p:cNvSpPr/>
              <p:nvPr/>
            </p:nvSpPr>
            <p:spPr>
              <a:xfrm>
                <a:off x="2741760" y="4586400"/>
                <a:ext cx="108936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936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837600" y="4586400"/>
              <a:ext cx="1865880" cy="379440"/>
              <a:chOff x="3837600" y="4586400"/>
              <a:chExt cx="1865880" cy="379440"/>
            </a:xfrm>
          </p:grpSpPr>
          <p:sp>
            <p:nvSpPr>
              <p:cNvPr id="351" name=""/>
              <p:cNvSpPr/>
              <p:nvPr/>
            </p:nvSpPr>
            <p:spPr>
              <a:xfrm>
                <a:off x="3837600" y="4586400"/>
                <a:ext cx="186588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071240" y="4613040"/>
                <a:ext cx="14778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RANSPORT 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776600" y="4587480"/>
              <a:ext cx="936720" cy="37800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19240" y="4619160"/>
              <a:ext cx="53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681120" y="4586400"/>
              <a:ext cx="1089000" cy="379440"/>
              <a:chOff x="681120" y="4586400"/>
              <a:chExt cx="1089000" cy="379440"/>
            </a:xfrm>
          </p:grpSpPr>
          <p:sp>
            <p:nvSpPr>
              <p:cNvPr id="356" name=""/>
              <p:cNvSpPr/>
              <p:nvPr/>
            </p:nvSpPr>
            <p:spPr>
              <a:xfrm>
                <a:off x="681120" y="4586400"/>
                <a:ext cx="1089000" cy="3794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3920" bIns="43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34480" y="4613040"/>
                <a:ext cx="78408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P H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2743200" y="6032520"/>
            <a:ext cx="1089000" cy="380880"/>
            <a:chOff x="2743200" y="6032520"/>
            <a:chExt cx="1089000" cy="380880"/>
          </a:xfrm>
        </p:grpSpPr>
        <p:sp>
          <p:nvSpPr>
            <p:cNvPr id="359" name=""/>
            <p:cNvSpPr/>
            <p:nvPr/>
          </p:nvSpPr>
          <p:spPr>
            <a:xfrm>
              <a:off x="2743200" y="603252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84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18160" y="6033960"/>
            <a:ext cx="1866960" cy="379440"/>
            <a:chOff x="4718160" y="6033960"/>
            <a:chExt cx="1866960" cy="379440"/>
          </a:xfrm>
        </p:grpSpPr>
        <p:sp>
          <p:nvSpPr>
            <p:cNvPr id="362" name=""/>
            <p:cNvSpPr/>
            <p:nvPr/>
          </p:nvSpPr>
          <p:spPr>
            <a:xfrm>
              <a:off x="4718160" y="6033960"/>
              <a:ext cx="186696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50720" y="605952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776240" y="6032520"/>
            <a:ext cx="938520" cy="380880"/>
          </a:xfrm>
          <a:prstGeom prst="rect">
            <a:avLst/>
          </a:prstGeom>
          <a:solidFill>
            <a:srgbClr val="d931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19240" y="6066000"/>
            <a:ext cx="53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81120" y="6033960"/>
            <a:ext cx="1089000" cy="379440"/>
            <a:chOff x="681120" y="6033960"/>
            <a:chExt cx="1089000" cy="379440"/>
          </a:xfrm>
        </p:grpSpPr>
        <p:sp>
          <p:nvSpPr>
            <p:cNvPr id="367" name=""/>
            <p:cNvSpPr/>
            <p:nvPr/>
          </p:nvSpPr>
          <p:spPr>
            <a:xfrm>
              <a:off x="681120" y="603396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3760" y="605952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822840" y="6033960"/>
            <a:ext cx="934920" cy="379440"/>
          </a:xfrm>
          <a:prstGeom prst="rect">
            <a:avLst/>
          </a:prstGeom>
          <a:solidFill>
            <a:srgbClr val="ff500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62240" y="6066000"/>
            <a:ext cx="42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743200" y="5418000"/>
            <a:ext cx="1089000" cy="379440"/>
            <a:chOff x="2743200" y="5418000"/>
            <a:chExt cx="1089000" cy="379440"/>
          </a:xfrm>
        </p:grpSpPr>
        <p:sp>
          <p:nvSpPr>
            <p:cNvPr id="372" name=""/>
            <p:cNvSpPr/>
            <p:nvPr/>
          </p:nvSpPr>
          <p:spPr>
            <a:xfrm>
              <a:off x="2743200" y="5418000"/>
              <a:ext cx="1089000" cy="379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96200" y="544464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776840" y="5418000"/>
            <a:ext cx="1866960" cy="378000"/>
            <a:chOff x="4776840" y="5418000"/>
            <a:chExt cx="1866960" cy="378000"/>
          </a:xfrm>
        </p:grpSpPr>
        <p:sp>
          <p:nvSpPr>
            <p:cNvPr id="375" name=""/>
            <p:cNvSpPr/>
            <p:nvPr/>
          </p:nvSpPr>
          <p:spPr>
            <a:xfrm>
              <a:off x="4776840" y="5418000"/>
              <a:ext cx="186696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09760" y="5442840"/>
              <a:ext cx="1478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44800" y="5418000"/>
            <a:ext cx="936720" cy="379440"/>
            <a:chOff x="3844800" y="5418000"/>
            <a:chExt cx="936720" cy="379440"/>
          </a:xfrm>
        </p:grpSpPr>
        <p:sp>
          <p:nvSpPr>
            <p:cNvPr id="378" name=""/>
            <p:cNvSpPr/>
            <p:nvPr/>
          </p:nvSpPr>
          <p:spPr>
            <a:xfrm>
              <a:off x="3844800" y="5418000"/>
              <a:ext cx="936720" cy="379440"/>
            </a:xfrm>
            <a:prstGeom prst="rect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86360" y="5450760"/>
              <a:ext cx="538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36560" y="5418000"/>
            <a:ext cx="1089000" cy="378000"/>
            <a:chOff x="736560" y="5418000"/>
            <a:chExt cx="1089000" cy="378000"/>
          </a:xfrm>
        </p:grpSpPr>
        <p:sp>
          <p:nvSpPr>
            <p:cNvPr id="381" name=""/>
            <p:cNvSpPr/>
            <p:nvPr/>
          </p:nvSpPr>
          <p:spPr>
            <a:xfrm>
              <a:off x="736560" y="5418000"/>
              <a:ext cx="1089000" cy="37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89200" y="5455800"/>
              <a:ext cx="784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805040" y="5418000"/>
            <a:ext cx="936360" cy="378000"/>
            <a:chOff x="1805040" y="5418000"/>
            <a:chExt cx="936360" cy="378000"/>
          </a:xfrm>
        </p:grpSpPr>
        <p:sp>
          <p:nvSpPr>
            <p:cNvPr id="384" name=""/>
            <p:cNvSpPr/>
            <p:nvPr/>
          </p:nvSpPr>
          <p:spPr>
            <a:xfrm>
              <a:off x="1805040" y="5418000"/>
              <a:ext cx="936360" cy="37800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46240" y="5449320"/>
              <a:ext cx="428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058800" y="2624040"/>
            <a:ext cx="248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ansport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27800" y="4221000"/>
            <a:ext cx="206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unnel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81120" y="4022640"/>
            <a:ext cx="5022360" cy="387360"/>
            <a:chOff x="681120" y="4022640"/>
            <a:chExt cx="5022360" cy="387360"/>
          </a:xfrm>
        </p:grpSpPr>
        <p:sp>
          <p:nvSpPr>
            <p:cNvPr id="389" name=""/>
            <p:cNvSpPr/>
            <p:nvPr/>
          </p:nvSpPr>
          <p:spPr>
            <a:xfrm>
              <a:off x="2742120" y="4027680"/>
              <a:ext cx="108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9404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37600" y="4027680"/>
              <a:ext cx="18658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71240" y="4054320"/>
              <a:ext cx="14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PORT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20" y="4027680"/>
              <a:ext cx="108936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4480" y="4054320"/>
              <a:ext cx="784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86320" y="4022640"/>
              <a:ext cx="936720" cy="387360"/>
            </a:xfrm>
            <a:prstGeom prst="rect">
              <a:avLst/>
            </a:prstGeom>
            <a:solidFill>
              <a:srgbClr val="ff500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3920" bIns="43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03400" y="4057560"/>
              <a:ext cx="427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7175520" y="566568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4107-8493-46DC-9E77-04AB9B48848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uneliavimo moda naudojama kai palaikomas ryšys – maršrutizatorius – maršrutizatorius – šifruojamas visas IP paketas, net ir IP galvut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ansporto moda – palaiko ryšį hostas-hostas. Tinkliniams įrenginiams leidžia matyti tiek šaltinio, tiek paskirties taško IP adresus – IP galvutė nešifruota – šifruojama nuo traansporto galvutės. Gali būti naudojama tuo atveju, kai abu hostai palaiko IPSe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5BE-D3F7-4D97-BE02-D6F450E8F0C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file1598206_datori2" descr=""/>
          <p:cNvPicPr/>
          <p:nvPr/>
        </p:nvPicPr>
        <p:blipFill>
          <a:blip r:embed="rId1"/>
          <a:stretch/>
        </p:blipFill>
        <p:spPr>
          <a:xfrm>
            <a:off x="990720" y="1184400"/>
            <a:ext cx="7086600" cy="50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988-5402-4693-9834-EC016517294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00200" y="1828800"/>
            <a:ext cx="481824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080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06160" y="209880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92240" y="2576520"/>
            <a:ext cx="180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96160" y="2576520"/>
            <a:ext cx="1440" cy="3981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2480" y="2936880"/>
            <a:ext cx="3943440" cy="9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6160" y="3805200"/>
            <a:ext cx="239760" cy="11916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9" y="0"/>
                </a:moveTo>
                <a:lnTo>
                  <a:pt x="151" y="75"/>
                </a:lnTo>
                <a:lnTo>
                  <a:pt x="0" y="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022480" y="3954600"/>
            <a:ext cx="3943440" cy="9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22480" y="4822920"/>
            <a:ext cx="239760" cy="118800"/>
          </a:xfrm>
          <a:custGeom>
            <a:avLst/>
            <a:gdLst/>
            <a:ahLst/>
            <a:rect l="l" t="t" r="r" b="b"/>
            <a:pathLst>
              <a:path w="151" h="75">
                <a:moveTo>
                  <a:pt x="151" y="75"/>
                </a:moveTo>
                <a:lnTo>
                  <a:pt x="0" y="75"/>
                </a:lnTo>
                <a:lnTo>
                  <a:pt x="1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840000">
            <a:off x="4531680" y="326556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840000">
            <a:off x="2932560" y="2952720"/>
            <a:ext cx="216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(x, Public   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820000">
            <a:off x="3779640" y="40762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autentifikacija, pagrįsta viešais rakta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EA4-AE82-4497-93C9-312A6E0CCD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ranešimo vientisumą užtikrinantys protokol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kaitmeniniai parašai sudaromi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S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šifravimo metodą – tai asimetrinis algoritmas, naudojantis du raktus:slaptą bei vieš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varbia problema yra pranešimo vientisumo užtikrinimas – pranešimas pakeliui nėra modifik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rašoma, naudoja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tų raktą ir tikrinama taikant viešą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91E-EDC9-49F4-B77A-8D043D9DED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sudary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jama pasirašomo dokumento kontrolinė su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žšifruojama kontrolinė suma, data, laikas ir kita informacija naudojant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ie dokumento pridedamas paraš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ma užšifruoti pasirašytą dokumentą dar ir su gavėjo viešu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61B-AA1F-4E29-B970-D650836699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2:44:38Z</dcterms:created>
  <dc:creator>Kristina</dc:creator>
  <dc:description/>
  <dc:language>en-US</dc:language>
  <cp:lastModifiedBy>Kristina</cp:lastModifiedBy>
  <dcterms:modified xsi:type="dcterms:W3CDTF">2004-11-24T07:47:26Z</dcterms:modified>
  <cp:revision>19</cp:revision>
  <dc:subject/>
  <dc:title>11 paskaita</dc:title>
</cp:coreProperties>
</file>