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2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2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BDC2-225F-4D7B-9FE7-906B24C7E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05A6-1C8D-491D-9863-214CBFA84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FD68-2045-4D80-BE72-DE8216117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F4EF-06DD-4CCE-A421-5AC5B8250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B95D-20CD-43E4-8DE4-1FAA5A613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257F-2D4E-4D79-AC7E-1846CA3E3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B5A9-048F-412E-B8D7-35B439F84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1006-5E62-4724-859F-C89406F72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042E-203B-4FCA-A842-695E91697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8F61-8D2D-474A-A8EE-CB0A6C63D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7673-B4E9-4393-8413-C3879E387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509F-242A-47C8-AEAF-64A1792BC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83AA-41E9-4E5C-93F9-E4D3479DC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CED0-D3C0-4926-BF79-B461077B3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C207-ADF9-4FD4-8D3B-5E3EF3FD9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8FCD-8911-48B5-842B-379D0033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7096-A94D-44AA-AAD3-76B3F8BA6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CDE5-ED4E-43D1-AF96-85C535224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FBB0-E051-4766-9F1E-86CF0D22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B099-1875-4231-AD77-06AE8C16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7CF4-7FB2-43D7-BB88-EFD81CA9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BC4C-A62F-4962-899F-365DE161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D9DF-BF0B-47CC-8ED3-97E389E5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BE6E-0F7F-4784-BD8E-4A1947A2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C42C-D80C-4603-BD09-CDBB2097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245A-7E47-4F38-8B89-4CD82261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FC36-6E14-4CE7-A69C-6095247C9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rsasecurity.com/rsalabs/faq/images/feistel.gif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rsasecurity.com/rsalabs/faq/images/feistel.gif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2520" y="228564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10 paska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562360" y="3886200"/>
            <a:ext cx="2971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Šifrav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file2782590_datorjoki3" descr=""/>
          <p:cNvPicPr/>
          <p:nvPr/>
        </p:nvPicPr>
        <p:blipFill>
          <a:blip r:embed="rId1"/>
          <a:stretch/>
        </p:blipFill>
        <p:spPr>
          <a:xfrm>
            <a:off x="457200" y="1820880"/>
            <a:ext cx="4114800" cy="403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759C-F6ED-4D9F-A838-CA0C218A433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imetrinis šif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avimo saugą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psprendži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fravimo algoritmo sudėtingu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akto ilg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tikimumas pasikeičiant informacija apie rakt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a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čiai taikomi du simetriniai algoritm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lokinio šifravi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rautinio šifravi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0DD9-59F7-4929-93DB-B34988CE0A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Blokinis šif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55649b"/>
                </a:solidFill>
                <a:latin typeface="Times New Roman"/>
              </a:rPr>
              <a:t>Taikant šį algoritmą, </a:t>
            </a:r>
            <a:r>
              <a:rPr b="1" lang="lt-LT" sz="2800" spc="-1" strike="noStrike">
                <a:solidFill>
                  <a:srgbClr val="55649b"/>
                </a:solidFill>
                <a:latin typeface="Times New Roman"/>
              </a:rPr>
              <a:t>fiksuoto</a:t>
            </a:r>
            <a:r>
              <a:rPr b="0" lang="lt-LT" sz="2800" spc="-1" strike="noStrike">
                <a:solidFill>
                  <a:srgbClr val="55649b"/>
                </a:solidFill>
                <a:latin typeface="Times New Roman"/>
              </a:rPr>
              <a:t> ilgio atviro teksto </a:t>
            </a:r>
            <a:r>
              <a:rPr b="1" lang="lt-LT" sz="2800" spc="-1" strike="noStrike">
                <a:solidFill>
                  <a:srgbClr val="55649b"/>
                </a:solidFill>
                <a:latin typeface="Times New Roman"/>
              </a:rPr>
              <a:t>blokas</a:t>
            </a:r>
            <a:r>
              <a:rPr b="0" lang="lt-LT" sz="2800" spc="-1" strike="noStrike">
                <a:solidFill>
                  <a:srgbClr val="55649b"/>
                </a:solidFill>
                <a:latin typeface="Times New Roman"/>
              </a:rPr>
              <a:t> yra transformuojamas į tokio paties ilgio šifruotą tekst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55649b"/>
                </a:solidFill>
                <a:latin typeface="Times New Roman"/>
              </a:rPr>
              <a:t>Ši transformacija atliekama naudojant vartotojo pateiktą slaptą raktą</a:t>
            </a:r>
            <a:r>
              <a:rPr b="0" lang="en-GB" sz="2800" spc="-1" strike="noStrike">
                <a:solidFill>
                  <a:srgbClr val="55649b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55649b"/>
                </a:solidFill>
                <a:latin typeface="Times New Roman"/>
              </a:rPr>
              <a:t>Iššifravimas vykdomas taikant tas pačias transformacijas atbuline tvarka šifruotam blokui, naudojant tą patį šfravimo rakt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55649b"/>
                </a:solidFill>
                <a:latin typeface="Times New Roman"/>
              </a:rPr>
              <a:t>Fiksuotas teksto ilgis yra vadinamas bloko dydžiu, daugumoje blokinių šifratorių naudojamas 64bitų blokas – ateičiai planuojamas 128bitų blok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4061-EF27-483A-A2B6-B77F17BF3D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Blokinis šifravimas 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lock cipher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uoja griežtai nustatytu duomenų skaičiumi, transformuodamas ir perstatydamas to bloko bitus pagal užduotą rakt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v.: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gorit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(Data Encryption Standa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aktas –56 bitai, dirba su 64 bitų teksto blok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9680" y="2549520"/>
            <a:ext cx="88646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feistel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4495680"/>
            <a:ext cx="7010640" cy="171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B84D-E260-466E-A94C-AE3AC2406A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ES algorit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ai sutrumpinimas nuo žodžių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Data Encryption Standard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. Sukurtas 1970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Jis šifruoja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duomenis blokais po 64 bitu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. Šifravimui naudojamas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56 bitų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rak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Šifravimui naudojami poslinkiai bei perstatyma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grindinis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algoritmas kartojamas 16 kartų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, nes ciklų kiekis yra eksponentiniai proporcingas laikui, kurio reikia rakto radimui siekiant “kenkėjiškai” dešifruo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rūkumas – per mažas rakto ilgis, spec dešifratoriai gali atspėti raktą (apie 22 val trunka).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D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rb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Triple D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radėtas naudoti nu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1999. 3D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naudoja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DE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tris kartus su skirtingais raktais, taigi rakto ilgis gaunasi  168bit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001, NIST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keitė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D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į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E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Advanced Encryption Standard).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ikimasi, kad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us pakankamai stiprus sekantiem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10-20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metų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78F3-6143-4360-9ACE-ECA70F0DD6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ES žingsn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oduojamas pranešimas papildomas 0-liais, kad galima būtų koduoti imant blokus po 64 bit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urime nešifruotą tekstą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0123456789ABCDE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0000 0001 0010 0011 0100 0101 0110 0111 1000 1001 1010 1011 1100 1101 1110 1111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0000 0001 0010 0011 0100 0101 0110 0111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1000 1001 1010 1011 1100 1101 1110 111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Čia L yra pirmi 32 bitai R – sekantys (iš kairės į dešin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operuoj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64-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lo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audodam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rakt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56-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aktai saugom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64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lgi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8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ak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yra nenaudoja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vyzdžiui raktas K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00010011 00110100 01010111 01111001 10011011 10111100 11011111 1111000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DA35-A56F-41B9-AD57-D5CDC5B8B3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ES žingsn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radžioje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raktas 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yra perstato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PC-1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57 49 41 33 25 17 9 1 58 50 42 34 26 18 10 2 59 51 43 35 27 19 11 3 60 52 44 36 63 55 47 39 31 23 15 7 62 54 46 38 30 22 14 6 61 53 45 37 29 21 13 5 28 20 12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010011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110100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10111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111001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011011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111100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11111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11000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Gaunamas </a:t>
            </a:r>
            <a:r>
              <a:rPr b="1" lang="lt-LT" sz="2000" spc="-1" strike="noStrike">
                <a:solidFill>
                  <a:srgbClr val="000000"/>
                </a:solidFill>
                <a:latin typeface="Arial Unicode MS"/>
              </a:rPr>
              <a:t>56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 bitų naujas rakt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+ = 1111000 0110011 0010101 0101111 0101010 1011001 1001111 00011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Jis sudalomas į dvi dalis po 28 bitus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C</a:t>
            </a:r>
            <a:r>
              <a:rPr b="1" lang="en-GB" sz="2400" spc="-1" strike="noStrike" baseline="-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ir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D</a:t>
            </a:r>
            <a:r>
              <a:rPr b="1" lang="en-GB" sz="2400" spc="-1" strike="noStrike" baseline="-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C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= 1111000 0110011 0010101 0101111 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D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= 0101010 1011001 1001111 00011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Sukuriama 16blokų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C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Arial Unicode MS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ir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D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Arial Unicode MS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, 1&lt;=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&lt;=16. 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Kiekviena pora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C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Arial Unicode MS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ir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D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Arial Unicode MS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yra formuojama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iš buvusios poros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C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Arial Unicode MS"/>
              </a:rPr>
              <a:t>n-1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D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Arial Unicode MS"/>
              </a:rPr>
              <a:t>n-1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atitinkamai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</a:rPr>
              <a:t>naudojant sekančias stumimo kairėn taisyk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B08E-8A6D-4474-9406-0F35C98040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ES žingsni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990720" y="1981080"/>
          <a:ext cx="5943600" cy="4140360"/>
        </p:xfrm>
        <a:graphic>
          <a:graphicData uri="http://schemas.openxmlformats.org/drawingml/2006/table">
            <a:tbl>
              <a:tblPr/>
              <a:tblGrid>
                <a:gridCol w="1218960"/>
                <a:gridCol w="1524240"/>
                <a:gridCol w="1600200"/>
                <a:gridCol w="1600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1143000" y="12952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teracijos NR – perstumiamų kairėn bitų skaič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D586-20BD-4504-ADC4-99DCDF43B2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-30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-3006720"/>
            <a:ext cx="3962520" cy="128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1100001100110010101010111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0101011001100111100011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1000011001100101010101111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01010101100110011110001111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0000110011001010101011111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0101100110011110001111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00011001100101010101111111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0110011001111000111101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011001100101010101111111100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1001100111100011110101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00110010101010111111110000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100110011110001111010101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01100101010101111111100001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0011001111000111101010101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00101010101111111100001100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1001111000111101010101011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01010101011111111000011001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0011110001111010101010110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76920" y="1066680"/>
            <a:ext cx="3581280" cy="52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010101111111100001100110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0111100011110101010101100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01011111111000011001100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110001111010101010110011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01111111100001100110010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000111101010101011001100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11111110000110011001010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0011110101010101100110011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1111111000011001100101010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111010101010110011001111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1111100001100110010101010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101010101011001100111100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1110000110011001010101011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0101010101100110011110001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1111000011001100101010101111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1600" spc="-1" strike="noStrike" baseline="-30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01010101011001100111100011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3049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unamos reikšmė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293F-A1F9-4BA2-A785-333F9AF23D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Formuojami rakta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32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1&lt;=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&lt;=16,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audojant antrą perstatymų lentelę  konkatenuotai pora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32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32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Jos ilgi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56 bi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bet naudojami tik 4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PC-2</a:t>
            </a:r>
            <a:r>
              <a:rPr b="1" lang="lt-LT" sz="2000" spc="-1" strike="noStrike">
                <a:solidFill>
                  <a:srgbClr val="000000"/>
                </a:solidFill>
                <a:latin typeface="Arial Unicode MS"/>
              </a:rPr>
              <a:t> imami bitai N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14 17 11 24 1 5 3 28 15 6 21 10 23 19 12 4 26 8 16 7 27 20 13 2 41 52 31 37 47 55 30 40 51 45 33 48 44 49 39 56 34 53 46 42 50 36 29 32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3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GB" sz="32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1110000 110011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01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010 1011111 1010101 0110011 0011110 001111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000110 110000 001011 101111 111111 000111 000001 1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E0D8-AACA-434E-B543-431C92CAFA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00110 110000 001011 101111 111111 000111 000001 11001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11110 011010 111011 011001 110110 111100 100111 10010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10101 011111 110010 001010 010000 101100 111110 01100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11100 101010 110111 010110 110110 110011 010100 01110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11111 001110 110000 000111 111010 110101 001110 101000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11000 111010 010100 111110 010100 000111 101100 10111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111011 001000 010010 110111 111101 100001 100010 111100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111101 111000 101000 111010 110000 010011 101111 11101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111000 001101 101111 101011 111011 011110 011110 00000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101100 011111 001101 000111 101110 100100 011001 00111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01000 010101 111111 010011 110111 101101 001110 000110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11101 010111 000111 110101 100101 000110 011111 10100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100101 111100 010111 010001 111110 101011 101001 000001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010111 110100 001110 110111 111100 101110 011100 111010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101111 111001 000110 001101 001111 010011 111100 001010</a:t>
            </a:r>
            <a:br>
              <a:rPr sz="2000"/>
            </a:b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= 110010 110011 110110 001011 000011 100001 011111 110101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3474-CC6C-4E6C-939C-F2538913D1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RIPTOLOG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iptografija – tai matematinė disciplina skirta duomenų šifravimui ir dešifravimu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riptoanalizė – metodai šifrui išsiaiškint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E3C3-43DE-4E97-8451-31FBE71C0E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Vykdomas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ranešimo M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bitų  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</a:rPr>
              <a:t>pradinis perstatymas;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vykdoma pagal lentelę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Unicode MS"/>
              </a:rPr>
              <a:t>IP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58 50 42 34 26 18 10 2 60 52 44 36 28 20 12 4 62 54 46 38 30 22 14 6 64 56 48 40 32 24 16 8 57 49 41 33 25 17 9 1 59 51 43 35 27 19 11 3 61 53 45 37 29 21 13 5 63 55 47 39 31 23 15 7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Unicode MS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= 0000 0001 0010 0011 0100 0101 0110 0111 1000 1001 1010 1011 1100 1101 1110 11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Unicode MS"/>
              </a:rPr>
              <a:t>IP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= 1100 1100 0000 0000 1100 1100 1111 1111 1111 0000 1010 1010 1111 0000 1010 101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Tada IP sudalomas į kairią </a:t>
            </a:r>
            <a:r>
              <a:rPr b="1" i="1" lang="en-GB" sz="2800" spc="-1" strike="noStrike">
                <a:solidFill>
                  <a:srgbClr val="000000"/>
                </a:solidFill>
                <a:latin typeface="Arial Unicode MS"/>
              </a:rPr>
              <a:t>L</a:t>
            </a:r>
            <a:r>
              <a:rPr b="1" i="1" lang="en-GB" sz="2800" spc="-1" strike="noStrike" baseline="-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bei dešinę </a:t>
            </a:r>
            <a:r>
              <a:rPr b="1" i="1" lang="en-GB" sz="2800" spc="-1" strike="noStrike">
                <a:solidFill>
                  <a:srgbClr val="000000"/>
                </a:solidFill>
                <a:latin typeface="Arial Unicode MS"/>
              </a:rPr>
              <a:t>R</a:t>
            </a:r>
            <a:r>
              <a:rPr b="1" i="1" lang="en-GB" sz="2800" spc="-1" strike="noStrike" baseline="-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lt-LT" sz="2800" spc="-1" strike="noStrike">
                <a:solidFill>
                  <a:srgbClr val="000000"/>
                </a:solidFill>
                <a:latin typeface="Arial Unicode MS"/>
              </a:rPr>
              <a:t> dali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 Unicode MS"/>
              </a:rPr>
              <a:t>L</a:t>
            </a:r>
            <a:r>
              <a:rPr b="1" i="1" lang="en-GB" sz="2800" spc="-1" strike="noStrike" baseline="-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= 1100 1100 0000 0000 1100 1100 1111 1111 </a:t>
            </a:r>
            <a:br>
              <a:rPr sz="2800"/>
            </a:br>
            <a:r>
              <a:rPr b="1" i="1" lang="en-GB" sz="2800" spc="-1" strike="noStrike">
                <a:solidFill>
                  <a:srgbClr val="000000"/>
                </a:solidFill>
                <a:latin typeface="Arial Unicode MS"/>
              </a:rPr>
              <a:t>R</a:t>
            </a:r>
            <a:r>
              <a:rPr b="1" i="1" lang="en-GB" sz="2800" spc="-1" strike="noStrike" baseline="-30000">
                <a:solidFill>
                  <a:srgbClr val="000000"/>
                </a:solidFill>
                <a:latin typeface="Arial Unicode MS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= 1111 0000 1010 1010 1111 0000 1010 101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D380-ABFA-42C4-8B47-C08619956B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La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eiški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XOR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udėtį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, (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udėtis moduliu 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mant nuo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k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16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kaičiuoja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1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urim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000110 110000 001011 101111 111111 000111 000001 110010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1111 0000 1010 1010 1111 0000 1010 1010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feistel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4495680"/>
            <a:ext cx="7010640" cy="17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33C4-A1B8-482E-94D8-87CF407167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kaičiuojant funkciją f reikia pradžioje atlikti šiuos veiksm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bloką reikia išplėsti nuo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k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8 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Tai vykdoma naudojant išrinkimo lentelę, kuri pakartoja kai kuriuos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bit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rocedūra vadinama E(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 funkcija (32 bitai įėjime ir 48 bitai išėjime). Išrinkimui naudojama lentelė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E BI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-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šrinkimo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lentel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32     1    2     3     4    5     4     5    6     7     8    9    8     9   10    11    12   13  12    13   14    15    16   17  16    17   18    19    20   21   20    21   22    23    24   25    24    25   26    27    28   29   28    29   30    31    32    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avyzdžiu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kaičiuojam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u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i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111 0000 1010 1010 1111 0000 1010 1010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11110 100001 010101 010101 011110 100001 010101 01010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D7D1-FCCB-4273-89D8-F75635A781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62120" y="3808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Funkcijo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kaičiavimu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ykdom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O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funkcija s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r rakt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avyzdžiu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urim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00110 110000 001011 101111 111111 000111 000001 110010 </a:t>
            </a:r>
            <a:br>
              <a:rPr sz="2400"/>
            </a:b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11110 100001 010101 010101 011110 100001 010101 010101 </a:t>
            </a:r>
            <a:br>
              <a:rPr sz="2400"/>
            </a:b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11000 010001 011110 111010 100001 100110 010100 10011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urime: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 bi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rba 8 grupes po 6 bit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iekviena 6 bitų grupė naudojama kaip adresai lentelėse, vadinamo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"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boxe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is  adresais S lentelėse yra patalpinti 4 bitų skaičiai, kurie pakeis tuos 6 bitus. Rezultate vėl gausis 32 bitų ilgio dyd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4F85-9ACD-446E-A799-A5E771AD779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tliekam surikiavimą po 6 bitu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-1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či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yra 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i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ų grupė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kaičiuojame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u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žymi dydį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oj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ox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gaunamas  taip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S1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Column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RowNo.    0  1   2  3   4  5   6  7   8  9  10 11  12 13  14 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 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0 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14  4  13  1   2 15  11  8   3 10   6 12   5  9   0 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1 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0 15   7  4  14  2  13  1  10  6  12 11   9  5   3  8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2  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4  1  14  8  13  6   2 11  15 12   9  7   3 10   5  0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3 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15 12   8  2   4  9   1  7   5 11   3 14  10  0   6 13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Pirmas ir paskutinis B bitai sudaro skaičių, kuris g.b. ribose nuo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iki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(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dvejetainėje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0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iki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1).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Lai tai bus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.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Viduriniai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B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bitai duos  dešimtainį skaičių nuo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iki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 (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dvejetainėje nuo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000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iki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111).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Lai tai bus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4757-6457-4A60-B23B-8773E625F52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.  .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11000 010001 011110 111010 100001 100110 010100 10011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101 1100 1000 0010 1011 0101 1001 01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f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= </a:t>
            </a:r>
            <a:r>
              <a:rPr b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(</a:t>
            </a:r>
            <a:r>
              <a:rPr b="1" i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2</a:t>
            </a:r>
            <a:r>
              <a:rPr b="1" i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2</a:t>
            </a:r>
            <a:r>
              <a:rPr b="1" i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)...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8</a:t>
            </a:r>
            <a:r>
              <a:rPr b="1" i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8</a:t>
            </a:r>
            <a:r>
              <a:rPr b="1" i="1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)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P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erstatymas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16   7  20  21  29  12  28  17   1  15  23  26   5  18  31  10   2   8  24  14   32  27   3   9  19  13  30   6</a:t>
            </a:r>
            <a:r>
              <a:rPr b="0" lang="lt-L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22  11   4  25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</a:t>
            </a:r>
            <a:r>
              <a:rPr b="1" i="1" lang="lt-L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101 1100 1000 0010 1011 0101 1001 01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Gauname:    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010 0011 0100 1010 1010 1001 1011 101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4061-79A3-4764-B55A-1B5015E9949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09480" y="304560"/>
            <a:ext cx="7010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100 1100 0000 0000 1100 1100 1111 1111 </a:t>
            </a:r>
            <a:br>
              <a:rPr sz="2400"/>
            </a:b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0010 0011 0100 1010 1010 1001 1011 1011 </a:t>
            </a:r>
            <a:br>
              <a:rPr sz="2400"/>
            </a:b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110 1111 0100 1010 0110 0101 0100 01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skaičiuojam analogiškai 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lt-LT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ikomas paskutinis perstatym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gal sekančią lentelę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IP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 Unicode MS"/>
                <a:ea typeface="Courier New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            40     8   48    16    56   24    64   32   39     7   47    15    55   23    63   31   38     6   46    14    54   22    62   30   37     5   45    13    53   21    61   29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36     4   44    12    52   20    60   28            35     3   43    11    51   19    59   27  34     2   42    10    50   18    58   26  33     1   41     9    49   17    57   2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avyzdžiu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tlikę visus minėtus žingsnius gausim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100 0011 0100 0010 0011 0010 0011 0100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000 1010 0100 1100 1101 1001 1001 010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60C6-7465-41AC-A221-F859464FE53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en-GB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0001010 01001100 11011001 10010101 01000011 01000010 00110010 001101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</a:t>
            </a:r>
            <a:r>
              <a:rPr b="1" i="1" lang="en-GB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000101 11101000 00010011 01010100 00001111 00001010 10110100 0000010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ešioliktainiam formate tai duos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E813540F0AB405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g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123456789ABCDEF: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us užšfruotas kai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85E813540F0AB40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ešifravimas vykdomas kaip atvirkščias procesas šifravimu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CF55-0791-4F0C-9D0E-3605301751B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Atak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prieš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DES / 3D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prasčiausias nulaužimo metodas yra “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rute-force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” ieškant tinkamo rakto. Tai reikalauja išbandyt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000" spc="-1" strike="noStrike" baseline="30000">
                <a:solidFill>
                  <a:srgbClr val="000000"/>
                </a:solidFill>
                <a:latin typeface="Times New Roman"/>
              </a:rPr>
              <a:t>5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rakt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iferen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cinė  kriptoanalizė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Šiose atakose bandoma nustatyti koreliacinį ryšį tarp funkcijos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DES algoritmo f-jos f įėjimo ir išėjimo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duomenų. Toks metodas reikalauja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000" spc="-1" strike="noStrike" baseline="30000">
                <a:solidFill>
                  <a:srgbClr val="000000"/>
                </a:solidFill>
                <a:latin typeface="Times New Roman"/>
              </a:rPr>
              <a:t>4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andymų, kas yra mažiau nei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brute force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tipo atakos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Tiesinė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t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nal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izė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Šiose atakose ieškoma koreliacijos tarp rakto ir šfratoriaus įėjimo/išėjimo.  Ši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metod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s reikalaus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000" spc="-1" strike="noStrike" baseline="30000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bandymų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prasta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D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gali būti nulaužiamas per pakankamai trumpą laiką ir todėl nebelaikomas standart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takų prieš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3D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nepastebėta. Kadangi rakto ilgis pakankamai didelis, tai sunku naudoti ir “bruce-force” tipo atakas su esamais kompiuteriniais pajėgum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Nor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3DE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yra pakankamai saugus, tačiau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NIST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yra pakeitus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3DE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aip šifravimo standart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DB67-76FC-4920-A3D2-4D101120D3A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BER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BERO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tai schema, kuri remiasi DES ir yra naudojama slaptos informacijos (pavyzdžiui slaptažodžių ), siunčiamų tinklu iš klientų programų serveriniams procesams ar demonams šifravimu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55C3-31CD-431B-896B-9B5004D8B59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Šifravimo svarb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augomų ir perduodamų Interneto tinkla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uomenų turiny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dažnai yra labai svar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erduodami duomenys dažnai būna surišti su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finansinė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operacijom, pirkimais – pardavimais, atsiskaitymais, bilietų, viešbučių rezervacija ir kita veik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markiai išaugusi duomenų perdavimų apimtis, svarba,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onfidencialu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kelia reikalavimus apsisaugojimo nuo neautorizuoto šių duomenų naudoji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Yra pripažįstama, kad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uomenų šifravimas yra ta priemonė, kuri leidžia apsaugoti duomenis juos saugant ar perduodant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taigi pakankamai stiprus šifravimas gali būti naudojamas duomenų konfidencialumui, autentiškumui , vientisumui užtikrin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6A74-851F-4127-8047-2F9D7A92E0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imetrinis šif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DEA – naudoja 128 bitų raktą, atsparesnis nulaužim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lipjack – tai naujas algoritmas, operuoja 80 bitų rakt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Blow fish gali naudoti raktus nuo 32 iki 448 bitų ilg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664A-4121-4ADB-8C95-EC4D2C90C82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fruoja </a:t>
            </a:r>
            <a:r>
              <a:rPr b="0" lang="lt-LT" sz="2800" spc="-1" strike="noStrike">
                <a:solidFill>
                  <a:srgbClr val="ff33cc"/>
                </a:solidFill>
                <a:latin typeface="Times New Roman"/>
              </a:rPr>
              <a:t>64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itų blokus, naudojant </a:t>
            </a:r>
            <a:r>
              <a:rPr b="0" lang="lt-LT" sz="2800" spc="-1" strike="noStrike">
                <a:solidFill>
                  <a:srgbClr val="ff33cc"/>
                </a:solidFill>
                <a:latin typeface="Times New Roman"/>
              </a:rPr>
              <a:t>128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itų rakt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s pats algoritmas taikomas tiek šifruojant, tiek dešifruoj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pakankamai naujas algoritmas (naudojamas keletą metų), dar nenulauž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u kiekvienu </a:t>
            </a:r>
            <a:r>
              <a:rPr b="0" lang="lt-LT" sz="2800" spc="-1" strike="noStrike">
                <a:solidFill>
                  <a:srgbClr val="ff33cc"/>
                </a:solidFill>
                <a:latin typeface="Times New Roman"/>
              </a:rPr>
              <a:t>16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itų subbloku vykdomi </a:t>
            </a:r>
            <a:r>
              <a:rPr b="0" lang="lt-LT" sz="2800" spc="-1" strike="noStrike">
                <a:solidFill>
                  <a:srgbClr val="ff33cc"/>
                </a:solidFill>
                <a:latin typeface="Times New Roman"/>
              </a:rPr>
              <a:t>8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ciklai tokių operacijų kaip XOR, sumavimas (moduliu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^16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, daugyba (moduliu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^16+1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lgoritmas lėtesnis nei DES, bet greitesnis už 3DES algoritm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kaitoma, kad tai geriausias simetrinis algorit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rigubas IDEA (triple-IDEA) tinka išrankiausi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6647-19A1-448D-B810-4BD379EB5D5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kipj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lgoritmas sukurtas NSA (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National Security Agency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lgoritmas klasifikuojamas kaip slap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Žinoma tiek, kad yra simetrinis, naudoja 80 bitų rakt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SA naudoja šį algoritmą savų pranešimų šifravimu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B9AA-6349-48D5-9E76-07CFEFEE7B9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Nauji šifravimo standartai ir algoritma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IST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askelbė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naują standartą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ES (Advanced Encryption Standard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2001.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asiūlyta daug kandidatų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ijndael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algoritmas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ripažintas nugalėtoju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eletas geriausių algoritmų yr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ijndael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ukurta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John Daemen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be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Vincent Rijmen.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Naudoja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raktų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ilg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cc"/>
                </a:solidFill>
                <a:latin typeface="Times New Roman"/>
              </a:rPr>
              <a:t>128 / 192 / 256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bit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ok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dydis gali būt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ff33cc"/>
                </a:solidFill>
                <a:latin typeface="Times New Roman"/>
              </a:rPr>
              <a:t>128 / 192 / 256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bit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a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Yra visapusiškas ir lengvai panaudojama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smart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ortelės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Dabar jis laikomas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C6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asiūlyta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RSA Labs.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Jis gali būti lengva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parametriz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uojamas priėmimui raktų ilgių ik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2040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bit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agrindinis privalumas prieš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3DES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yra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greitis. Jis daug greitesnis ne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3DES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įdiegiant jį tiek programiškai, tiek technologiška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lowfish / Twofish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ukurtas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Bruce Schneier.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wofish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buvo tarp finalistų į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ES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kandidatus ir jis remias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Blowfish algoritm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u. Gali naudoti raktus ik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448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bit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Reikalauja mažai atminties šifravimui atlikti ir yra greitas. Tačiau šifravimo struktūra yra labai sudėtinga ir sunku ją analizuo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C168-D819-4453-814D-8FC8CF29FDA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autinio šifravimo algoritm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autinio tipo algoritmai vienu laiko momentu šifruoj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ą b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ą plaintex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blokinio šifravimo atveju imamas tam tikras bitų skaičius – 64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ai ir jie šifruojami kaip atskiras viene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generuojam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atsitiktin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omenų srautas ir jis kombinuojamas su realiais duomenimis. Pats žinomiausiai yr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lgorit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4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yra srautinis šifratorius, naudojant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intam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rakto ilgį. Jo operacijos yra orientuotos į baitus.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Algoritmas pagrįstas atsitiktinių perstatymų panaudojim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9172-562D-4B0C-A3EB-F1409B78C5D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ieno baito šifravimas reikalauj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8-16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mašininių operacij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4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yra naudojam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failų šifravimu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tokiuose produktuose kaip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A SecurPC (RSA SecurPC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yra utilita, kuri šifruoj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isk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be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fail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tiek laptopuose, tiek personaliniuose kompiuteriuose). Kiekvien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fail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yra šifruojamas naudojant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C4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u atsitiktinai sugeneruotu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128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bitų rakt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aktas užšifruoja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naudojan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artotojo slaptą rakt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kuris yra užšifruojamas naudojan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raktą, išvestą iš vartotojo frazė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is taip pat naudojamas saugioms komunikacijoms užtikrinti –kaip kad ateinančio bei išeinančio srauto srauto iš saugių web saitų šifravimas naudojan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proto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E252-F205-45DD-B5AA-BA232E23D3F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Suminės simetrinių alg. charakteristik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85800" y="1523880"/>
          <a:ext cx="7772400" cy="4571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goritm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ugum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itis </a:t>
                      </a: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86p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kto ilg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Žem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 kb/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 kb/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 kb/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ID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ai ge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kb/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ipja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 kb/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1181-5A32-4871-94E2-FB51B7AC76B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to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gi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to ilgis apsprendžia skaičių galimų rakto kombinacijų, kurias turėtų išbandyti įsilaužėjas parinkdamas raktą (32 skilčių raktui  reiktų pabandyti 4 milijardus kombinacijų)- jis auga eksponentiškai didėjant rakto ilgiui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A šifravime naudojami raktai iki 1024 bit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BFB8-E004-4765-A4A6-F7A1B2881DE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to suderini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to suderinimas dažnai būna silpniausia grandimi šifravim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siog prieš seansą perduoti raktą yra nesaugu,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ėl bandoma tai padaryti kitais būd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fidencialumo apsauga naudojant simetrinį šifravimą gana paprastai realizuojama mažuose tinkluos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dangi slaptą raktą valdo abi ryšio pusės, tai darosi negalimu būti tikram tuo ką daro kita pus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43CF-CE6A-4FE6-BBE0-8449CB392FA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440" y="304920"/>
            <a:ext cx="79246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SI X9.17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yra standartas aprašantis raktų valdymą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ancial Institution Key Management (Wholesale) standard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is nusako kaip finansinės institucijos turi perduoti šifravimo raktus. Tai susiję su simetrinio šifravimo rakt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Finansinėms institucijoms reikia keisti daugumą šifravimo raktų kasdien ar kas sesiją. Netinka perdavimas kurjeri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Yra išskiriami 3 raktų tip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ukščiausio lygio “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ter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” rakta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KKM)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uris perduodamas rankiniu būd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Raktu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šifruojantys rakta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KEKs)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urie perduodami “on-line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Žemiausio lygio –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duomenų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rakta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KDs),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erduodami “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line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Duomenų raktai naudojami pagrindinei masei inf. šifruoti, keičiami kas sesiją arba kasdien. Nauji duomenų raktai perduodami vartotojams užšifruoti – naudojami raktus šifruojantys rakta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Raktus šifruojantys raktai yra šifruojami su “master” tipo raktu, keičiami periodiškai. “master” tipo raktai tiesiogiai neperduodami – naudojamas patikimas perdavim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44DF-88C4-42C4-A027-C23CCEFCA10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šifravimas ir atakos į šifravimo siste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riptoanalizė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tai šifruotos informacijos dešifravimo menas nežinant tikslaus rakto. Yra daug įvairios technikos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phertext-only attack: Tai atvejas, kai atakuotojas nežino nieko apie pranešimo turinį ir turi dirbti tik su šifruotu tekst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n-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ntext attack: Atakuotojas žino arba gali įspėti kai kurias užšifruoto teksto dalis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3F0C-1045-4F68-8496-1A44536602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imetrinis šifravi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komi du šifravimo –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avimo raktai; kiekvienas raktas vykd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aciją tik viena kryptim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nas iš raktų – </a:t>
            </a:r>
            <a:r>
              <a:rPr b="1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š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yra padaromas prieinamu visiems norintiems, o kitas – </a:t>
            </a:r>
            <a:r>
              <a:rPr b="1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us ( slaptas)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laikomas paslapty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je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tai yra matematiškai priklausomi vienas nuo kito, tačiau nei vienas iš jų negali būti matematiškai nustatytas žinant kitą, per prieinamą laiką (ši savybė yra labai svarbi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30C2-6371-498B-B871-FF58F56F980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ūs raktai naudojami iššifravimu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ieši raktai naudojami užšifravimu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Šifrav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Atviras tekstas</a:t>
            </a: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Šifruotas teks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Viešas rak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ššifrav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Šifruotas tekst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Atviras teks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s rak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419720" y="4876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4876920"/>
            <a:ext cx="3809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03280" y="0"/>
            <a:ext cx="63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Raktų  panaudoj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3200400"/>
            <a:ext cx="3809880" cy="0"/>
          </a:xfrm>
          <a:prstGeom prst="line">
            <a:avLst/>
          </a:prstGeom>
          <a:ln w="25560">
            <a:solidFill>
              <a:srgbClr val="00008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419720" y="3123720"/>
            <a:ext cx="0" cy="30492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7BAB-E885-4C24-B058-C8FFBAB3019D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R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RSA – tai viešo-rakto šifravimo sistema, sukurta 1977m. Naudojama tiek šifravimui, tiek autentifikacija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i plačiausiai šiandien naudojama viešo- rakto sistema, todėl dažnai vadinama standartin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2F35-9E8E-4212-A3EE-82D33E77D76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RSA algorit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renkami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Q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kankamai didel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v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24-b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irmini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kaiči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da randami E bei 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ie parenkami parenkant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ičių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s bus naudojama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kaičiavimui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)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(P-1)*(Q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alim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inkti mažo, nes RSA kodavimo algoritmas ir pagrįstas tuo, kad asmuo, bandantis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la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ž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nežino šio skaičia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da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kaičiau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 dalikl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tai b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eikšm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da būtų šio skaičiaus daliny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E turi būti nelyginis, didesnis už 1,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P-1)(Q-1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neturi bendrų pirminių daugiklių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Viešas raktas bus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,PQ)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Slaptas raktas bu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4B03-C8DA-4FF1-BCFB-0C59EA286B4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RSA pavyzd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 = 61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 = 53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Q = 323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 = 17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 = 275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Times New Roman"/>
              </a:rPr>
              <a:t>Viešas raktas bu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,PQ)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Times New Roman"/>
              </a:rPr>
              <a:t>Slaptas raktas bu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fravimo funkcija: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žšifruoti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(T) = (T^E) mod PQ   = (T^17) mod 3233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ešifravimas: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d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ifruoti(C) = (C^D) mod PQ = (C^2753) mod 323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užšifruoti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(123) = (123^17) mod 3233=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= 337587917446653715596592958817679803 mod 3233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= 855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d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ifruoti 855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= (855^2753) mod 3233     = 12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C452-6814-48C6-9A35-0961AA43102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R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SA algoritmas pagrįst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erija daugyb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veiksm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raktiniuose pritaikymuose priimta im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mažesni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laipsnio rodikliu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ieša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rakte nei privačiam rakte, taigi šifravimas būna greitesnis nei dešifravi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SA g.b. įdiegiam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rogramišk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arb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mikroschemo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ES algoritmas (realizuotas programiškai) yra 100 kartų greitesnis nei R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SA algoritmas atsparus nulaužim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783D-A3E6-4235-ACE9-6B04DC62FD0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iti algoritm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Diffie-Helma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– tai viešo rakto algoritmas naudojamas pasikeitimui raktais. Skaitomas saugiu, jei imami pakankamai ilgi raktai ir tinkami generatori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DS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tai JAV vyriausybinis skaitmeninio parašo standartas. Algoritmas panašus į Diffie-Helman, tačiau jo projektas neatskleidžiam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iti: ElGamal, LUC, Elliptic Cur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24E8-88B1-43AA-AF07-63D5FABF5B1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Asimetrinių algoritmų charakteristik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81080"/>
                <a:gridCol w="19051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goritm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ug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it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kto ilg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i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nta (1024 – saugu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ffie-Hell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ėtesnis nei R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nta (1028 – saugu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že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2bit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9DB8-586B-4DF4-B182-DF3FEEFAFEF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onfidencialumas, vientisumas, autentišku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Raktų panaudojimas padeda išspręsti informacijos konfidencialumo problem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ormacijos vientisumas ir autentiškumas yra garantuojamas tuo, kad užkodavus informaciją sav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rivači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ktu, kurio niekas nežino, ją galima atkoduot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ieš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ktu, kuris yra prieinamas visiems dalyviams, ir įsitikinti, kad informacija tikrai buvo pasiųsta to žmogaus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š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rio tikėtasi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043A-81E6-43D7-9CEF-11DEEE80084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bridinės procedūr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bridinėse procedūrose naudojamos tiek simetrinės, tiek asimetrinės procedūr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binuojami abiejų metodų privalumai:simetrinio šifravimo greitis ir asimetrinio šifravimo saugum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nešimas yra užšifruojamas simetrišku šifravim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ijos raktas yra asimetriškai užkoduojamas su gavėj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ešu raktu ir užkoduotas sesijos raktas pasiunčiamas kartu su pranešimu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B8EB-CACE-4A07-9ACB-5CC872D542D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Šif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Times New Roman"/>
              </a:rPr>
              <a:t>Šifravimas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ai duomenų transformacija į tokią formą, kuri padarytų praktiškai neįmanomu tų duomenų perskaitymą be atitinkamų žinių(rakt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o tikslas yra užtikrinti duomenų privatumą, t.y. jos paslėpimą nuo tų, kuriems ji nėra skirt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net ir tuo atvej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kai jie gali prieiti prie šifruotų duomen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Times New Roman"/>
              </a:rPr>
              <a:t>Iššifravimas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i atvirkščias procesas – tai šifruotų duomenų transformacija į pirminę form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avima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artu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endžia duomenų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kavim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ntifikavim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blemas. Paprastai tam buvo naudojami antspaudai bei parašai. Tai netinka kompiuterinių tinklų atvej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fravimu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udojami raktai bei šifravimo algoritma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8BB1-DC7B-4384-80B4-E915C87CDC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kaitmeniniai paraš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iešo rakto šifravimas naudojamas ir skaitmeniniuose parašuo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pasirašy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Atviras teksta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pasirašytas laišk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rivat</a:t>
            </a: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us rak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if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pasirašytas laišk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lt-LT" sz="3200" spc="-1" strike="noStrike">
                <a:solidFill>
                  <a:srgbClr val="00ffff"/>
                </a:solidFill>
                <a:latin typeface="Times New Roman"/>
              </a:rPr>
              <a:t>Atviras tek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iešas rak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00400" y="3048120"/>
            <a:ext cx="2133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86200" y="4800600"/>
            <a:ext cx="1981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181480" y="48006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809880" y="30481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34AA-4D02-4858-9B0D-25F1C26ACE78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itmenini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š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as</a:t>
            </a:r>
            <a:br>
              <a:rPr sz="4000"/>
            </a:b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gital signature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nešimų šifravimas privačiu raktu (private-key) yra elektroninis analogas ranka rašomam parašui – todėl vadinamas skaitmeniniu paraš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itmeninis parašas – tai yra duomenų blokas, kuris yra sukuriamas naudojant slaptą (privatų) raktą. Viešas raktas gali būti panaudotas patikrinimui, ar parašas iš tiesų buvo sukurtas naudojant atitinkamą slaptą raktą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darant skaitmeninį parašą siunčiamam  pranešimui yra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taikomas hash algoritmas ir suskaičiuojama hash funkcij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ikšmė (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 diges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Šita gauta reikšmė yra užšifruojama naudojant privatų raktą. Rezultate gautas šifruotas blokas ir yra paraš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07A2-2137-4134-98B6-92B589D9D33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Perdavimas nesaugiu kanalu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8229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ce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ori paiųs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ob  priva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ranešim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Times New Roman"/>
              </a:rPr>
              <a:t>public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yr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lice’s 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viešas rakta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private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yr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lice’s privat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us rakta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ff00"/>
                </a:solidFill>
                <a:latin typeface="Times New Roman"/>
              </a:rPr>
              <a:t>public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yr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Bob’s 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viešas rakta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private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yr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Bob’s privat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us rakta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2FED-AE34-4414-898D-77CE6AE48AC8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895480" y="457200"/>
            <a:ext cx="6019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Bob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nna get togeth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0960" y="671400"/>
            <a:ext cx="263520" cy="542880"/>
          </a:xfrm>
          <a:custGeom>
            <a:avLst/>
            <a:gdLst/>
            <a:ahLst/>
            <a:rect l="l" t="t" r="r" b="b"/>
            <a:pathLst>
              <a:path w="166" h="342">
                <a:moveTo>
                  <a:pt x="56" y="32"/>
                </a:moveTo>
                <a:lnTo>
                  <a:pt x="86" y="8"/>
                </a:lnTo>
                <a:lnTo>
                  <a:pt x="122" y="0"/>
                </a:lnTo>
                <a:lnTo>
                  <a:pt x="147" y="1"/>
                </a:lnTo>
                <a:lnTo>
                  <a:pt x="152" y="22"/>
                </a:lnTo>
                <a:lnTo>
                  <a:pt x="150" y="48"/>
                </a:lnTo>
                <a:lnTo>
                  <a:pt x="122" y="80"/>
                </a:lnTo>
                <a:lnTo>
                  <a:pt x="104" y="127"/>
                </a:lnTo>
                <a:lnTo>
                  <a:pt x="103" y="175"/>
                </a:lnTo>
                <a:lnTo>
                  <a:pt x="116" y="219"/>
                </a:lnTo>
                <a:lnTo>
                  <a:pt x="133" y="259"/>
                </a:lnTo>
                <a:lnTo>
                  <a:pt x="165" y="293"/>
                </a:lnTo>
                <a:lnTo>
                  <a:pt x="165" y="304"/>
                </a:lnTo>
                <a:lnTo>
                  <a:pt x="160" y="328"/>
                </a:lnTo>
                <a:lnTo>
                  <a:pt x="137" y="339"/>
                </a:lnTo>
                <a:lnTo>
                  <a:pt x="112" y="341"/>
                </a:lnTo>
                <a:lnTo>
                  <a:pt x="69" y="332"/>
                </a:lnTo>
                <a:lnTo>
                  <a:pt x="35" y="304"/>
                </a:lnTo>
                <a:lnTo>
                  <a:pt x="18" y="255"/>
                </a:lnTo>
                <a:lnTo>
                  <a:pt x="5" y="223"/>
                </a:lnTo>
                <a:lnTo>
                  <a:pt x="0" y="182"/>
                </a:lnTo>
                <a:lnTo>
                  <a:pt x="4" y="127"/>
                </a:lnTo>
                <a:lnTo>
                  <a:pt x="18" y="81"/>
                </a:lnTo>
                <a:lnTo>
                  <a:pt x="35" y="51"/>
                </a:lnTo>
                <a:lnTo>
                  <a:pt x="56" y="32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33480" y="668160"/>
            <a:ext cx="417600" cy="373320"/>
          </a:xfrm>
          <a:custGeom>
            <a:avLst/>
            <a:gdLst/>
            <a:ahLst/>
            <a:rect l="l" t="t" r="r" b="b"/>
            <a:pathLst>
              <a:path w="263" h="235">
                <a:moveTo>
                  <a:pt x="0" y="16"/>
                </a:moveTo>
                <a:lnTo>
                  <a:pt x="8" y="0"/>
                </a:lnTo>
                <a:lnTo>
                  <a:pt x="25" y="0"/>
                </a:lnTo>
                <a:lnTo>
                  <a:pt x="46" y="17"/>
                </a:lnTo>
                <a:lnTo>
                  <a:pt x="61" y="61"/>
                </a:lnTo>
                <a:lnTo>
                  <a:pt x="72" y="112"/>
                </a:lnTo>
                <a:lnTo>
                  <a:pt x="81" y="166"/>
                </a:lnTo>
                <a:lnTo>
                  <a:pt x="108" y="206"/>
                </a:lnTo>
                <a:lnTo>
                  <a:pt x="108" y="207"/>
                </a:lnTo>
                <a:lnTo>
                  <a:pt x="108" y="215"/>
                </a:lnTo>
                <a:lnTo>
                  <a:pt x="145" y="210"/>
                </a:lnTo>
                <a:lnTo>
                  <a:pt x="184" y="189"/>
                </a:lnTo>
                <a:lnTo>
                  <a:pt x="201" y="170"/>
                </a:lnTo>
                <a:lnTo>
                  <a:pt x="232" y="116"/>
                </a:lnTo>
                <a:lnTo>
                  <a:pt x="232" y="96"/>
                </a:lnTo>
                <a:lnTo>
                  <a:pt x="220" y="79"/>
                </a:lnTo>
                <a:lnTo>
                  <a:pt x="207" y="53"/>
                </a:lnTo>
                <a:lnTo>
                  <a:pt x="203" y="43"/>
                </a:lnTo>
                <a:lnTo>
                  <a:pt x="218" y="38"/>
                </a:lnTo>
                <a:lnTo>
                  <a:pt x="237" y="39"/>
                </a:lnTo>
                <a:lnTo>
                  <a:pt x="249" y="49"/>
                </a:lnTo>
                <a:lnTo>
                  <a:pt x="262" y="71"/>
                </a:lnTo>
                <a:lnTo>
                  <a:pt x="255" y="111"/>
                </a:lnTo>
                <a:lnTo>
                  <a:pt x="249" y="133"/>
                </a:lnTo>
                <a:lnTo>
                  <a:pt x="220" y="178"/>
                </a:lnTo>
                <a:lnTo>
                  <a:pt x="195" y="211"/>
                </a:lnTo>
                <a:lnTo>
                  <a:pt x="147" y="226"/>
                </a:lnTo>
                <a:lnTo>
                  <a:pt x="108" y="234"/>
                </a:lnTo>
                <a:lnTo>
                  <a:pt x="78" y="221"/>
                </a:lnTo>
                <a:lnTo>
                  <a:pt x="64" y="178"/>
                </a:lnTo>
                <a:lnTo>
                  <a:pt x="48" y="126"/>
                </a:lnTo>
                <a:lnTo>
                  <a:pt x="34" y="87"/>
                </a:lnTo>
                <a:lnTo>
                  <a:pt x="18" y="65"/>
                </a:lnTo>
                <a:lnTo>
                  <a:pt x="0" y="43"/>
                </a:lnTo>
                <a:lnTo>
                  <a:pt x="0" y="16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025640" y="668160"/>
            <a:ext cx="385560" cy="325440"/>
            <a:chOff x="1025640" y="668160"/>
            <a:chExt cx="385560" cy="325440"/>
          </a:xfrm>
        </p:grpSpPr>
        <p:sp>
          <p:nvSpPr>
            <p:cNvPr id="159" name=""/>
            <p:cNvSpPr/>
            <p:nvPr/>
          </p:nvSpPr>
          <p:spPr>
            <a:xfrm>
              <a:off x="1025640" y="668160"/>
              <a:ext cx="385560" cy="325440"/>
            </a:xfrm>
            <a:custGeom>
              <a:avLst/>
              <a:gdLst/>
              <a:ahLst/>
              <a:rect l="l" t="t" r="r" b="b"/>
              <a:pathLst>
                <a:path w="243" h="205">
                  <a:moveTo>
                    <a:pt x="2" y="72"/>
                  </a:moveTo>
                  <a:lnTo>
                    <a:pt x="2" y="50"/>
                  </a:lnTo>
                  <a:lnTo>
                    <a:pt x="12" y="31"/>
                  </a:lnTo>
                  <a:lnTo>
                    <a:pt x="29" y="17"/>
                  </a:lnTo>
                  <a:lnTo>
                    <a:pt x="56" y="6"/>
                  </a:lnTo>
                  <a:lnTo>
                    <a:pt x="73" y="0"/>
                  </a:lnTo>
                  <a:lnTo>
                    <a:pt x="102" y="2"/>
                  </a:lnTo>
                  <a:lnTo>
                    <a:pt x="237" y="113"/>
                  </a:lnTo>
                  <a:lnTo>
                    <a:pt x="242" y="135"/>
                  </a:lnTo>
                  <a:lnTo>
                    <a:pt x="237" y="153"/>
                  </a:lnTo>
                  <a:lnTo>
                    <a:pt x="220" y="178"/>
                  </a:lnTo>
                  <a:lnTo>
                    <a:pt x="190" y="196"/>
                  </a:lnTo>
                  <a:lnTo>
                    <a:pt x="158" y="204"/>
                  </a:lnTo>
                  <a:lnTo>
                    <a:pt x="136" y="204"/>
                  </a:lnTo>
                  <a:lnTo>
                    <a:pt x="2" y="82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2" y="7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25640" y="668160"/>
              <a:ext cx="385560" cy="325440"/>
            </a:xfrm>
            <a:custGeom>
              <a:avLst/>
              <a:gdLst/>
              <a:ahLst/>
              <a:rect l="l" t="t" r="r" b="b"/>
              <a:pathLst>
                <a:path w="243" h="205">
                  <a:moveTo>
                    <a:pt x="2" y="72"/>
                  </a:moveTo>
                  <a:lnTo>
                    <a:pt x="2" y="50"/>
                  </a:lnTo>
                  <a:lnTo>
                    <a:pt x="12" y="31"/>
                  </a:lnTo>
                  <a:lnTo>
                    <a:pt x="29" y="17"/>
                  </a:lnTo>
                  <a:lnTo>
                    <a:pt x="56" y="6"/>
                  </a:lnTo>
                  <a:lnTo>
                    <a:pt x="73" y="0"/>
                  </a:lnTo>
                  <a:lnTo>
                    <a:pt x="102" y="2"/>
                  </a:lnTo>
                  <a:lnTo>
                    <a:pt x="237" y="113"/>
                  </a:lnTo>
                  <a:lnTo>
                    <a:pt x="242" y="135"/>
                  </a:lnTo>
                  <a:lnTo>
                    <a:pt x="237" y="153"/>
                  </a:lnTo>
                  <a:lnTo>
                    <a:pt x="220" y="178"/>
                  </a:lnTo>
                  <a:lnTo>
                    <a:pt x="190" y="196"/>
                  </a:lnTo>
                  <a:lnTo>
                    <a:pt x="158" y="204"/>
                  </a:lnTo>
                  <a:lnTo>
                    <a:pt x="136" y="204"/>
                  </a:lnTo>
                  <a:lnTo>
                    <a:pt x="2" y="82"/>
                  </a:lnTo>
                  <a:lnTo>
                    <a:pt x="0" y="61"/>
                  </a:lnTo>
                  <a:lnTo>
                    <a:pt x="0" y="6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30320" y="677880"/>
              <a:ext cx="155520" cy="117360"/>
            </a:xfrm>
            <a:custGeom>
              <a:avLst/>
              <a:gdLst/>
              <a:ahLst/>
              <a:rect l="l" t="t" r="r" b="b"/>
              <a:pathLst>
                <a:path w="98" h="74">
                  <a:moveTo>
                    <a:pt x="0" y="69"/>
                  </a:moveTo>
                  <a:lnTo>
                    <a:pt x="26" y="73"/>
                  </a:lnTo>
                  <a:lnTo>
                    <a:pt x="47" y="66"/>
                  </a:lnTo>
                  <a:lnTo>
                    <a:pt x="61" y="59"/>
                  </a:lnTo>
                  <a:lnTo>
                    <a:pt x="79" y="48"/>
                  </a:lnTo>
                  <a:lnTo>
                    <a:pt x="91" y="36"/>
                  </a:lnTo>
                  <a:lnTo>
                    <a:pt x="97" y="15"/>
                  </a:lnTo>
                  <a:lnTo>
                    <a:pt x="97" y="3"/>
                  </a:lnTo>
                  <a:lnTo>
                    <a:pt x="9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09480" y="660240"/>
            <a:ext cx="603360" cy="382680"/>
          </a:xfrm>
          <a:custGeom>
            <a:avLst/>
            <a:gdLst/>
            <a:ahLst/>
            <a:rect l="l" t="t" r="r" b="b"/>
            <a:pathLst>
              <a:path w="380" h="241">
                <a:moveTo>
                  <a:pt x="134" y="10"/>
                </a:moveTo>
                <a:lnTo>
                  <a:pt x="166" y="0"/>
                </a:lnTo>
                <a:lnTo>
                  <a:pt x="184" y="10"/>
                </a:lnTo>
                <a:lnTo>
                  <a:pt x="184" y="36"/>
                </a:lnTo>
                <a:lnTo>
                  <a:pt x="155" y="64"/>
                </a:lnTo>
                <a:lnTo>
                  <a:pt x="106" y="79"/>
                </a:lnTo>
                <a:lnTo>
                  <a:pt x="68" y="105"/>
                </a:lnTo>
                <a:lnTo>
                  <a:pt x="43" y="137"/>
                </a:lnTo>
                <a:lnTo>
                  <a:pt x="30" y="162"/>
                </a:lnTo>
                <a:lnTo>
                  <a:pt x="30" y="184"/>
                </a:lnTo>
                <a:lnTo>
                  <a:pt x="46" y="208"/>
                </a:lnTo>
                <a:lnTo>
                  <a:pt x="84" y="219"/>
                </a:lnTo>
                <a:lnTo>
                  <a:pt x="116" y="221"/>
                </a:lnTo>
                <a:lnTo>
                  <a:pt x="164" y="219"/>
                </a:lnTo>
                <a:lnTo>
                  <a:pt x="224" y="204"/>
                </a:lnTo>
                <a:lnTo>
                  <a:pt x="262" y="174"/>
                </a:lnTo>
                <a:lnTo>
                  <a:pt x="287" y="149"/>
                </a:lnTo>
                <a:lnTo>
                  <a:pt x="280" y="126"/>
                </a:lnTo>
                <a:lnTo>
                  <a:pt x="282" y="112"/>
                </a:lnTo>
                <a:lnTo>
                  <a:pt x="309" y="120"/>
                </a:lnTo>
                <a:lnTo>
                  <a:pt x="336" y="120"/>
                </a:lnTo>
                <a:lnTo>
                  <a:pt x="356" y="105"/>
                </a:lnTo>
                <a:lnTo>
                  <a:pt x="369" y="94"/>
                </a:lnTo>
                <a:lnTo>
                  <a:pt x="378" y="97"/>
                </a:lnTo>
                <a:lnTo>
                  <a:pt x="379" y="105"/>
                </a:lnTo>
                <a:lnTo>
                  <a:pt x="370" y="126"/>
                </a:lnTo>
                <a:lnTo>
                  <a:pt x="370" y="146"/>
                </a:lnTo>
                <a:lnTo>
                  <a:pt x="360" y="160"/>
                </a:lnTo>
                <a:lnTo>
                  <a:pt x="336" y="171"/>
                </a:lnTo>
                <a:lnTo>
                  <a:pt x="314" y="171"/>
                </a:lnTo>
                <a:lnTo>
                  <a:pt x="291" y="174"/>
                </a:lnTo>
                <a:lnTo>
                  <a:pt x="245" y="207"/>
                </a:lnTo>
                <a:lnTo>
                  <a:pt x="211" y="224"/>
                </a:lnTo>
                <a:lnTo>
                  <a:pt x="157" y="237"/>
                </a:lnTo>
                <a:lnTo>
                  <a:pt x="102" y="240"/>
                </a:lnTo>
                <a:lnTo>
                  <a:pt x="60" y="232"/>
                </a:lnTo>
                <a:lnTo>
                  <a:pt x="29" y="222"/>
                </a:lnTo>
                <a:lnTo>
                  <a:pt x="8" y="203"/>
                </a:lnTo>
                <a:lnTo>
                  <a:pt x="0" y="181"/>
                </a:lnTo>
                <a:lnTo>
                  <a:pt x="0" y="148"/>
                </a:lnTo>
                <a:lnTo>
                  <a:pt x="13" y="126"/>
                </a:lnTo>
                <a:lnTo>
                  <a:pt x="29" y="105"/>
                </a:lnTo>
                <a:lnTo>
                  <a:pt x="50" y="80"/>
                </a:lnTo>
                <a:lnTo>
                  <a:pt x="82" y="60"/>
                </a:lnTo>
                <a:lnTo>
                  <a:pt x="102" y="39"/>
                </a:lnTo>
                <a:lnTo>
                  <a:pt x="116" y="22"/>
                </a:lnTo>
                <a:lnTo>
                  <a:pt x="134" y="10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36720" y="1138320"/>
            <a:ext cx="274680" cy="544320"/>
          </a:xfrm>
          <a:custGeom>
            <a:avLst/>
            <a:gdLst/>
            <a:ahLst/>
            <a:rect l="l" t="t" r="r" b="b"/>
            <a:pathLst>
              <a:path w="173" h="343">
                <a:moveTo>
                  <a:pt x="13" y="0"/>
                </a:moveTo>
                <a:lnTo>
                  <a:pt x="43" y="15"/>
                </a:lnTo>
                <a:lnTo>
                  <a:pt x="74" y="56"/>
                </a:lnTo>
                <a:lnTo>
                  <a:pt x="94" y="86"/>
                </a:lnTo>
                <a:lnTo>
                  <a:pt x="108" y="120"/>
                </a:lnTo>
                <a:lnTo>
                  <a:pt x="124" y="153"/>
                </a:lnTo>
                <a:lnTo>
                  <a:pt x="137" y="192"/>
                </a:lnTo>
                <a:lnTo>
                  <a:pt x="137" y="219"/>
                </a:lnTo>
                <a:lnTo>
                  <a:pt x="117" y="241"/>
                </a:lnTo>
                <a:lnTo>
                  <a:pt x="103" y="262"/>
                </a:lnTo>
                <a:lnTo>
                  <a:pt x="81" y="280"/>
                </a:lnTo>
                <a:lnTo>
                  <a:pt x="72" y="295"/>
                </a:lnTo>
                <a:lnTo>
                  <a:pt x="83" y="305"/>
                </a:lnTo>
                <a:lnTo>
                  <a:pt x="98" y="306"/>
                </a:lnTo>
                <a:lnTo>
                  <a:pt x="134" y="310"/>
                </a:lnTo>
                <a:lnTo>
                  <a:pt x="159" y="320"/>
                </a:lnTo>
                <a:lnTo>
                  <a:pt x="172" y="328"/>
                </a:lnTo>
                <a:lnTo>
                  <a:pt x="163" y="339"/>
                </a:lnTo>
                <a:lnTo>
                  <a:pt x="142" y="342"/>
                </a:lnTo>
                <a:lnTo>
                  <a:pt x="112" y="332"/>
                </a:lnTo>
                <a:lnTo>
                  <a:pt x="95" y="323"/>
                </a:lnTo>
                <a:lnTo>
                  <a:pt x="59" y="316"/>
                </a:lnTo>
                <a:lnTo>
                  <a:pt x="50" y="314"/>
                </a:lnTo>
                <a:lnTo>
                  <a:pt x="46" y="302"/>
                </a:lnTo>
                <a:lnTo>
                  <a:pt x="52" y="287"/>
                </a:lnTo>
                <a:lnTo>
                  <a:pt x="81" y="259"/>
                </a:lnTo>
                <a:lnTo>
                  <a:pt x="95" y="241"/>
                </a:lnTo>
                <a:lnTo>
                  <a:pt x="112" y="207"/>
                </a:lnTo>
                <a:lnTo>
                  <a:pt x="117" y="190"/>
                </a:lnTo>
                <a:lnTo>
                  <a:pt x="100" y="146"/>
                </a:lnTo>
                <a:lnTo>
                  <a:pt x="68" y="101"/>
                </a:lnTo>
                <a:lnTo>
                  <a:pt x="37" y="72"/>
                </a:lnTo>
                <a:lnTo>
                  <a:pt x="22" y="49"/>
                </a:lnTo>
                <a:lnTo>
                  <a:pt x="4" y="36"/>
                </a:lnTo>
                <a:lnTo>
                  <a:pt x="0" y="17"/>
                </a:lnTo>
                <a:lnTo>
                  <a:pt x="13" y="0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4120" y="1136520"/>
            <a:ext cx="247680" cy="507960"/>
          </a:xfrm>
          <a:custGeom>
            <a:avLst/>
            <a:gdLst/>
            <a:ahLst/>
            <a:rect l="l" t="t" r="r" b="b"/>
            <a:pathLst>
              <a:path w="156" h="320">
                <a:moveTo>
                  <a:pt x="85" y="30"/>
                </a:moveTo>
                <a:lnTo>
                  <a:pt x="116" y="3"/>
                </a:lnTo>
                <a:lnTo>
                  <a:pt x="152" y="0"/>
                </a:lnTo>
                <a:lnTo>
                  <a:pt x="155" y="23"/>
                </a:lnTo>
                <a:lnTo>
                  <a:pt x="134" y="39"/>
                </a:lnTo>
                <a:lnTo>
                  <a:pt x="105" y="52"/>
                </a:lnTo>
                <a:lnTo>
                  <a:pt x="81" y="74"/>
                </a:lnTo>
                <a:lnTo>
                  <a:pt x="77" y="103"/>
                </a:lnTo>
                <a:lnTo>
                  <a:pt x="81" y="146"/>
                </a:lnTo>
                <a:lnTo>
                  <a:pt x="94" y="220"/>
                </a:lnTo>
                <a:lnTo>
                  <a:pt x="108" y="266"/>
                </a:lnTo>
                <a:lnTo>
                  <a:pt x="124" y="299"/>
                </a:lnTo>
                <a:lnTo>
                  <a:pt x="121" y="315"/>
                </a:lnTo>
                <a:lnTo>
                  <a:pt x="105" y="317"/>
                </a:lnTo>
                <a:lnTo>
                  <a:pt x="74" y="310"/>
                </a:lnTo>
                <a:lnTo>
                  <a:pt x="40" y="310"/>
                </a:lnTo>
                <a:lnTo>
                  <a:pt x="21" y="319"/>
                </a:lnTo>
                <a:lnTo>
                  <a:pt x="4" y="315"/>
                </a:lnTo>
                <a:lnTo>
                  <a:pt x="0" y="297"/>
                </a:lnTo>
                <a:lnTo>
                  <a:pt x="17" y="293"/>
                </a:lnTo>
                <a:lnTo>
                  <a:pt x="51" y="293"/>
                </a:lnTo>
                <a:lnTo>
                  <a:pt x="102" y="303"/>
                </a:lnTo>
                <a:lnTo>
                  <a:pt x="105" y="299"/>
                </a:lnTo>
                <a:lnTo>
                  <a:pt x="100" y="284"/>
                </a:lnTo>
                <a:lnTo>
                  <a:pt x="81" y="230"/>
                </a:lnTo>
                <a:lnTo>
                  <a:pt x="73" y="186"/>
                </a:lnTo>
                <a:lnTo>
                  <a:pt x="60" y="132"/>
                </a:lnTo>
                <a:lnTo>
                  <a:pt x="60" y="94"/>
                </a:lnTo>
                <a:lnTo>
                  <a:pt x="61" y="65"/>
                </a:lnTo>
                <a:lnTo>
                  <a:pt x="68" y="44"/>
                </a:lnTo>
                <a:lnTo>
                  <a:pt x="85" y="30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96760" y="380880"/>
            <a:ext cx="290520" cy="273240"/>
          </a:xfrm>
          <a:custGeom>
            <a:avLst/>
            <a:gdLst/>
            <a:ahLst/>
            <a:rect l="l" t="t" r="r" b="b"/>
            <a:pathLst>
              <a:path w="183" h="172">
                <a:moveTo>
                  <a:pt x="0" y="152"/>
                </a:moveTo>
                <a:lnTo>
                  <a:pt x="0" y="114"/>
                </a:lnTo>
                <a:lnTo>
                  <a:pt x="8" y="72"/>
                </a:lnTo>
                <a:lnTo>
                  <a:pt x="29" y="38"/>
                </a:lnTo>
                <a:lnTo>
                  <a:pt x="57" y="17"/>
                </a:lnTo>
                <a:lnTo>
                  <a:pt x="87" y="1"/>
                </a:lnTo>
                <a:lnTo>
                  <a:pt x="113" y="0"/>
                </a:lnTo>
                <a:lnTo>
                  <a:pt x="141" y="5"/>
                </a:lnTo>
                <a:lnTo>
                  <a:pt x="155" y="20"/>
                </a:lnTo>
                <a:lnTo>
                  <a:pt x="163" y="38"/>
                </a:lnTo>
                <a:lnTo>
                  <a:pt x="160" y="58"/>
                </a:lnTo>
                <a:lnTo>
                  <a:pt x="156" y="80"/>
                </a:lnTo>
                <a:lnTo>
                  <a:pt x="141" y="98"/>
                </a:lnTo>
                <a:lnTo>
                  <a:pt x="182" y="140"/>
                </a:lnTo>
                <a:lnTo>
                  <a:pt x="176" y="151"/>
                </a:lnTo>
                <a:lnTo>
                  <a:pt x="130" y="118"/>
                </a:lnTo>
                <a:lnTo>
                  <a:pt x="104" y="143"/>
                </a:lnTo>
                <a:lnTo>
                  <a:pt x="76" y="162"/>
                </a:lnTo>
                <a:lnTo>
                  <a:pt x="48" y="171"/>
                </a:lnTo>
                <a:lnTo>
                  <a:pt x="25" y="171"/>
                </a:lnTo>
                <a:lnTo>
                  <a:pt x="8" y="163"/>
                </a:lnTo>
                <a:lnTo>
                  <a:pt x="0" y="152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27520" y="685800"/>
            <a:ext cx="264960" cy="565200"/>
          </a:xfrm>
          <a:custGeom>
            <a:avLst/>
            <a:gdLst/>
            <a:ahLst/>
            <a:rect l="l" t="t" r="r" b="b"/>
            <a:pathLst>
              <a:path w="167" h="356">
                <a:moveTo>
                  <a:pt x="109" y="34"/>
                </a:moveTo>
                <a:lnTo>
                  <a:pt x="79" y="8"/>
                </a:lnTo>
                <a:lnTo>
                  <a:pt x="43" y="0"/>
                </a:lnTo>
                <a:lnTo>
                  <a:pt x="17" y="1"/>
                </a:lnTo>
                <a:lnTo>
                  <a:pt x="12" y="22"/>
                </a:lnTo>
                <a:lnTo>
                  <a:pt x="14" y="51"/>
                </a:lnTo>
                <a:lnTo>
                  <a:pt x="43" y="84"/>
                </a:lnTo>
                <a:lnTo>
                  <a:pt x="60" y="133"/>
                </a:lnTo>
                <a:lnTo>
                  <a:pt x="62" y="182"/>
                </a:lnTo>
                <a:lnTo>
                  <a:pt x="49" y="228"/>
                </a:lnTo>
                <a:lnTo>
                  <a:pt x="31" y="270"/>
                </a:lnTo>
                <a:lnTo>
                  <a:pt x="0" y="305"/>
                </a:lnTo>
                <a:lnTo>
                  <a:pt x="0" y="317"/>
                </a:lnTo>
                <a:lnTo>
                  <a:pt x="4" y="342"/>
                </a:lnTo>
                <a:lnTo>
                  <a:pt x="27" y="353"/>
                </a:lnTo>
                <a:lnTo>
                  <a:pt x="53" y="355"/>
                </a:lnTo>
                <a:lnTo>
                  <a:pt x="96" y="346"/>
                </a:lnTo>
                <a:lnTo>
                  <a:pt x="130" y="317"/>
                </a:lnTo>
                <a:lnTo>
                  <a:pt x="147" y="266"/>
                </a:lnTo>
                <a:lnTo>
                  <a:pt x="160" y="233"/>
                </a:lnTo>
                <a:lnTo>
                  <a:pt x="166" y="190"/>
                </a:lnTo>
                <a:lnTo>
                  <a:pt x="161" y="133"/>
                </a:lnTo>
                <a:lnTo>
                  <a:pt x="147" y="85"/>
                </a:lnTo>
                <a:lnTo>
                  <a:pt x="130" y="53"/>
                </a:lnTo>
                <a:lnTo>
                  <a:pt x="109" y="34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90920" y="679320"/>
            <a:ext cx="419040" cy="390600"/>
          </a:xfrm>
          <a:custGeom>
            <a:avLst/>
            <a:gdLst/>
            <a:ahLst/>
            <a:rect l="l" t="t" r="r" b="b"/>
            <a:pathLst>
              <a:path w="264" h="246">
                <a:moveTo>
                  <a:pt x="263" y="17"/>
                </a:moveTo>
                <a:lnTo>
                  <a:pt x="254" y="0"/>
                </a:lnTo>
                <a:lnTo>
                  <a:pt x="237" y="0"/>
                </a:lnTo>
                <a:lnTo>
                  <a:pt x="215" y="19"/>
                </a:lnTo>
                <a:lnTo>
                  <a:pt x="201" y="65"/>
                </a:lnTo>
                <a:lnTo>
                  <a:pt x="189" y="119"/>
                </a:lnTo>
                <a:lnTo>
                  <a:pt x="181" y="174"/>
                </a:lnTo>
                <a:lnTo>
                  <a:pt x="154" y="217"/>
                </a:lnTo>
                <a:lnTo>
                  <a:pt x="154" y="218"/>
                </a:lnTo>
                <a:lnTo>
                  <a:pt x="154" y="226"/>
                </a:lnTo>
                <a:lnTo>
                  <a:pt x="116" y="220"/>
                </a:lnTo>
                <a:lnTo>
                  <a:pt x="77" y="198"/>
                </a:lnTo>
                <a:lnTo>
                  <a:pt x="60" y="179"/>
                </a:lnTo>
                <a:lnTo>
                  <a:pt x="30" y="122"/>
                </a:lnTo>
                <a:lnTo>
                  <a:pt x="30" y="101"/>
                </a:lnTo>
                <a:lnTo>
                  <a:pt x="41" y="82"/>
                </a:lnTo>
                <a:lnTo>
                  <a:pt x="54" y="56"/>
                </a:lnTo>
                <a:lnTo>
                  <a:pt x="58" y="46"/>
                </a:lnTo>
                <a:lnTo>
                  <a:pt x="43" y="41"/>
                </a:lnTo>
                <a:lnTo>
                  <a:pt x="24" y="42"/>
                </a:lnTo>
                <a:lnTo>
                  <a:pt x="12" y="52"/>
                </a:lnTo>
                <a:lnTo>
                  <a:pt x="0" y="75"/>
                </a:lnTo>
                <a:lnTo>
                  <a:pt x="7" y="117"/>
                </a:lnTo>
                <a:lnTo>
                  <a:pt x="12" y="140"/>
                </a:lnTo>
                <a:lnTo>
                  <a:pt x="41" y="188"/>
                </a:lnTo>
                <a:lnTo>
                  <a:pt x="67" y="222"/>
                </a:lnTo>
                <a:lnTo>
                  <a:pt x="114" y="237"/>
                </a:lnTo>
                <a:lnTo>
                  <a:pt x="154" y="245"/>
                </a:lnTo>
                <a:lnTo>
                  <a:pt x="184" y="232"/>
                </a:lnTo>
                <a:lnTo>
                  <a:pt x="198" y="188"/>
                </a:lnTo>
                <a:lnTo>
                  <a:pt x="214" y="132"/>
                </a:lnTo>
                <a:lnTo>
                  <a:pt x="227" y="91"/>
                </a:lnTo>
                <a:lnTo>
                  <a:pt x="244" y="69"/>
                </a:lnTo>
                <a:lnTo>
                  <a:pt x="261" y="46"/>
                </a:lnTo>
                <a:lnTo>
                  <a:pt x="263" y="17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532240" y="679320"/>
            <a:ext cx="382320" cy="341280"/>
            <a:chOff x="2532240" y="679320"/>
            <a:chExt cx="382320" cy="341280"/>
          </a:xfrm>
        </p:grpSpPr>
        <p:sp>
          <p:nvSpPr>
            <p:cNvPr id="169" name=""/>
            <p:cNvSpPr/>
            <p:nvPr/>
          </p:nvSpPr>
          <p:spPr>
            <a:xfrm>
              <a:off x="2532240" y="679320"/>
              <a:ext cx="382320" cy="341280"/>
            </a:xfrm>
            <a:custGeom>
              <a:avLst/>
              <a:gdLst/>
              <a:ahLst/>
              <a:rect l="l" t="t" r="r" b="b"/>
              <a:pathLst>
                <a:path w="241" h="215">
                  <a:moveTo>
                    <a:pt x="236" y="75"/>
                  </a:moveTo>
                  <a:lnTo>
                    <a:pt x="236" y="52"/>
                  </a:lnTo>
                  <a:lnTo>
                    <a:pt x="226" y="33"/>
                  </a:lnTo>
                  <a:lnTo>
                    <a:pt x="209" y="18"/>
                  </a:lnTo>
                  <a:lnTo>
                    <a:pt x="184" y="6"/>
                  </a:lnTo>
                  <a:lnTo>
                    <a:pt x="166" y="0"/>
                  </a:lnTo>
                  <a:lnTo>
                    <a:pt x="138" y="3"/>
                  </a:lnTo>
                  <a:lnTo>
                    <a:pt x="3" y="119"/>
                  </a:lnTo>
                  <a:lnTo>
                    <a:pt x="0" y="142"/>
                  </a:lnTo>
                  <a:lnTo>
                    <a:pt x="3" y="161"/>
                  </a:lnTo>
                  <a:lnTo>
                    <a:pt x="20" y="187"/>
                  </a:lnTo>
                  <a:lnTo>
                    <a:pt x="51" y="206"/>
                  </a:lnTo>
                  <a:lnTo>
                    <a:pt x="82" y="214"/>
                  </a:lnTo>
                  <a:lnTo>
                    <a:pt x="103" y="214"/>
                  </a:lnTo>
                  <a:lnTo>
                    <a:pt x="236" y="87"/>
                  </a:lnTo>
                  <a:lnTo>
                    <a:pt x="240" y="64"/>
                  </a:lnTo>
                  <a:lnTo>
                    <a:pt x="240" y="68"/>
                  </a:lnTo>
                  <a:lnTo>
                    <a:pt x="236" y="7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32240" y="679320"/>
              <a:ext cx="382320" cy="341280"/>
            </a:xfrm>
            <a:custGeom>
              <a:avLst/>
              <a:gdLst/>
              <a:ahLst/>
              <a:rect l="l" t="t" r="r" b="b"/>
              <a:pathLst>
                <a:path w="241" h="215">
                  <a:moveTo>
                    <a:pt x="236" y="75"/>
                  </a:moveTo>
                  <a:lnTo>
                    <a:pt x="236" y="52"/>
                  </a:lnTo>
                  <a:lnTo>
                    <a:pt x="226" y="33"/>
                  </a:lnTo>
                  <a:lnTo>
                    <a:pt x="209" y="18"/>
                  </a:lnTo>
                  <a:lnTo>
                    <a:pt x="184" y="6"/>
                  </a:lnTo>
                  <a:lnTo>
                    <a:pt x="166" y="0"/>
                  </a:lnTo>
                  <a:lnTo>
                    <a:pt x="138" y="3"/>
                  </a:lnTo>
                  <a:lnTo>
                    <a:pt x="3" y="119"/>
                  </a:lnTo>
                  <a:lnTo>
                    <a:pt x="0" y="142"/>
                  </a:lnTo>
                  <a:lnTo>
                    <a:pt x="3" y="161"/>
                  </a:lnTo>
                  <a:lnTo>
                    <a:pt x="20" y="187"/>
                  </a:lnTo>
                  <a:lnTo>
                    <a:pt x="51" y="206"/>
                  </a:lnTo>
                  <a:lnTo>
                    <a:pt x="82" y="214"/>
                  </a:lnTo>
                  <a:lnTo>
                    <a:pt x="103" y="214"/>
                  </a:lnTo>
                  <a:lnTo>
                    <a:pt x="236" y="87"/>
                  </a:lnTo>
                  <a:lnTo>
                    <a:pt x="240" y="64"/>
                  </a:lnTo>
                  <a:lnTo>
                    <a:pt x="240" y="6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57600" y="690480"/>
              <a:ext cx="153720" cy="122400"/>
            </a:xfrm>
            <a:custGeom>
              <a:avLst/>
              <a:gdLst/>
              <a:ahLst/>
              <a:rect l="l" t="t" r="r" b="b"/>
              <a:pathLst>
                <a:path w="97" h="77">
                  <a:moveTo>
                    <a:pt x="96" y="72"/>
                  </a:moveTo>
                  <a:lnTo>
                    <a:pt x="69" y="76"/>
                  </a:lnTo>
                  <a:lnTo>
                    <a:pt x="49" y="69"/>
                  </a:lnTo>
                  <a:lnTo>
                    <a:pt x="34" y="61"/>
                  </a:lnTo>
                  <a:lnTo>
                    <a:pt x="17" y="51"/>
                  </a:lnTo>
                  <a:lnTo>
                    <a:pt x="5" y="38"/>
                  </a:lnTo>
                  <a:lnTo>
                    <a:pt x="0" y="16"/>
                  </a:lnTo>
                  <a:lnTo>
                    <a:pt x="0" y="3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727360" y="671400"/>
            <a:ext cx="603360" cy="401760"/>
          </a:xfrm>
          <a:custGeom>
            <a:avLst/>
            <a:gdLst/>
            <a:ahLst/>
            <a:rect l="l" t="t" r="r" b="b"/>
            <a:pathLst>
              <a:path w="380" h="253">
                <a:moveTo>
                  <a:pt x="245" y="10"/>
                </a:moveTo>
                <a:lnTo>
                  <a:pt x="212" y="0"/>
                </a:lnTo>
                <a:lnTo>
                  <a:pt x="195" y="12"/>
                </a:lnTo>
                <a:lnTo>
                  <a:pt x="195" y="38"/>
                </a:lnTo>
                <a:lnTo>
                  <a:pt x="224" y="67"/>
                </a:lnTo>
                <a:lnTo>
                  <a:pt x="272" y="83"/>
                </a:lnTo>
                <a:lnTo>
                  <a:pt x="311" y="111"/>
                </a:lnTo>
                <a:lnTo>
                  <a:pt x="335" y="144"/>
                </a:lnTo>
                <a:lnTo>
                  <a:pt x="349" y="172"/>
                </a:lnTo>
                <a:lnTo>
                  <a:pt x="349" y="194"/>
                </a:lnTo>
                <a:lnTo>
                  <a:pt x="332" y="218"/>
                </a:lnTo>
                <a:lnTo>
                  <a:pt x="294" y="230"/>
                </a:lnTo>
                <a:lnTo>
                  <a:pt x="262" y="232"/>
                </a:lnTo>
                <a:lnTo>
                  <a:pt x="215" y="230"/>
                </a:lnTo>
                <a:lnTo>
                  <a:pt x="154" y="215"/>
                </a:lnTo>
                <a:lnTo>
                  <a:pt x="116" y="182"/>
                </a:lnTo>
                <a:lnTo>
                  <a:pt x="91" y="158"/>
                </a:lnTo>
                <a:lnTo>
                  <a:pt x="99" y="133"/>
                </a:lnTo>
                <a:lnTo>
                  <a:pt x="96" y="118"/>
                </a:lnTo>
                <a:lnTo>
                  <a:pt x="70" y="126"/>
                </a:lnTo>
                <a:lnTo>
                  <a:pt x="43" y="126"/>
                </a:lnTo>
                <a:lnTo>
                  <a:pt x="22" y="111"/>
                </a:lnTo>
                <a:lnTo>
                  <a:pt x="10" y="99"/>
                </a:lnTo>
                <a:lnTo>
                  <a:pt x="1" y="102"/>
                </a:lnTo>
                <a:lnTo>
                  <a:pt x="0" y="110"/>
                </a:lnTo>
                <a:lnTo>
                  <a:pt x="8" y="133"/>
                </a:lnTo>
                <a:lnTo>
                  <a:pt x="8" y="153"/>
                </a:lnTo>
                <a:lnTo>
                  <a:pt x="18" y="168"/>
                </a:lnTo>
                <a:lnTo>
                  <a:pt x="43" y="180"/>
                </a:lnTo>
                <a:lnTo>
                  <a:pt x="64" y="180"/>
                </a:lnTo>
                <a:lnTo>
                  <a:pt x="87" y="182"/>
                </a:lnTo>
                <a:lnTo>
                  <a:pt x="133" y="217"/>
                </a:lnTo>
                <a:lnTo>
                  <a:pt x="168" y="236"/>
                </a:lnTo>
                <a:lnTo>
                  <a:pt x="221" y="249"/>
                </a:lnTo>
                <a:lnTo>
                  <a:pt x="276" y="252"/>
                </a:lnTo>
                <a:lnTo>
                  <a:pt x="318" y="244"/>
                </a:lnTo>
                <a:lnTo>
                  <a:pt x="349" y="234"/>
                </a:lnTo>
                <a:lnTo>
                  <a:pt x="371" y="213"/>
                </a:lnTo>
                <a:lnTo>
                  <a:pt x="379" y="191"/>
                </a:lnTo>
                <a:lnTo>
                  <a:pt x="379" y="156"/>
                </a:lnTo>
                <a:lnTo>
                  <a:pt x="366" y="133"/>
                </a:lnTo>
                <a:lnTo>
                  <a:pt x="349" y="110"/>
                </a:lnTo>
                <a:lnTo>
                  <a:pt x="328" y="84"/>
                </a:lnTo>
                <a:lnTo>
                  <a:pt x="297" y="64"/>
                </a:lnTo>
                <a:lnTo>
                  <a:pt x="276" y="42"/>
                </a:lnTo>
                <a:lnTo>
                  <a:pt x="262" y="23"/>
                </a:lnTo>
                <a:lnTo>
                  <a:pt x="245" y="10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32040" y="1171440"/>
            <a:ext cx="273240" cy="568440"/>
          </a:xfrm>
          <a:custGeom>
            <a:avLst/>
            <a:gdLst/>
            <a:ahLst/>
            <a:rect l="l" t="t" r="r" b="b"/>
            <a:pathLst>
              <a:path w="172" h="358">
                <a:moveTo>
                  <a:pt x="157" y="0"/>
                </a:moveTo>
                <a:lnTo>
                  <a:pt x="127" y="15"/>
                </a:lnTo>
                <a:lnTo>
                  <a:pt x="97" y="59"/>
                </a:lnTo>
                <a:lnTo>
                  <a:pt x="77" y="90"/>
                </a:lnTo>
                <a:lnTo>
                  <a:pt x="62" y="125"/>
                </a:lnTo>
                <a:lnTo>
                  <a:pt x="47" y="160"/>
                </a:lnTo>
                <a:lnTo>
                  <a:pt x="34" y="200"/>
                </a:lnTo>
                <a:lnTo>
                  <a:pt x="34" y="228"/>
                </a:lnTo>
                <a:lnTo>
                  <a:pt x="54" y="251"/>
                </a:lnTo>
                <a:lnTo>
                  <a:pt x="67" y="274"/>
                </a:lnTo>
                <a:lnTo>
                  <a:pt x="89" y="292"/>
                </a:lnTo>
                <a:lnTo>
                  <a:pt x="98" y="308"/>
                </a:lnTo>
                <a:lnTo>
                  <a:pt x="88" y="319"/>
                </a:lnTo>
                <a:lnTo>
                  <a:pt x="73" y="320"/>
                </a:lnTo>
                <a:lnTo>
                  <a:pt x="37" y="324"/>
                </a:lnTo>
                <a:lnTo>
                  <a:pt x="12" y="334"/>
                </a:lnTo>
                <a:lnTo>
                  <a:pt x="0" y="343"/>
                </a:lnTo>
                <a:lnTo>
                  <a:pt x="8" y="354"/>
                </a:lnTo>
                <a:lnTo>
                  <a:pt x="29" y="357"/>
                </a:lnTo>
                <a:lnTo>
                  <a:pt x="58" y="346"/>
                </a:lnTo>
                <a:lnTo>
                  <a:pt x="75" y="338"/>
                </a:lnTo>
                <a:lnTo>
                  <a:pt x="112" y="330"/>
                </a:lnTo>
                <a:lnTo>
                  <a:pt x="120" y="327"/>
                </a:lnTo>
                <a:lnTo>
                  <a:pt x="124" y="316"/>
                </a:lnTo>
                <a:lnTo>
                  <a:pt x="119" y="300"/>
                </a:lnTo>
                <a:lnTo>
                  <a:pt x="89" y="270"/>
                </a:lnTo>
                <a:lnTo>
                  <a:pt x="75" y="251"/>
                </a:lnTo>
                <a:lnTo>
                  <a:pt x="58" y="215"/>
                </a:lnTo>
                <a:lnTo>
                  <a:pt x="54" y="198"/>
                </a:lnTo>
                <a:lnTo>
                  <a:pt x="70" y="152"/>
                </a:lnTo>
                <a:lnTo>
                  <a:pt x="103" y="105"/>
                </a:lnTo>
                <a:lnTo>
                  <a:pt x="133" y="74"/>
                </a:lnTo>
                <a:lnTo>
                  <a:pt x="149" y="51"/>
                </a:lnTo>
                <a:lnTo>
                  <a:pt x="166" y="37"/>
                </a:lnTo>
                <a:lnTo>
                  <a:pt x="171" y="17"/>
                </a:lnTo>
                <a:lnTo>
                  <a:pt x="157" y="0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38400" y="1166760"/>
            <a:ext cx="247680" cy="531720"/>
          </a:xfrm>
          <a:custGeom>
            <a:avLst/>
            <a:gdLst/>
            <a:ahLst/>
            <a:rect l="l" t="t" r="r" b="b"/>
            <a:pathLst>
              <a:path w="156" h="335">
                <a:moveTo>
                  <a:pt x="68" y="32"/>
                </a:moveTo>
                <a:lnTo>
                  <a:pt x="37" y="4"/>
                </a:lnTo>
                <a:lnTo>
                  <a:pt x="2" y="0"/>
                </a:lnTo>
                <a:lnTo>
                  <a:pt x="0" y="24"/>
                </a:lnTo>
                <a:lnTo>
                  <a:pt x="19" y="42"/>
                </a:lnTo>
                <a:lnTo>
                  <a:pt x="49" y="55"/>
                </a:lnTo>
                <a:lnTo>
                  <a:pt x="73" y="77"/>
                </a:lnTo>
                <a:lnTo>
                  <a:pt x="77" y="108"/>
                </a:lnTo>
                <a:lnTo>
                  <a:pt x="73" y="153"/>
                </a:lnTo>
                <a:lnTo>
                  <a:pt x="60" y="230"/>
                </a:lnTo>
                <a:lnTo>
                  <a:pt x="45" y="278"/>
                </a:lnTo>
                <a:lnTo>
                  <a:pt x="29" y="313"/>
                </a:lnTo>
                <a:lnTo>
                  <a:pt x="32" y="329"/>
                </a:lnTo>
                <a:lnTo>
                  <a:pt x="49" y="332"/>
                </a:lnTo>
                <a:lnTo>
                  <a:pt x="80" y="324"/>
                </a:lnTo>
                <a:lnTo>
                  <a:pt x="114" y="324"/>
                </a:lnTo>
                <a:lnTo>
                  <a:pt x="133" y="334"/>
                </a:lnTo>
                <a:lnTo>
                  <a:pt x="151" y="329"/>
                </a:lnTo>
                <a:lnTo>
                  <a:pt x="155" y="310"/>
                </a:lnTo>
                <a:lnTo>
                  <a:pt x="137" y="306"/>
                </a:lnTo>
                <a:lnTo>
                  <a:pt x="102" y="306"/>
                </a:lnTo>
                <a:lnTo>
                  <a:pt x="51" y="316"/>
                </a:lnTo>
                <a:lnTo>
                  <a:pt x="49" y="313"/>
                </a:lnTo>
                <a:lnTo>
                  <a:pt x="54" y="297"/>
                </a:lnTo>
                <a:lnTo>
                  <a:pt x="73" y="240"/>
                </a:lnTo>
                <a:lnTo>
                  <a:pt x="81" y="195"/>
                </a:lnTo>
                <a:lnTo>
                  <a:pt x="94" y="139"/>
                </a:lnTo>
                <a:lnTo>
                  <a:pt x="94" y="99"/>
                </a:lnTo>
                <a:lnTo>
                  <a:pt x="93" y="69"/>
                </a:lnTo>
                <a:lnTo>
                  <a:pt x="86" y="47"/>
                </a:lnTo>
                <a:lnTo>
                  <a:pt x="68" y="32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54360" y="380880"/>
            <a:ext cx="291960" cy="285840"/>
          </a:xfrm>
          <a:custGeom>
            <a:avLst/>
            <a:gdLst/>
            <a:ahLst/>
            <a:rect l="l" t="t" r="r" b="b"/>
            <a:pathLst>
              <a:path w="184" h="180">
                <a:moveTo>
                  <a:pt x="183" y="160"/>
                </a:moveTo>
                <a:lnTo>
                  <a:pt x="183" y="120"/>
                </a:lnTo>
                <a:lnTo>
                  <a:pt x="174" y="75"/>
                </a:lnTo>
                <a:lnTo>
                  <a:pt x="153" y="40"/>
                </a:lnTo>
                <a:lnTo>
                  <a:pt x="125" y="18"/>
                </a:lnTo>
                <a:lnTo>
                  <a:pt x="94" y="1"/>
                </a:lnTo>
                <a:lnTo>
                  <a:pt x="69" y="0"/>
                </a:lnTo>
                <a:lnTo>
                  <a:pt x="40" y="6"/>
                </a:lnTo>
                <a:lnTo>
                  <a:pt x="27" y="21"/>
                </a:lnTo>
                <a:lnTo>
                  <a:pt x="18" y="40"/>
                </a:lnTo>
                <a:lnTo>
                  <a:pt x="21" y="60"/>
                </a:lnTo>
                <a:lnTo>
                  <a:pt x="25" y="83"/>
                </a:lnTo>
                <a:lnTo>
                  <a:pt x="40" y="102"/>
                </a:lnTo>
                <a:lnTo>
                  <a:pt x="0" y="147"/>
                </a:lnTo>
                <a:lnTo>
                  <a:pt x="5" y="158"/>
                </a:lnTo>
                <a:lnTo>
                  <a:pt x="51" y="123"/>
                </a:lnTo>
                <a:lnTo>
                  <a:pt x="77" y="151"/>
                </a:lnTo>
                <a:lnTo>
                  <a:pt x="105" y="170"/>
                </a:lnTo>
                <a:lnTo>
                  <a:pt x="134" y="179"/>
                </a:lnTo>
                <a:lnTo>
                  <a:pt x="157" y="179"/>
                </a:lnTo>
                <a:lnTo>
                  <a:pt x="174" y="170"/>
                </a:lnTo>
                <a:lnTo>
                  <a:pt x="183" y="160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91960" y="-471600"/>
            <a:ext cx="1581840" cy="177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07" y="17580"/>
                </a:moveTo>
                <a:arcTo wR="10800" hR="10800" stAng="2333012" swAng="6294804"/>
                <a:lnTo>
                  <a:pt x="10800" y="10800"/>
                </a:lnTo>
                <a:close/>
              </a:path>
              <a:path fill="none" w="21600" h="21600">
                <a:moveTo>
                  <a:pt x="19207" y="17580"/>
                </a:moveTo>
                <a:arcTo wR="10800" hR="10800" stAng="2333012" swAng="6294804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7840" y="2311560"/>
            <a:ext cx="3225600" cy="863280"/>
          </a:xfrm>
          <a:prstGeom prst="roundRect">
            <a:avLst>
              <a:gd name="adj" fmla="val 12495"/>
            </a:avLst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87920" y="2311560"/>
            <a:ext cx="3378240" cy="863280"/>
          </a:xfrm>
          <a:prstGeom prst="roundRect">
            <a:avLst>
              <a:gd name="adj" fmla="val 12495"/>
            </a:avLst>
          </a:prstGeom>
          <a:solidFill>
            <a:srgbClr val="33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520" y="4025880"/>
            <a:ext cx="3278160" cy="109296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Šifruojama naudoj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Arial"/>
              </a:rPr>
              <a:t>pub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73880" y="4030560"/>
            <a:ext cx="3420720" cy="109296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ššifruojama naudoj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priv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05320" y="2743200"/>
            <a:ext cx="1981080" cy="0"/>
          </a:xfrm>
          <a:prstGeom prst="line">
            <a:avLst/>
          </a:prstGeom>
          <a:ln w="50760">
            <a:solidFill>
              <a:srgbClr val="00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3200400"/>
            <a:ext cx="0" cy="762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38880" y="3200400"/>
            <a:ext cx="0" cy="762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81280" y="4419720"/>
            <a:ext cx="1981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88080" y="-846000"/>
            <a:ext cx="1380240" cy="1761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11" y="17574"/>
                </a:moveTo>
                <a:arcTo wR="10800" hR="10800" stAng="2330835" swAng="6299493"/>
                <a:lnTo>
                  <a:pt x="10800" y="10800"/>
                </a:lnTo>
                <a:close/>
              </a:path>
              <a:path fill="none" w="21600" h="21600">
                <a:moveTo>
                  <a:pt x="19211" y="17574"/>
                </a:moveTo>
                <a:arcTo wR="10800" hR="10800" stAng="2330835" swAng="6299493"/>
              </a:path>
            </a:pathLst>
          </a:custGeom>
          <a:noFill/>
          <a:ln cap="rnd" w="25560">
            <a:solidFill>
              <a:srgbClr val="000000"/>
            </a:solidFill>
            <a:custDash>
              <a:ds d="499000" sp="20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DBA2-99CD-48F4-B2F8-7CD4C6FCB408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60199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K Al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place or min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0960" y="671400"/>
            <a:ext cx="263520" cy="542880"/>
          </a:xfrm>
          <a:custGeom>
            <a:avLst/>
            <a:gdLst/>
            <a:ahLst/>
            <a:rect l="l" t="t" r="r" b="b"/>
            <a:pathLst>
              <a:path w="166" h="342">
                <a:moveTo>
                  <a:pt x="56" y="32"/>
                </a:moveTo>
                <a:lnTo>
                  <a:pt x="86" y="8"/>
                </a:lnTo>
                <a:lnTo>
                  <a:pt x="122" y="0"/>
                </a:lnTo>
                <a:lnTo>
                  <a:pt x="147" y="1"/>
                </a:lnTo>
                <a:lnTo>
                  <a:pt x="152" y="22"/>
                </a:lnTo>
                <a:lnTo>
                  <a:pt x="150" y="48"/>
                </a:lnTo>
                <a:lnTo>
                  <a:pt x="122" y="80"/>
                </a:lnTo>
                <a:lnTo>
                  <a:pt x="104" y="127"/>
                </a:lnTo>
                <a:lnTo>
                  <a:pt x="103" y="175"/>
                </a:lnTo>
                <a:lnTo>
                  <a:pt x="116" y="219"/>
                </a:lnTo>
                <a:lnTo>
                  <a:pt x="133" y="259"/>
                </a:lnTo>
                <a:lnTo>
                  <a:pt x="165" y="293"/>
                </a:lnTo>
                <a:lnTo>
                  <a:pt x="165" y="304"/>
                </a:lnTo>
                <a:lnTo>
                  <a:pt x="160" y="328"/>
                </a:lnTo>
                <a:lnTo>
                  <a:pt x="137" y="339"/>
                </a:lnTo>
                <a:lnTo>
                  <a:pt x="112" y="341"/>
                </a:lnTo>
                <a:lnTo>
                  <a:pt x="69" y="332"/>
                </a:lnTo>
                <a:lnTo>
                  <a:pt x="35" y="304"/>
                </a:lnTo>
                <a:lnTo>
                  <a:pt x="18" y="255"/>
                </a:lnTo>
                <a:lnTo>
                  <a:pt x="5" y="223"/>
                </a:lnTo>
                <a:lnTo>
                  <a:pt x="0" y="182"/>
                </a:lnTo>
                <a:lnTo>
                  <a:pt x="4" y="127"/>
                </a:lnTo>
                <a:lnTo>
                  <a:pt x="18" y="81"/>
                </a:lnTo>
                <a:lnTo>
                  <a:pt x="35" y="51"/>
                </a:lnTo>
                <a:lnTo>
                  <a:pt x="56" y="32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33480" y="668160"/>
            <a:ext cx="417600" cy="373320"/>
          </a:xfrm>
          <a:custGeom>
            <a:avLst/>
            <a:gdLst/>
            <a:ahLst/>
            <a:rect l="l" t="t" r="r" b="b"/>
            <a:pathLst>
              <a:path w="263" h="235">
                <a:moveTo>
                  <a:pt x="0" y="16"/>
                </a:moveTo>
                <a:lnTo>
                  <a:pt x="8" y="0"/>
                </a:lnTo>
                <a:lnTo>
                  <a:pt x="25" y="0"/>
                </a:lnTo>
                <a:lnTo>
                  <a:pt x="46" y="17"/>
                </a:lnTo>
                <a:lnTo>
                  <a:pt x="61" y="61"/>
                </a:lnTo>
                <a:lnTo>
                  <a:pt x="72" y="112"/>
                </a:lnTo>
                <a:lnTo>
                  <a:pt x="81" y="166"/>
                </a:lnTo>
                <a:lnTo>
                  <a:pt x="108" y="206"/>
                </a:lnTo>
                <a:lnTo>
                  <a:pt x="108" y="207"/>
                </a:lnTo>
                <a:lnTo>
                  <a:pt x="108" y="215"/>
                </a:lnTo>
                <a:lnTo>
                  <a:pt x="145" y="210"/>
                </a:lnTo>
                <a:lnTo>
                  <a:pt x="184" y="189"/>
                </a:lnTo>
                <a:lnTo>
                  <a:pt x="201" y="170"/>
                </a:lnTo>
                <a:lnTo>
                  <a:pt x="232" y="116"/>
                </a:lnTo>
                <a:lnTo>
                  <a:pt x="232" y="96"/>
                </a:lnTo>
                <a:lnTo>
                  <a:pt x="220" y="79"/>
                </a:lnTo>
                <a:lnTo>
                  <a:pt x="207" y="53"/>
                </a:lnTo>
                <a:lnTo>
                  <a:pt x="203" y="43"/>
                </a:lnTo>
                <a:lnTo>
                  <a:pt x="218" y="38"/>
                </a:lnTo>
                <a:lnTo>
                  <a:pt x="237" y="39"/>
                </a:lnTo>
                <a:lnTo>
                  <a:pt x="249" y="49"/>
                </a:lnTo>
                <a:lnTo>
                  <a:pt x="262" y="71"/>
                </a:lnTo>
                <a:lnTo>
                  <a:pt x="255" y="111"/>
                </a:lnTo>
                <a:lnTo>
                  <a:pt x="249" y="133"/>
                </a:lnTo>
                <a:lnTo>
                  <a:pt x="220" y="178"/>
                </a:lnTo>
                <a:lnTo>
                  <a:pt x="195" y="211"/>
                </a:lnTo>
                <a:lnTo>
                  <a:pt x="147" y="226"/>
                </a:lnTo>
                <a:lnTo>
                  <a:pt x="108" y="234"/>
                </a:lnTo>
                <a:lnTo>
                  <a:pt x="78" y="221"/>
                </a:lnTo>
                <a:lnTo>
                  <a:pt x="64" y="178"/>
                </a:lnTo>
                <a:lnTo>
                  <a:pt x="48" y="126"/>
                </a:lnTo>
                <a:lnTo>
                  <a:pt x="34" y="87"/>
                </a:lnTo>
                <a:lnTo>
                  <a:pt x="18" y="65"/>
                </a:lnTo>
                <a:lnTo>
                  <a:pt x="0" y="43"/>
                </a:lnTo>
                <a:lnTo>
                  <a:pt x="0" y="16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025640" y="668160"/>
            <a:ext cx="385560" cy="325440"/>
            <a:chOff x="1025640" y="668160"/>
            <a:chExt cx="385560" cy="325440"/>
          </a:xfrm>
        </p:grpSpPr>
        <p:sp>
          <p:nvSpPr>
            <p:cNvPr id="190" name=""/>
            <p:cNvSpPr/>
            <p:nvPr/>
          </p:nvSpPr>
          <p:spPr>
            <a:xfrm>
              <a:off x="1025640" y="668160"/>
              <a:ext cx="385560" cy="325440"/>
            </a:xfrm>
            <a:custGeom>
              <a:avLst/>
              <a:gdLst/>
              <a:ahLst/>
              <a:rect l="l" t="t" r="r" b="b"/>
              <a:pathLst>
                <a:path w="243" h="205">
                  <a:moveTo>
                    <a:pt x="2" y="72"/>
                  </a:moveTo>
                  <a:lnTo>
                    <a:pt x="2" y="50"/>
                  </a:lnTo>
                  <a:lnTo>
                    <a:pt x="12" y="31"/>
                  </a:lnTo>
                  <a:lnTo>
                    <a:pt x="29" y="17"/>
                  </a:lnTo>
                  <a:lnTo>
                    <a:pt x="56" y="6"/>
                  </a:lnTo>
                  <a:lnTo>
                    <a:pt x="73" y="0"/>
                  </a:lnTo>
                  <a:lnTo>
                    <a:pt x="102" y="2"/>
                  </a:lnTo>
                  <a:lnTo>
                    <a:pt x="237" y="113"/>
                  </a:lnTo>
                  <a:lnTo>
                    <a:pt x="242" y="135"/>
                  </a:lnTo>
                  <a:lnTo>
                    <a:pt x="237" y="153"/>
                  </a:lnTo>
                  <a:lnTo>
                    <a:pt x="220" y="178"/>
                  </a:lnTo>
                  <a:lnTo>
                    <a:pt x="190" y="196"/>
                  </a:lnTo>
                  <a:lnTo>
                    <a:pt x="158" y="204"/>
                  </a:lnTo>
                  <a:lnTo>
                    <a:pt x="136" y="204"/>
                  </a:lnTo>
                  <a:lnTo>
                    <a:pt x="2" y="82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2" y="72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25640" y="668160"/>
              <a:ext cx="385560" cy="325440"/>
            </a:xfrm>
            <a:custGeom>
              <a:avLst/>
              <a:gdLst/>
              <a:ahLst/>
              <a:rect l="l" t="t" r="r" b="b"/>
              <a:pathLst>
                <a:path w="243" h="205">
                  <a:moveTo>
                    <a:pt x="2" y="72"/>
                  </a:moveTo>
                  <a:lnTo>
                    <a:pt x="2" y="50"/>
                  </a:lnTo>
                  <a:lnTo>
                    <a:pt x="12" y="31"/>
                  </a:lnTo>
                  <a:lnTo>
                    <a:pt x="29" y="17"/>
                  </a:lnTo>
                  <a:lnTo>
                    <a:pt x="56" y="6"/>
                  </a:lnTo>
                  <a:lnTo>
                    <a:pt x="73" y="0"/>
                  </a:lnTo>
                  <a:lnTo>
                    <a:pt x="102" y="2"/>
                  </a:lnTo>
                  <a:lnTo>
                    <a:pt x="237" y="113"/>
                  </a:lnTo>
                  <a:lnTo>
                    <a:pt x="242" y="135"/>
                  </a:lnTo>
                  <a:lnTo>
                    <a:pt x="237" y="153"/>
                  </a:lnTo>
                  <a:lnTo>
                    <a:pt x="220" y="178"/>
                  </a:lnTo>
                  <a:lnTo>
                    <a:pt x="190" y="196"/>
                  </a:lnTo>
                  <a:lnTo>
                    <a:pt x="158" y="204"/>
                  </a:lnTo>
                  <a:lnTo>
                    <a:pt x="136" y="204"/>
                  </a:lnTo>
                  <a:lnTo>
                    <a:pt x="2" y="82"/>
                  </a:lnTo>
                  <a:lnTo>
                    <a:pt x="0" y="61"/>
                  </a:lnTo>
                  <a:lnTo>
                    <a:pt x="0" y="64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030320" y="677880"/>
              <a:ext cx="155520" cy="117360"/>
            </a:xfrm>
            <a:custGeom>
              <a:avLst/>
              <a:gdLst/>
              <a:ahLst/>
              <a:rect l="l" t="t" r="r" b="b"/>
              <a:pathLst>
                <a:path w="98" h="74">
                  <a:moveTo>
                    <a:pt x="0" y="69"/>
                  </a:moveTo>
                  <a:lnTo>
                    <a:pt x="26" y="73"/>
                  </a:lnTo>
                  <a:lnTo>
                    <a:pt x="47" y="66"/>
                  </a:lnTo>
                  <a:lnTo>
                    <a:pt x="61" y="59"/>
                  </a:lnTo>
                  <a:lnTo>
                    <a:pt x="79" y="48"/>
                  </a:lnTo>
                  <a:lnTo>
                    <a:pt x="91" y="36"/>
                  </a:lnTo>
                  <a:lnTo>
                    <a:pt x="97" y="15"/>
                  </a:lnTo>
                  <a:lnTo>
                    <a:pt x="97" y="3"/>
                  </a:lnTo>
                  <a:lnTo>
                    <a:pt x="95" y="0"/>
                  </a:lnTo>
                </a:path>
              </a:pathLst>
            </a:custGeom>
            <a:solidFill>
              <a:srgbClr val="00cc99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609480" y="660240"/>
            <a:ext cx="603360" cy="382680"/>
          </a:xfrm>
          <a:custGeom>
            <a:avLst/>
            <a:gdLst/>
            <a:ahLst/>
            <a:rect l="l" t="t" r="r" b="b"/>
            <a:pathLst>
              <a:path w="380" h="241">
                <a:moveTo>
                  <a:pt x="134" y="10"/>
                </a:moveTo>
                <a:lnTo>
                  <a:pt x="166" y="0"/>
                </a:lnTo>
                <a:lnTo>
                  <a:pt x="184" y="10"/>
                </a:lnTo>
                <a:lnTo>
                  <a:pt x="184" y="36"/>
                </a:lnTo>
                <a:lnTo>
                  <a:pt x="155" y="64"/>
                </a:lnTo>
                <a:lnTo>
                  <a:pt x="106" y="79"/>
                </a:lnTo>
                <a:lnTo>
                  <a:pt x="68" y="105"/>
                </a:lnTo>
                <a:lnTo>
                  <a:pt x="43" y="137"/>
                </a:lnTo>
                <a:lnTo>
                  <a:pt x="30" y="162"/>
                </a:lnTo>
                <a:lnTo>
                  <a:pt x="30" y="184"/>
                </a:lnTo>
                <a:lnTo>
                  <a:pt x="46" y="208"/>
                </a:lnTo>
                <a:lnTo>
                  <a:pt x="84" y="219"/>
                </a:lnTo>
                <a:lnTo>
                  <a:pt x="116" y="221"/>
                </a:lnTo>
                <a:lnTo>
                  <a:pt x="164" y="219"/>
                </a:lnTo>
                <a:lnTo>
                  <a:pt x="224" y="204"/>
                </a:lnTo>
                <a:lnTo>
                  <a:pt x="262" y="174"/>
                </a:lnTo>
                <a:lnTo>
                  <a:pt x="287" y="149"/>
                </a:lnTo>
                <a:lnTo>
                  <a:pt x="280" y="126"/>
                </a:lnTo>
                <a:lnTo>
                  <a:pt x="282" y="112"/>
                </a:lnTo>
                <a:lnTo>
                  <a:pt x="309" y="120"/>
                </a:lnTo>
                <a:lnTo>
                  <a:pt x="336" y="120"/>
                </a:lnTo>
                <a:lnTo>
                  <a:pt x="356" y="105"/>
                </a:lnTo>
                <a:lnTo>
                  <a:pt x="369" y="94"/>
                </a:lnTo>
                <a:lnTo>
                  <a:pt x="378" y="97"/>
                </a:lnTo>
                <a:lnTo>
                  <a:pt x="379" y="105"/>
                </a:lnTo>
                <a:lnTo>
                  <a:pt x="370" y="126"/>
                </a:lnTo>
                <a:lnTo>
                  <a:pt x="370" y="146"/>
                </a:lnTo>
                <a:lnTo>
                  <a:pt x="360" y="160"/>
                </a:lnTo>
                <a:lnTo>
                  <a:pt x="336" y="171"/>
                </a:lnTo>
                <a:lnTo>
                  <a:pt x="314" y="171"/>
                </a:lnTo>
                <a:lnTo>
                  <a:pt x="291" y="174"/>
                </a:lnTo>
                <a:lnTo>
                  <a:pt x="245" y="207"/>
                </a:lnTo>
                <a:lnTo>
                  <a:pt x="211" y="224"/>
                </a:lnTo>
                <a:lnTo>
                  <a:pt x="157" y="237"/>
                </a:lnTo>
                <a:lnTo>
                  <a:pt x="102" y="240"/>
                </a:lnTo>
                <a:lnTo>
                  <a:pt x="60" y="232"/>
                </a:lnTo>
                <a:lnTo>
                  <a:pt x="29" y="222"/>
                </a:lnTo>
                <a:lnTo>
                  <a:pt x="8" y="203"/>
                </a:lnTo>
                <a:lnTo>
                  <a:pt x="0" y="181"/>
                </a:lnTo>
                <a:lnTo>
                  <a:pt x="0" y="148"/>
                </a:lnTo>
                <a:lnTo>
                  <a:pt x="13" y="126"/>
                </a:lnTo>
                <a:lnTo>
                  <a:pt x="29" y="105"/>
                </a:lnTo>
                <a:lnTo>
                  <a:pt x="50" y="80"/>
                </a:lnTo>
                <a:lnTo>
                  <a:pt x="82" y="60"/>
                </a:lnTo>
                <a:lnTo>
                  <a:pt x="102" y="39"/>
                </a:lnTo>
                <a:lnTo>
                  <a:pt x="116" y="22"/>
                </a:lnTo>
                <a:lnTo>
                  <a:pt x="134" y="10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36720" y="1138320"/>
            <a:ext cx="274680" cy="544320"/>
          </a:xfrm>
          <a:custGeom>
            <a:avLst/>
            <a:gdLst/>
            <a:ahLst/>
            <a:rect l="l" t="t" r="r" b="b"/>
            <a:pathLst>
              <a:path w="173" h="343">
                <a:moveTo>
                  <a:pt x="13" y="0"/>
                </a:moveTo>
                <a:lnTo>
                  <a:pt x="43" y="15"/>
                </a:lnTo>
                <a:lnTo>
                  <a:pt x="74" y="56"/>
                </a:lnTo>
                <a:lnTo>
                  <a:pt x="94" y="86"/>
                </a:lnTo>
                <a:lnTo>
                  <a:pt x="108" y="120"/>
                </a:lnTo>
                <a:lnTo>
                  <a:pt x="124" y="153"/>
                </a:lnTo>
                <a:lnTo>
                  <a:pt x="137" y="192"/>
                </a:lnTo>
                <a:lnTo>
                  <a:pt x="137" y="219"/>
                </a:lnTo>
                <a:lnTo>
                  <a:pt x="117" y="241"/>
                </a:lnTo>
                <a:lnTo>
                  <a:pt x="103" y="262"/>
                </a:lnTo>
                <a:lnTo>
                  <a:pt x="81" y="280"/>
                </a:lnTo>
                <a:lnTo>
                  <a:pt x="72" y="295"/>
                </a:lnTo>
                <a:lnTo>
                  <a:pt x="83" y="305"/>
                </a:lnTo>
                <a:lnTo>
                  <a:pt x="98" y="306"/>
                </a:lnTo>
                <a:lnTo>
                  <a:pt x="134" y="310"/>
                </a:lnTo>
                <a:lnTo>
                  <a:pt x="159" y="320"/>
                </a:lnTo>
                <a:lnTo>
                  <a:pt x="172" y="328"/>
                </a:lnTo>
                <a:lnTo>
                  <a:pt x="163" y="339"/>
                </a:lnTo>
                <a:lnTo>
                  <a:pt x="142" y="342"/>
                </a:lnTo>
                <a:lnTo>
                  <a:pt x="112" y="332"/>
                </a:lnTo>
                <a:lnTo>
                  <a:pt x="95" y="323"/>
                </a:lnTo>
                <a:lnTo>
                  <a:pt x="59" y="316"/>
                </a:lnTo>
                <a:lnTo>
                  <a:pt x="50" y="314"/>
                </a:lnTo>
                <a:lnTo>
                  <a:pt x="46" y="302"/>
                </a:lnTo>
                <a:lnTo>
                  <a:pt x="52" y="287"/>
                </a:lnTo>
                <a:lnTo>
                  <a:pt x="81" y="259"/>
                </a:lnTo>
                <a:lnTo>
                  <a:pt x="95" y="241"/>
                </a:lnTo>
                <a:lnTo>
                  <a:pt x="112" y="207"/>
                </a:lnTo>
                <a:lnTo>
                  <a:pt x="117" y="190"/>
                </a:lnTo>
                <a:lnTo>
                  <a:pt x="100" y="146"/>
                </a:lnTo>
                <a:lnTo>
                  <a:pt x="68" y="101"/>
                </a:lnTo>
                <a:lnTo>
                  <a:pt x="37" y="72"/>
                </a:lnTo>
                <a:lnTo>
                  <a:pt x="22" y="49"/>
                </a:lnTo>
                <a:lnTo>
                  <a:pt x="4" y="36"/>
                </a:lnTo>
                <a:lnTo>
                  <a:pt x="0" y="17"/>
                </a:lnTo>
                <a:lnTo>
                  <a:pt x="13" y="0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4120" y="1136520"/>
            <a:ext cx="247680" cy="507960"/>
          </a:xfrm>
          <a:custGeom>
            <a:avLst/>
            <a:gdLst/>
            <a:ahLst/>
            <a:rect l="l" t="t" r="r" b="b"/>
            <a:pathLst>
              <a:path w="156" h="320">
                <a:moveTo>
                  <a:pt x="85" y="30"/>
                </a:moveTo>
                <a:lnTo>
                  <a:pt x="116" y="3"/>
                </a:lnTo>
                <a:lnTo>
                  <a:pt x="152" y="0"/>
                </a:lnTo>
                <a:lnTo>
                  <a:pt x="155" y="23"/>
                </a:lnTo>
                <a:lnTo>
                  <a:pt x="134" y="39"/>
                </a:lnTo>
                <a:lnTo>
                  <a:pt x="105" y="52"/>
                </a:lnTo>
                <a:lnTo>
                  <a:pt x="81" y="74"/>
                </a:lnTo>
                <a:lnTo>
                  <a:pt x="77" y="103"/>
                </a:lnTo>
                <a:lnTo>
                  <a:pt x="81" y="146"/>
                </a:lnTo>
                <a:lnTo>
                  <a:pt x="94" y="220"/>
                </a:lnTo>
                <a:lnTo>
                  <a:pt x="108" y="266"/>
                </a:lnTo>
                <a:lnTo>
                  <a:pt x="124" y="299"/>
                </a:lnTo>
                <a:lnTo>
                  <a:pt x="121" y="315"/>
                </a:lnTo>
                <a:lnTo>
                  <a:pt x="105" y="317"/>
                </a:lnTo>
                <a:lnTo>
                  <a:pt x="74" y="310"/>
                </a:lnTo>
                <a:lnTo>
                  <a:pt x="40" y="310"/>
                </a:lnTo>
                <a:lnTo>
                  <a:pt x="21" y="319"/>
                </a:lnTo>
                <a:lnTo>
                  <a:pt x="4" y="315"/>
                </a:lnTo>
                <a:lnTo>
                  <a:pt x="0" y="297"/>
                </a:lnTo>
                <a:lnTo>
                  <a:pt x="17" y="293"/>
                </a:lnTo>
                <a:lnTo>
                  <a:pt x="51" y="293"/>
                </a:lnTo>
                <a:lnTo>
                  <a:pt x="102" y="303"/>
                </a:lnTo>
                <a:lnTo>
                  <a:pt x="105" y="299"/>
                </a:lnTo>
                <a:lnTo>
                  <a:pt x="100" y="284"/>
                </a:lnTo>
                <a:lnTo>
                  <a:pt x="81" y="230"/>
                </a:lnTo>
                <a:lnTo>
                  <a:pt x="73" y="186"/>
                </a:lnTo>
                <a:lnTo>
                  <a:pt x="60" y="132"/>
                </a:lnTo>
                <a:lnTo>
                  <a:pt x="60" y="94"/>
                </a:lnTo>
                <a:lnTo>
                  <a:pt x="61" y="65"/>
                </a:lnTo>
                <a:lnTo>
                  <a:pt x="68" y="44"/>
                </a:lnTo>
                <a:lnTo>
                  <a:pt x="85" y="30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96760" y="380880"/>
            <a:ext cx="290520" cy="273240"/>
          </a:xfrm>
          <a:custGeom>
            <a:avLst/>
            <a:gdLst/>
            <a:ahLst/>
            <a:rect l="l" t="t" r="r" b="b"/>
            <a:pathLst>
              <a:path w="183" h="172">
                <a:moveTo>
                  <a:pt x="0" y="152"/>
                </a:moveTo>
                <a:lnTo>
                  <a:pt x="0" y="114"/>
                </a:lnTo>
                <a:lnTo>
                  <a:pt x="8" y="72"/>
                </a:lnTo>
                <a:lnTo>
                  <a:pt x="29" y="38"/>
                </a:lnTo>
                <a:lnTo>
                  <a:pt x="57" y="17"/>
                </a:lnTo>
                <a:lnTo>
                  <a:pt x="87" y="1"/>
                </a:lnTo>
                <a:lnTo>
                  <a:pt x="113" y="0"/>
                </a:lnTo>
                <a:lnTo>
                  <a:pt x="141" y="5"/>
                </a:lnTo>
                <a:lnTo>
                  <a:pt x="155" y="20"/>
                </a:lnTo>
                <a:lnTo>
                  <a:pt x="163" y="38"/>
                </a:lnTo>
                <a:lnTo>
                  <a:pt x="160" y="58"/>
                </a:lnTo>
                <a:lnTo>
                  <a:pt x="156" y="80"/>
                </a:lnTo>
                <a:lnTo>
                  <a:pt x="141" y="98"/>
                </a:lnTo>
                <a:lnTo>
                  <a:pt x="182" y="140"/>
                </a:lnTo>
                <a:lnTo>
                  <a:pt x="176" y="151"/>
                </a:lnTo>
                <a:lnTo>
                  <a:pt x="130" y="118"/>
                </a:lnTo>
                <a:lnTo>
                  <a:pt x="104" y="143"/>
                </a:lnTo>
                <a:lnTo>
                  <a:pt x="76" y="162"/>
                </a:lnTo>
                <a:lnTo>
                  <a:pt x="48" y="171"/>
                </a:lnTo>
                <a:lnTo>
                  <a:pt x="25" y="171"/>
                </a:lnTo>
                <a:lnTo>
                  <a:pt x="8" y="163"/>
                </a:lnTo>
                <a:lnTo>
                  <a:pt x="0" y="152"/>
                </a:lnTo>
              </a:path>
            </a:pathLst>
          </a:custGeom>
          <a:solidFill>
            <a:srgbClr val="00cc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27520" y="685800"/>
            <a:ext cx="264960" cy="565200"/>
          </a:xfrm>
          <a:custGeom>
            <a:avLst/>
            <a:gdLst/>
            <a:ahLst/>
            <a:rect l="l" t="t" r="r" b="b"/>
            <a:pathLst>
              <a:path w="167" h="356">
                <a:moveTo>
                  <a:pt x="109" y="34"/>
                </a:moveTo>
                <a:lnTo>
                  <a:pt x="79" y="8"/>
                </a:lnTo>
                <a:lnTo>
                  <a:pt x="43" y="0"/>
                </a:lnTo>
                <a:lnTo>
                  <a:pt x="17" y="1"/>
                </a:lnTo>
                <a:lnTo>
                  <a:pt x="12" y="22"/>
                </a:lnTo>
                <a:lnTo>
                  <a:pt x="14" y="51"/>
                </a:lnTo>
                <a:lnTo>
                  <a:pt x="43" y="84"/>
                </a:lnTo>
                <a:lnTo>
                  <a:pt x="60" y="133"/>
                </a:lnTo>
                <a:lnTo>
                  <a:pt x="62" y="182"/>
                </a:lnTo>
                <a:lnTo>
                  <a:pt x="49" y="228"/>
                </a:lnTo>
                <a:lnTo>
                  <a:pt x="31" y="270"/>
                </a:lnTo>
                <a:lnTo>
                  <a:pt x="0" y="305"/>
                </a:lnTo>
                <a:lnTo>
                  <a:pt x="0" y="317"/>
                </a:lnTo>
                <a:lnTo>
                  <a:pt x="4" y="342"/>
                </a:lnTo>
                <a:lnTo>
                  <a:pt x="27" y="353"/>
                </a:lnTo>
                <a:lnTo>
                  <a:pt x="53" y="355"/>
                </a:lnTo>
                <a:lnTo>
                  <a:pt x="96" y="346"/>
                </a:lnTo>
                <a:lnTo>
                  <a:pt x="130" y="317"/>
                </a:lnTo>
                <a:lnTo>
                  <a:pt x="147" y="266"/>
                </a:lnTo>
                <a:lnTo>
                  <a:pt x="160" y="233"/>
                </a:lnTo>
                <a:lnTo>
                  <a:pt x="166" y="190"/>
                </a:lnTo>
                <a:lnTo>
                  <a:pt x="161" y="133"/>
                </a:lnTo>
                <a:lnTo>
                  <a:pt x="147" y="85"/>
                </a:lnTo>
                <a:lnTo>
                  <a:pt x="130" y="53"/>
                </a:lnTo>
                <a:lnTo>
                  <a:pt x="109" y="34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90920" y="679320"/>
            <a:ext cx="419040" cy="390600"/>
          </a:xfrm>
          <a:custGeom>
            <a:avLst/>
            <a:gdLst/>
            <a:ahLst/>
            <a:rect l="l" t="t" r="r" b="b"/>
            <a:pathLst>
              <a:path w="264" h="246">
                <a:moveTo>
                  <a:pt x="263" y="17"/>
                </a:moveTo>
                <a:lnTo>
                  <a:pt x="254" y="0"/>
                </a:lnTo>
                <a:lnTo>
                  <a:pt x="237" y="0"/>
                </a:lnTo>
                <a:lnTo>
                  <a:pt x="215" y="19"/>
                </a:lnTo>
                <a:lnTo>
                  <a:pt x="201" y="65"/>
                </a:lnTo>
                <a:lnTo>
                  <a:pt x="189" y="119"/>
                </a:lnTo>
                <a:lnTo>
                  <a:pt x="181" y="174"/>
                </a:lnTo>
                <a:lnTo>
                  <a:pt x="154" y="217"/>
                </a:lnTo>
                <a:lnTo>
                  <a:pt x="154" y="218"/>
                </a:lnTo>
                <a:lnTo>
                  <a:pt x="154" y="226"/>
                </a:lnTo>
                <a:lnTo>
                  <a:pt x="116" y="220"/>
                </a:lnTo>
                <a:lnTo>
                  <a:pt x="77" y="198"/>
                </a:lnTo>
                <a:lnTo>
                  <a:pt x="60" y="179"/>
                </a:lnTo>
                <a:lnTo>
                  <a:pt x="30" y="122"/>
                </a:lnTo>
                <a:lnTo>
                  <a:pt x="30" y="101"/>
                </a:lnTo>
                <a:lnTo>
                  <a:pt x="41" y="82"/>
                </a:lnTo>
                <a:lnTo>
                  <a:pt x="54" y="56"/>
                </a:lnTo>
                <a:lnTo>
                  <a:pt x="58" y="46"/>
                </a:lnTo>
                <a:lnTo>
                  <a:pt x="43" y="41"/>
                </a:lnTo>
                <a:lnTo>
                  <a:pt x="24" y="42"/>
                </a:lnTo>
                <a:lnTo>
                  <a:pt x="12" y="52"/>
                </a:lnTo>
                <a:lnTo>
                  <a:pt x="0" y="75"/>
                </a:lnTo>
                <a:lnTo>
                  <a:pt x="7" y="117"/>
                </a:lnTo>
                <a:lnTo>
                  <a:pt x="12" y="140"/>
                </a:lnTo>
                <a:lnTo>
                  <a:pt x="41" y="188"/>
                </a:lnTo>
                <a:lnTo>
                  <a:pt x="67" y="222"/>
                </a:lnTo>
                <a:lnTo>
                  <a:pt x="114" y="237"/>
                </a:lnTo>
                <a:lnTo>
                  <a:pt x="154" y="245"/>
                </a:lnTo>
                <a:lnTo>
                  <a:pt x="184" y="232"/>
                </a:lnTo>
                <a:lnTo>
                  <a:pt x="198" y="188"/>
                </a:lnTo>
                <a:lnTo>
                  <a:pt x="214" y="132"/>
                </a:lnTo>
                <a:lnTo>
                  <a:pt x="227" y="91"/>
                </a:lnTo>
                <a:lnTo>
                  <a:pt x="244" y="69"/>
                </a:lnTo>
                <a:lnTo>
                  <a:pt x="261" y="46"/>
                </a:lnTo>
                <a:lnTo>
                  <a:pt x="263" y="17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532240" y="679320"/>
            <a:ext cx="382320" cy="341280"/>
            <a:chOff x="2532240" y="679320"/>
            <a:chExt cx="382320" cy="341280"/>
          </a:xfrm>
        </p:grpSpPr>
        <p:sp>
          <p:nvSpPr>
            <p:cNvPr id="200" name=""/>
            <p:cNvSpPr/>
            <p:nvPr/>
          </p:nvSpPr>
          <p:spPr>
            <a:xfrm>
              <a:off x="2532240" y="679320"/>
              <a:ext cx="382320" cy="341280"/>
            </a:xfrm>
            <a:custGeom>
              <a:avLst/>
              <a:gdLst/>
              <a:ahLst/>
              <a:rect l="l" t="t" r="r" b="b"/>
              <a:pathLst>
                <a:path w="241" h="215">
                  <a:moveTo>
                    <a:pt x="236" y="75"/>
                  </a:moveTo>
                  <a:lnTo>
                    <a:pt x="236" y="52"/>
                  </a:lnTo>
                  <a:lnTo>
                    <a:pt x="226" y="33"/>
                  </a:lnTo>
                  <a:lnTo>
                    <a:pt x="209" y="18"/>
                  </a:lnTo>
                  <a:lnTo>
                    <a:pt x="184" y="6"/>
                  </a:lnTo>
                  <a:lnTo>
                    <a:pt x="166" y="0"/>
                  </a:lnTo>
                  <a:lnTo>
                    <a:pt x="138" y="3"/>
                  </a:lnTo>
                  <a:lnTo>
                    <a:pt x="3" y="119"/>
                  </a:lnTo>
                  <a:lnTo>
                    <a:pt x="0" y="142"/>
                  </a:lnTo>
                  <a:lnTo>
                    <a:pt x="3" y="161"/>
                  </a:lnTo>
                  <a:lnTo>
                    <a:pt x="20" y="187"/>
                  </a:lnTo>
                  <a:lnTo>
                    <a:pt x="51" y="206"/>
                  </a:lnTo>
                  <a:lnTo>
                    <a:pt x="82" y="214"/>
                  </a:lnTo>
                  <a:lnTo>
                    <a:pt x="103" y="214"/>
                  </a:lnTo>
                  <a:lnTo>
                    <a:pt x="236" y="87"/>
                  </a:lnTo>
                  <a:lnTo>
                    <a:pt x="240" y="64"/>
                  </a:lnTo>
                  <a:lnTo>
                    <a:pt x="240" y="68"/>
                  </a:lnTo>
                  <a:lnTo>
                    <a:pt x="236" y="7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32240" y="679320"/>
              <a:ext cx="382320" cy="341280"/>
            </a:xfrm>
            <a:custGeom>
              <a:avLst/>
              <a:gdLst/>
              <a:ahLst/>
              <a:rect l="l" t="t" r="r" b="b"/>
              <a:pathLst>
                <a:path w="241" h="215">
                  <a:moveTo>
                    <a:pt x="236" y="75"/>
                  </a:moveTo>
                  <a:lnTo>
                    <a:pt x="236" y="52"/>
                  </a:lnTo>
                  <a:lnTo>
                    <a:pt x="226" y="33"/>
                  </a:lnTo>
                  <a:lnTo>
                    <a:pt x="209" y="18"/>
                  </a:lnTo>
                  <a:lnTo>
                    <a:pt x="184" y="6"/>
                  </a:lnTo>
                  <a:lnTo>
                    <a:pt x="166" y="0"/>
                  </a:lnTo>
                  <a:lnTo>
                    <a:pt x="138" y="3"/>
                  </a:lnTo>
                  <a:lnTo>
                    <a:pt x="3" y="119"/>
                  </a:lnTo>
                  <a:lnTo>
                    <a:pt x="0" y="142"/>
                  </a:lnTo>
                  <a:lnTo>
                    <a:pt x="3" y="161"/>
                  </a:lnTo>
                  <a:lnTo>
                    <a:pt x="20" y="187"/>
                  </a:lnTo>
                  <a:lnTo>
                    <a:pt x="51" y="206"/>
                  </a:lnTo>
                  <a:lnTo>
                    <a:pt x="82" y="214"/>
                  </a:lnTo>
                  <a:lnTo>
                    <a:pt x="103" y="214"/>
                  </a:lnTo>
                  <a:lnTo>
                    <a:pt x="236" y="87"/>
                  </a:lnTo>
                  <a:lnTo>
                    <a:pt x="240" y="64"/>
                  </a:lnTo>
                  <a:lnTo>
                    <a:pt x="240" y="6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57600" y="690480"/>
              <a:ext cx="153720" cy="122400"/>
            </a:xfrm>
            <a:custGeom>
              <a:avLst/>
              <a:gdLst/>
              <a:ahLst/>
              <a:rect l="l" t="t" r="r" b="b"/>
              <a:pathLst>
                <a:path w="97" h="77">
                  <a:moveTo>
                    <a:pt x="96" y="72"/>
                  </a:moveTo>
                  <a:lnTo>
                    <a:pt x="69" y="76"/>
                  </a:lnTo>
                  <a:lnTo>
                    <a:pt x="49" y="69"/>
                  </a:lnTo>
                  <a:lnTo>
                    <a:pt x="34" y="61"/>
                  </a:lnTo>
                  <a:lnTo>
                    <a:pt x="17" y="51"/>
                  </a:lnTo>
                  <a:lnTo>
                    <a:pt x="5" y="38"/>
                  </a:lnTo>
                  <a:lnTo>
                    <a:pt x="0" y="16"/>
                  </a:lnTo>
                  <a:lnTo>
                    <a:pt x="0" y="3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2727360" y="671400"/>
            <a:ext cx="603360" cy="401760"/>
          </a:xfrm>
          <a:custGeom>
            <a:avLst/>
            <a:gdLst/>
            <a:ahLst/>
            <a:rect l="l" t="t" r="r" b="b"/>
            <a:pathLst>
              <a:path w="380" h="253">
                <a:moveTo>
                  <a:pt x="245" y="10"/>
                </a:moveTo>
                <a:lnTo>
                  <a:pt x="212" y="0"/>
                </a:lnTo>
                <a:lnTo>
                  <a:pt x="195" y="12"/>
                </a:lnTo>
                <a:lnTo>
                  <a:pt x="195" y="38"/>
                </a:lnTo>
                <a:lnTo>
                  <a:pt x="224" y="67"/>
                </a:lnTo>
                <a:lnTo>
                  <a:pt x="272" y="83"/>
                </a:lnTo>
                <a:lnTo>
                  <a:pt x="311" y="111"/>
                </a:lnTo>
                <a:lnTo>
                  <a:pt x="335" y="144"/>
                </a:lnTo>
                <a:lnTo>
                  <a:pt x="349" y="172"/>
                </a:lnTo>
                <a:lnTo>
                  <a:pt x="349" y="194"/>
                </a:lnTo>
                <a:lnTo>
                  <a:pt x="332" y="218"/>
                </a:lnTo>
                <a:lnTo>
                  <a:pt x="294" y="230"/>
                </a:lnTo>
                <a:lnTo>
                  <a:pt x="262" y="232"/>
                </a:lnTo>
                <a:lnTo>
                  <a:pt x="215" y="230"/>
                </a:lnTo>
                <a:lnTo>
                  <a:pt x="154" y="215"/>
                </a:lnTo>
                <a:lnTo>
                  <a:pt x="116" y="182"/>
                </a:lnTo>
                <a:lnTo>
                  <a:pt x="91" y="158"/>
                </a:lnTo>
                <a:lnTo>
                  <a:pt x="99" y="133"/>
                </a:lnTo>
                <a:lnTo>
                  <a:pt x="96" y="118"/>
                </a:lnTo>
                <a:lnTo>
                  <a:pt x="70" y="126"/>
                </a:lnTo>
                <a:lnTo>
                  <a:pt x="43" y="126"/>
                </a:lnTo>
                <a:lnTo>
                  <a:pt x="22" y="111"/>
                </a:lnTo>
                <a:lnTo>
                  <a:pt x="10" y="99"/>
                </a:lnTo>
                <a:lnTo>
                  <a:pt x="1" y="102"/>
                </a:lnTo>
                <a:lnTo>
                  <a:pt x="0" y="110"/>
                </a:lnTo>
                <a:lnTo>
                  <a:pt x="8" y="133"/>
                </a:lnTo>
                <a:lnTo>
                  <a:pt x="8" y="153"/>
                </a:lnTo>
                <a:lnTo>
                  <a:pt x="18" y="168"/>
                </a:lnTo>
                <a:lnTo>
                  <a:pt x="43" y="180"/>
                </a:lnTo>
                <a:lnTo>
                  <a:pt x="64" y="180"/>
                </a:lnTo>
                <a:lnTo>
                  <a:pt x="87" y="182"/>
                </a:lnTo>
                <a:lnTo>
                  <a:pt x="133" y="217"/>
                </a:lnTo>
                <a:lnTo>
                  <a:pt x="168" y="236"/>
                </a:lnTo>
                <a:lnTo>
                  <a:pt x="221" y="249"/>
                </a:lnTo>
                <a:lnTo>
                  <a:pt x="276" y="252"/>
                </a:lnTo>
                <a:lnTo>
                  <a:pt x="318" y="244"/>
                </a:lnTo>
                <a:lnTo>
                  <a:pt x="349" y="234"/>
                </a:lnTo>
                <a:lnTo>
                  <a:pt x="371" y="213"/>
                </a:lnTo>
                <a:lnTo>
                  <a:pt x="379" y="191"/>
                </a:lnTo>
                <a:lnTo>
                  <a:pt x="379" y="156"/>
                </a:lnTo>
                <a:lnTo>
                  <a:pt x="366" y="133"/>
                </a:lnTo>
                <a:lnTo>
                  <a:pt x="349" y="110"/>
                </a:lnTo>
                <a:lnTo>
                  <a:pt x="328" y="84"/>
                </a:lnTo>
                <a:lnTo>
                  <a:pt x="297" y="64"/>
                </a:lnTo>
                <a:lnTo>
                  <a:pt x="276" y="42"/>
                </a:lnTo>
                <a:lnTo>
                  <a:pt x="262" y="23"/>
                </a:lnTo>
                <a:lnTo>
                  <a:pt x="245" y="10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32040" y="1171440"/>
            <a:ext cx="273240" cy="568440"/>
          </a:xfrm>
          <a:custGeom>
            <a:avLst/>
            <a:gdLst/>
            <a:ahLst/>
            <a:rect l="l" t="t" r="r" b="b"/>
            <a:pathLst>
              <a:path w="172" h="358">
                <a:moveTo>
                  <a:pt x="157" y="0"/>
                </a:moveTo>
                <a:lnTo>
                  <a:pt x="127" y="15"/>
                </a:lnTo>
                <a:lnTo>
                  <a:pt x="97" y="59"/>
                </a:lnTo>
                <a:lnTo>
                  <a:pt x="77" y="90"/>
                </a:lnTo>
                <a:lnTo>
                  <a:pt x="62" y="125"/>
                </a:lnTo>
                <a:lnTo>
                  <a:pt x="47" y="160"/>
                </a:lnTo>
                <a:lnTo>
                  <a:pt x="34" y="200"/>
                </a:lnTo>
                <a:lnTo>
                  <a:pt x="34" y="228"/>
                </a:lnTo>
                <a:lnTo>
                  <a:pt x="54" y="251"/>
                </a:lnTo>
                <a:lnTo>
                  <a:pt x="67" y="274"/>
                </a:lnTo>
                <a:lnTo>
                  <a:pt x="89" y="292"/>
                </a:lnTo>
                <a:lnTo>
                  <a:pt x="98" y="308"/>
                </a:lnTo>
                <a:lnTo>
                  <a:pt x="88" y="319"/>
                </a:lnTo>
                <a:lnTo>
                  <a:pt x="73" y="320"/>
                </a:lnTo>
                <a:lnTo>
                  <a:pt x="37" y="324"/>
                </a:lnTo>
                <a:lnTo>
                  <a:pt x="12" y="334"/>
                </a:lnTo>
                <a:lnTo>
                  <a:pt x="0" y="343"/>
                </a:lnTo>
                <a:lnTo>
                  <a:pt x="8" y="354"/>
                </a:lnTo>
                <a:lnTo>
                  <a:pt x="29" y="357"/>
                </a:lnTo>
                <a:lnTo>
                  <a:pt x="58" y="346"/>
                </a:lnTo>
                <a:lnTo>
                  <a:pt x="75" y="338"/>
                </a:lnTo>
                <a:lnTo>
                  <a:pt x="112" y="330"/>
                </a:lnTo>
                <a:lnTo>
                  <a:pt x="120" y="327"/>
                </a:lnTo>
                <a:lnTo>
                  <a:pt x="124" y="316"/>
                </a:lnTo>
                <a:lnTo>
                  <a:pt x="119" y="300"/>
                </a:lnTo>
                <a:lnTo>
                  <a:pt x="89" y="270"/>
                </a:lnTo>
                <a:lnTo>
                  <a:pt x="75" y="251"/>
                </a:lnTo>
                <a:lnTo>
                  <a:pt x="58" y="215"/>
                </a:lnTo>
                <a:lnTo>
                  <a:pt x="54" y="198"/>
                </a:lnTo>
                <a:lnTo>
                  <a:pt x="70" y="152"/>
                </a:lnTo>
                <a:lnTo>
                  <a:pt x="103" y="105"/>
                </a:lnTo>
                <a:lnTo>
                  <a:pt x="133" y="74"/>
                </a:lnTo>
                <a:lnTo>
                  <a:pt x="149" y="51"/>
                </a:lnTo>
                <a:lnTo>
                  <a:pt x="166" y="37"/>
                </a:lnTo>
                <a:lnTo>
                  <a:pt x="171" y="17"/>
                </a:lnTo>
                <a:lnTo>
                  <a:pt x="157" y="0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38400" y="1166760"/>
            <a:ext cx="247680" cy="531720"/>
          </a:xfrm>
          <a:custGeom>
            <a:avLst/>
            <a:gdLst/>
            <a:ahLst/>
            <a:rect l="l" t="t" r="r" b="b"/>
            <a:pathLst>
              <a:path w="156" h="335">
                <a:moveTo>
                  <a:pt x="68" y="32"/>
                </a:moveTo>
                <a:lnTo>
                  <a:pt x="37" y="4"/>
                </a:lnTo>
                <a:lnTo>
                  <a:pt x="2" y="0"/>
                </a:lnTo>
                <a:lnTo>
                  <a:pt x="0" y="24"/>
                </a:lnTo>
                <a:lnTo>
                  <a:pt x="19" y="42"/>
                </a:lnTo>
                <a:lnTo>
                  <a:pt x="49" y="55"/>
                </a:lnTo>
                <a:lnTo>
                  <a:pt x="73" y="77"/>
                </a:lnTo>
                <a:lnTo>
                  <a:pt x="77" y="108"/>
                </a:lnTo>
                <a:lnTo>
                  <a:pt x="73" y="153"/>
                </a:lnTo>
                <a:lnTo>
                  <a:pt x="60" y="230"/>
                </a:lnTo>
                <a:lnTo>
                  <a:pt x="45" y="278"/>
                </a:lnTo>
                <a:lnTo>
                  <a:pt x="29" y="313"/>
                </a:lnTo>
                <a:lnTo>
                  <a:pt x="32" y="329"/>
                </a:lnTo>
                <a:lnTo>
                  <a:pt x="49" y="332"/>
                </a:lnTo>
                <a:lnTo>
                  <a:pt x="80" y="324"/>
                </a:lnTo>
                <a:lnTo>
                  <a:pt x="114" y="324"/>
                </a:lnTo>
                <a:lnTo>
                  <a:pt x="133" y="334"/>
                </a:lnTo>
                <a:lnTo>
                  <a:pt x="151" y="329"/>
                </a:lnTo>
                <a:lnTo>
                  <a:pt x="155" y="310"/>
                </a:lnTo>
                <a:lnTo>
                  <a:pt x="137" y="306"/>
                </a:lnTo>
                <a:lnTo>
                  <a:pt x="102" y="306"/>
                </a:lnTo>
                <a:lnTo>
                  <a:pt x="51" y="316"/>
                </a:lnTo>
                <a:lnTo>
                  <a:pt x="49" y="313"/>
                </a:lnTo>
                <a:lnTo>
                  <a:pt x="54" y="297"/>
                </a:lnTo>
                <a:lnTo>
                  <a:pt x="73" y="240"/>
                </a:lnTo>
                <a:lnTo>
                  <a:pt x="81" y="195"/>
                </a:lnTo>
                <a:lnTo>
                  <a:pt x="94" y="139"/>
                </a:lnTo>
                <a:lnTo>
                  <a:pt x="94" y="99"/>
                </a:lnTo>
                <a:lnTo>
                  <a:pt x="93" y="69"/>
                </a:lnTo>
                <a:lnTo>
                  <a:pt x="86" y="47"/>
                </a:lnTo>
                <a:lnTo>
                  <a:pt x="68" y="32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54360" y="380880"/>
            <a:ext cx="291960" cy="285840"/>
          </a:xfrm>
          <a:custGeom>
            <a:avLst/>
            <a:gdLst/>
            <a:ahLst/>
            <a:rect l="l" t="t" r="r" b="b"/>
            <a:pathLst>
              <a:path w="184" h="180">
                <a:moveTo>
                  <a:pt x="183" y="160"/>
                </a:moveTo>
                <a:lnTo>
                  <a:pt x="183" y="120"/>
                </a:lnTo>
                <a:lnTo>
                  <a:pt x="174" y="75"/>
                </a:lnTo>
                <a:lnTo>
                  <a:pt x="153" y="40"/>
                </a:lnTo>
                <a:lnTo>
                  <a:pt x="125" y="18"/>
                </a:lnTo>
                <a:lnTo>
                  <a:pt x="94" y="1"/>
                </a:lnTo>
                <a:lnTo>
                  <a:pt x="69" y="0"/>
                </a:lnTo>
                <a:lnTo>
                  <a:pt x="40" y="6"/>
                </a:lnTo>
                <a:lnTo>
                  <a:pt x="27" y="21"/>
                </a:lnTo>
                <a:lnTo>
                  <a:pt x="18" y="40"/>
                </a:lnTo>
                <a:lnTo>
                  <a:pt x="21" y="60"/>
                </a:lnTo>
                <a:lnTo>
                  <a:pt x="25" y="83"/>
                </a:lnTo>
                <a:lnTo>
                  <a:pt x="40" y="102"/>
                </a:lnTo>
                <a:lnTo>
                  <a:pt x="0" y="147"/>
                </a:lnTo>
                <a:lnTo>
                  <a:pt x="5" y="158"/>
                </a:lnTo>
                <a:lnTo>
                  <a:pt x="51" y="123"/>
                </a:lnTo>
                <a:lnTo>
                  <a:pt x="77" y="151"/>
                </a:lnTo>
                <a:lnTo>
                  <a:pt x="105" y="170"/>
                </a:lnTo>
                <a:lnTo>
                  <a:pt x="134" y="179"/>
                </a:lnTo>
                <a:lnTo>
                  <a:pt x="157" y="179"/>
                </a:lnTo>
                <a:lnTo>
                  <a:pt x="174" y="170"/>
                </a:lnTo>
                <a:lnTo>
                  <a:pt x="183" y="160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91960" y="-471600"/>
            <a:ext cx="1581840" cy="177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07" y="17580"/>
                </a:moveTo>
                <a:arcTo wR="10800" hR="10800" stAng="2333012" swAng="6294804"/>
                <a:lnTo>
                  <a:pt x="10800" y="10800"/>
                </a:lnTo>
                <a:close/>
              </a:path>
              <a:path fill="none" w="21600" h="21600">
                <a:moveTo>
                  <a:pt x="19207" y="17580"/>
                </a:moveTo>
                <a:arcTo wR="10800" hR="10800" stAng="2333012" swAng="6294804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7840" y="2311560"/>
            <a:ext cx="3225600" cy="863280"/>
          </a:xfrm>
          <a:prstGeom prst="roundRect">
            <a:avLst>
              <a:gd name="adj" fmla="val 12495"/>
            </a:avLst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87920" y="2311560"/>
            <a:ext cx="3378240" cy="863280"/>
          </a:xfrm>
          <a:prstGeom prst="roundRect">
            <a:avLst>
              <a:gd name="adj" fmla="val 12495"/>
            </a:avLst>
          </a:prstGeom>
          <a:solidFill>
            <a:srgbClr val="33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6200" y="4027320"/>
            <a:ext cx="3405240" cy="109296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ššifruojama naudoj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priv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73880" y="4030560"/>
            <a:ext cx="3420720" cy="109296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Šifruojama naudoj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Arial"/>
              </a:rPr>
              <a:t>pub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2743200"/>
            <a:ext cx="1981080" cy="0"/>
          </a:xfrm>
          <a:prstGeom prst="line">
            <a:avLst/>
          </a:prstGeom>
          <a:ln w="50760">
            <a:solidFill>
              <a:srgbClr val="000000"/>
            </a:solidFill>
            <a:prstDash val="dash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76520" y="3200400"/>
            <a:ext cx="0" cy="762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3200400"/>
            <a:ext cx="0" cy="762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81280" y="4419720"/>
            <a:ext cx="198144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88080" y="-846000"/>
            <a:ext cx="1380240" cy="1761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11" y="17574"/>
                </a:moveTo>
                <a:arcTo wR="10800" hR="10800" stAng="2330835" swAng="6299493"/>
                <a:lnTo>
                  <a:pt x="10800" y="10800"/>
                </a:lnTo>
                <a:close/>
              </a:path>
              <a:path fill="none" w="21600" h="21600">
                <a:moveTo>
                  <a:pt x="19211" y="17574"/>
                </a:moveTo>
                <a:arcTo wR="10800" hR="10800" stAng="2330835" swAng="6299493"/>
              </a:path>
            </a:pathLst>
          </a:custGeom>
          <a:noFill/>
          <a:ln cap="rnd" w="25560">
            <a:solidFill>
              <a:srgbClr val="000000"/>
            </a:solidFill>
            <a:custDash>
              <a:ds d="499000" sp="20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E560-62B9-413D-828C-ADCDBDA2A29D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b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ekas negali perskaityt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c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atsiųsto pranešim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čiau bet kas gali jį atsiųs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Iš ku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gali žinoti, kad pranešimą tikrai atsiunt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gali pasiguosti tik tuo, kad ti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ice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galės perskaityti jo atsakym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D619-D1DD-4EFE-B55A-66E79DFDDF79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ice </a:t>
            </a:r>
            <a:r>
              <a:rPr b="0" lang="lt-LT" sz="4000" spc="-1" strike="noStrike">
                <a:solidFill>
                  <a:srgbClr val="000000"/>
                </a:solidFill>
                <a:latin typeface="Times New Roman"/>
              </a:rPr>
              <a:t>gali pasirašyti savo pranešimą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ce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gali sukurti savo skaitmeninį parašą ir patvirtinti tai, kad tikrai ji pasiuntė pranešim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rba tai gali atlikti tas, kuris žino jos privatų rakt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rašu gali būti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ssage diges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”-pranešimo santrauka, užšifruota naudoj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priv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5506-8FD7-4104-BE23-87A9EDD8B5E7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Dig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taip pat vadinam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hash function”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rb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one-way transformation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Yra atliekama bet kokio ilgio pranešimo transformacija ir gaunama fiksuoto ilgio eilutė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iekiama, kad būtų sunku atspėti pradinį pranešimą, kuris duoda šią turimą “message digest”- pranešimo santraukos reikšm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tspėti visad yra gali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14E1-BE1E-4AA7-9B10-1612D161903C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ice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 paraš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c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teikia savo pradinį pranešimą, pritaiko ja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h fu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ciją ir užšifruoja gautą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ssage diges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pranešimo santrauk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audoda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priv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iššifruoti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diges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naudodama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en-US" sz="2800" spc="-1" strike="noStrike" baseline="-25000">
                <a:solidFill>
                  <a:srgbClr val="00ff00"/>
                </a:solidFill>
                <a:latin typeface="Times New Roman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suskaičiuoti pranešimo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diges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ei šie du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digest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” yr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k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Bo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žino, k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ic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siuntė pranešim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435D-D6FC-423E-AD06-6657C9D824AA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01520" y="1701720"/>
            <a:ext cx="3225960" cy="863640"/>
          </a:xfrm>
          <a:prstGeom prst="roundRect">
            <a:avLst>
              <a:gd name="adj" fmla="val 12495"/>
            </a:avLst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511960" y="1701720"/>
            <a:ext cx="3377880" cy="863640"/>
          </a:xfrm>
          <a:prstGeom prst="roundRect">
            <a:avLst>
              <a:gd name="adj" fmla="val 12495"/>
            </a:avLst>
          </a:prstGeom>
          <a:solidFill>
            <a:srgbClr val="33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03040" y="3452760"/>
            <a:ext cx="3198960" cy="109296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sirašo naudoda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priv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65800" y="3476520"/>
            <a:ext cx="4394160" cy="69840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tikrina parašą s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Arial"/>
              </a:rPr>
              <a:t>pub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29000" y="2133720"/>
            <a:ext cx="1981080" cy="0"/>
          </a:xfrm>
          <a:prstGeom prst="line">
            <a:avLst/>
          </a:prstGeom>
          <a:ln w="50760">
            <a:solidFill>
              <a:srgbClr val="00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00200" y="2590920"/>
            <a:ext cx="0" cy="761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162920" y="2590920"/>
            <a:ext cx="0" cy="76176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6920" y="5033880"/>
            <a:ext cx="3354480" cy="109296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Užšifruoja naudoda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Arial"/>
              </a:rPr>
              <a:t>pub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30680" y="5045040"/>
            <a:ext cx="3367080" cy="69840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ššifruoja s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priv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5410080"/>
            <a:ext cx="18302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4191120"/>
            <a:ext cx="0" cy="761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62920" y="4191120"/>
            <a:ext cx="0" cy="76176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Pataisyta 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</a:t>
            </a: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B717-6586-424C-89BE-871D041FA324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prendžiamos proble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utentifikavimas – tai įsitikinimas, kad partneris tikrai yra tuo, kuo prisista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onfidencialumas – tai jautrios informacijos apsau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ientisumas – garantija, kad persiunčiant duomenys nebuvo pakeist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eatsižadėjimas –tai įrodymas, kad informacija tikrai atėjo iš to siuntėj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15A2-E536-4DB2-807F-8CB519AFAD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am naudoti santrauk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c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paprasčiausiai užšifruoti savo vardą ir jį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o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iššifruoti naudoda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en-US" sz="2800" spc="-1" strike="noStrike" baseline="-25000">
                <a:solidFill>
                  <a:srgbClr val="00ff00"/>
                </a:solidFill>
                <a:latin typeface="Times New Roman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dėl to nepakank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ma situacija, ka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c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neigia, kad ji pasiuntė pranešim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li įrodyti, kad tik kažkas su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ice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raktu galėjo atsiųsti pranešim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69D0-B286-4BD7-B195-377A08F00276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Kita galima situa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rki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ll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avo pranešimą iš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c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artu su skaitmeniniu paraš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“</a:t>
            </a:r>
            <a:r>
              <a:rPr b="0" i="1" lang="lt-LT" sz="2800" spc="-1" strike="noStrike">
                <a:solidFill>
                  <a:srgbClr val="00cc99"/>
                </a:solidFill>
                <a:latin typeface="Times New Roman"/>
              </a:rPr>
              <a:t>sutik mane SC šiąnakt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iunčia šį pranešim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Jo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p, kad tai atrodytų tarsi būtų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c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ranešim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įterpia skaitmeninį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ic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parašą, kurį Alice jam atsiuntė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yra patenkinta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ic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asiųstu pranešim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23FC-6EC6-4902-9D45-C9C25ADC2518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rendim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isad pradėkite laišką kreipini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ar Bill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uskaičiuokite pranešimo santrauką ir ją užšifruokite naudodami privatų rakt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Yra ir kitų būd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DC63-75D9-40F1-8733-D014E37E1BFD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tifikat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A technologijos vartotoj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rastai praneša savo viešą raktą vieni kitiem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p gi gavėjas gali būti tikras, kad šis viešas raktas iš tikrųjų priklauso siuntėju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lema sprendžiama naudojant skaitmeninį RSA sertifikat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tifikatas – tai viešas raktas vartotojo, pasirašytas naudojant skaitmeninį parašą kažkurio tai patikimo asme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FD05-8405-4A2C-B483-010B17BE7CC0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gumo infrastruktūr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šas raktas galioja tik tada, kai raktas bei jo surišimas su dalyviu yra 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atvirtintas (autentifikuotas) pasitikėjimo verto centrinio autoriteto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s procesas yra vadinamas 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rtifikavim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ertification), pasitikėjimo vertas autoritetas – sertifikavimo autoritetu ( certification autority CA), sertifikato raktas yra talpinamas ant atitinkamo dalyvio sertifikat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3FD7-0333-4991-B7EA-460B370D7DBB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audojama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žio tipo CA jungtis, kur žemesnio lygio komunikavimo dalyvius apjungia pasitikėjimo vertas aukštesnio hierarchijos lygio pasitikėjimo autoriteta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A deda skaitmeninį parašą ant  paketo, kurį sudaro: dalyvio viešas raktas, unikalus numeris, kurį suteikia CA, galiojimo periodas ir dalyvio vardas</a:t>
            </a:r>
            <a:r>
              <a:rPr b="0" lang="lt-LT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s duomenų paketas kartu su CA skaitmeniniu parašu yra vadinamas sertifikatu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DA9B-89E4-4DE1-8A50-A7439390D4FE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Parašo tikrin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int pasiųsti pranešimą su skaitmeniniu parašu kuriam nors saugios infrastruktūros dalyviui, turi bū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generuoja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šas, priklausantis šiam pranešimui, ir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tifikat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pija turi būti persiunčiama kartu su pranešimu ir paraš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krini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verifikacija) žymi parašo tikrinimo procesą. Tam reikalingas viešas raktas, todėl viešas raktas yra sertifikato dalimi.  Gavėjas pirmiausiai patikrina, ar siuntėjas iš tikrųjų pasirašė, o po to tikrina ar sertifikatas yra original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rast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sertifikat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aliojimo periodas yra nusakomas CA ir yra įtraukiamas į sertifikatą.  Jei sertifikatas panaudojamas blogam jo galiojimo metu, tai jis praranda pasitikėjim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ir yra įtraukiamas į nepatikimų sąrašą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5D69-BE75-41F2-A17A-06CEA8B71BE5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ertifik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tifikato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teiki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ali būti vykdoma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viem būda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vartotojas gal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s generuo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u raktą ir raktinį žodį ir prašyti CA sertifikavimo arba CA generuoja šią porą vartotoju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i raktus generuoja CA, tai jie gali būti ir laikomi pas C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 galima esant pilnam pasitikėjimui tarp vartotojo ir CA, kadangi CA turi priėjimą prie vartotojo privačių raktų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ei vartotojas pats generuoja raktus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is siunčia savo viešą raktą, vadinamą  sertifikato prototipu</a:t>
            </a:r>
            <a:br>
              <a:rPr sz="2400"/>
            </a:b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 prototype sertificate)  atitinkamam CA.  CA pasirašo prototipą ir siunčia sertifikatą atgal vartotojui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BB4F-CA96-43E3-B9DC-FF3B872D507F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509 – Standartas ir skirtingi vardai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šo rakto sertifikavimas baigiamas sertifikatu.  Tokio sertifikato struktūra yra apibrėžiama ISO – X.509 standartu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Be 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ieš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rakt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(subject public key), sertifikate taip pat nurodomas CA vardas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galiojimo periodas (validity), turėtojo vardas ir unikalus skaičius, kurį suteikia išduodanti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A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serial number)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rtingi vardai yra sukomponuojami iš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alių, kurios žymi organizaciją, šalį bei kitus komponen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902E-0A41-4F6D-8C02-B290656FF208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h funkcijo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s naudojamos skaitmeninei pranešim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antrauko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ikšmei suskaičiuoti (message digest). Hash funkcija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paudžia pranešimo bitus iki fiksuoto dydžio hash reikšm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Pagal gautą hash funkcijos reikšmę sunku nustatyti koks pranešimas davė tokią reikšmę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h f-jos reikšmė dažnai yra iš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8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 daugiau bitų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AC0D-EC8F-45D1-BEA7-A5B8C28FC048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omenų šifravim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55649b"/>
                </a:solidFill>
                <a:latin typeface="Times New Roman"/>
              </a:rPr>
              <a:t>Šifravimas ir iššifravimas paprastai reikalauja tam tikros </a:t>
            </a:r>
            <a:r>
              <a:rPr b="1" lang="lt-LT" sz="2400" spc="-1" strike="noStrike">
                <a:solidFill>
                  <a:srgbClr val="55649b"/>
                </a:solidFill>
                <a:latin typeface="Times New Roman"/>
              </a:rPr>
              <a:t>slaptos informacijos</a:t>
            </a:r>
            <a:r>
              <a:rPr b="0" lang="lt-LT" sz="2400" spc="-1" strike="noStrike">
                <a:solidFill>
                  <a:srgbClr val="55649b"/>
                </a:solidFill>
                <a:latin typeface="Times New Roman"/>
              </a:rPr>
              <a:t> panaudojimo, ji vadinama šifro rakt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ikini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šifravim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vyzdys yra istorinis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zario šifr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ekstas buvo šifruojamas naudojant raidžių perstumimą, vietoje A – D, vietoje B – E ir t.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uo atveju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o rakt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rnavo skaičius, rodantis per kelias raides reikia daryti perstumimą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avimo procedūra laikoma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gi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jei yra sunku (per praktiškai priimtiną laiką) nepaisant to kad žinai šifravimo algoritmą nežinant šifro rakto iššifruoti užšifruotą pranešim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8014-2A02-4C7A-B6F5-27DE5A44D8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MD5 </a:t>
            </a:r>
            <a:r>
              <a:rPr b="0" lang="lt-LT" sz="3600" spc="-1" strike="noStrike">
                <a:solidFill>
                  <a:srgbClr val="000000"/>
                </a:solidFill>
                <a:latin typeface="Times New Roman"/>
              </a:rPr>
              <a:t>–(Message Digest Algorithm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Tai saugus hash algoritmas, sukurtas RSA Data Security,Inc. Bet kokio ilgio baitų eilutę verčia 128 bitų reikš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is plačiai naudojamas, yra laikomas pagrįstai saugi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irmtakai – algoritmai MD2, MD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HA – duoda 160 bitų hash reikšmę . SHS struktūriškai panašus į MD4,MD5, yra 2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nis ne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D5, tačiau saugesn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C01B-27F2-4129-8083-CD208B1414B1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GP – 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ty Good Privac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GP naudoja šifravimo sistemą IDE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i atvirų raktų sistemą RSA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 programa gali duoti j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ų e-mailui tai , ko jis anksčiau neturėjo – konfidencialumą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F1B3-3398-47EA-B9DC-EEE806592FD3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p veikia PGP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d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ėju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udotis šia programa, ji sugeneruoja du raktus, kurie priklauso tik jums.  Vienas iš PGP raktų yra </a:t>
            </a:r>
            <a:r>
              <a:rPr b="0" i="1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lapt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jis lieka jūsų kompiuteryje. Antras rakta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lt-L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tvira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jį jūs perduodate savo respondentui. Atviras raktas gana ilgas (kelios eilutės simbolių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eikia jokio slapto kanalo perdavimui rakto, ar patikimo kurjerio. Atvirą raktą gali matyti visi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153D-F97D-490D-8017-A45F719710C5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Šif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, kas bus užšifruota atviru raktu, galės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uoti tik turintis slaptą raktą – tai yra žmogus, kuriam skirtas pranešim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aptas raktas pats laikomas šifruotam pavidale ir niekad nepalieka kompiuteri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to ilgis 128 bitai, ta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mų kombinacijų kiekis 2</a:t>
            </a:r>
            <a:r>
              <a:rPr b="0" lang="lt-LT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28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7977-1FAB-4020-BE17-7F3C77723DC7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1106640" y="1481040"/>
            <a:ext cx="6930720" cy="3780000"/>
            <a:chOff x="1106640" y="1481040"/>
            <a:chExt cx="6930720" cy="3780000"/>
          </a:xfrm>
        </p:grpSpPr>
        <p:sp>
          <p:nvSpPr>
            <p:cNvPr id="267" name=""/>
            <p:cNvSpPr/>
            <p:nvPr/>
          </p:nvSpPr>
          <p:spPr>
            <a:xfrm>
              <a:off x="1106640" y="1481040"/>
              <a:ext cx="4549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106640" y="1481040"/>
              <a:ext cx="6930720" cy="37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2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9" name="file2782571_datorjoki2" descr=""/>
          <p:cNvPicPr/>
          <p:nvPr/>
        </p:nvPicPr>
        <p:blipFill>
          <a:blip r:embed="rId1"/>
          <a:stretch/>
        </p:blipFill>
        <p:spPr>
          <a:xfrm>
            <a:off x="2359080" y="1527120"/>
            <a:ext cx="4325760" cy="441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9D02-605D-4C98-A54A-5FB70F0EDA6A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imetrinis – asimetrinis šif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naudojamos dvi šifravimo sistemos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etrinė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imetrinė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etrinės šifravimo sistemos naudoja tą patį raktą (slaptą raktą) tiek duomenų užšifravimui, tiek jų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fravim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etrinės šifravimo sistem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yra naujesnės, j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udoj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k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šą rakt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ų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(slaptą)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kt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imetrinio šifravimo sistemos dar vad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 viešo rakto šifravimo sistemom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1203-4BEB-4A42-942E-4B700E05CD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Simetrinis šifravi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as pats raktas tiek informacijos šifravimui, tiek dešifravimu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Raktas turi būti žinomas abiem komunikuojančiom pusė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Šifravimas taikomas dėl “nedraugiškos” duomenų perdavimo aplinkos (kitaip – kam šifruoti?) – problema – šifro rakto perdavim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76E0-16AC-4237-B11F-D66D1CEEA5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8:10:40Z</dcterms:created>
  <dc:creator>Kristina</dc:creator>
  <dc:description/>
  <dc:language>en-US</dc:language>
  <cp:lastModifiedBy>Kristina</cp:lastModifiedBy>
  <dcterms:modified xsi:type="dcterms:W3CDTF">2004-11-17T09:55:36Z</dcterms:modified>
  <cp:revision>33</cp:revision>
  <dc:subject/>
  <dc:title>9 paskaita</dc:title>
</cp:coreProperties>
</file>