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81E-1FD2-48E8-A103-176240CE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3D4-7EF4-4394-9B81-8ECB6F8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719-B91D-491F-9DBD-CE75296B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FEB5-F601-495D-B65B-DEE4C806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8242-49D8-4E4C-8C11-5EE86FF9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5E8A-4C50-411A-814C-2D41037E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F2BC-2B71-4910-947F-661DC548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6E46-0D97-40F5-A741-3CA7925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2B48-1665-4C60-BF49-F911250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C4C-01E8-41F1-B8C7-6D5016C1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177-4B1A-462C-9C05-3B8F0B1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A15-3FF2-4ADA-85EE-8B115137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A74C-E31F-47AD-A11B-F28C1D1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5C31-2A01-46DD-BD2C-2FA849A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3B6-D09C-4AD0-B5E3-7975DEA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DD9-3FBB-4598-83E1-39075C7B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C6EF-5F6C-4EE3-8A8E-CE90C8CD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634-C286-4407-BB57-B1E318E8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F93-3790-44A3-8D3B-ED52DF0F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A25-BFDD-4318-89C1-8EE2F01E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B11-93F6-47B4-8D61-B558715E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B13-40AB-4FCE-890E-3A330AA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73D-C8BA-46EB-95B4-235DF39C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D5E-87C2-4743-B559-977F188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942-58A8-468C-99DD-B64E1C2903F7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629-88D2-478D-82A3-16763C4E7B5B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arkoz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ės teorijo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40458c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9:27:00Z</dcterms:created>
  <dc:creator>Antanas</dc:creator>
  <dc:description/>
  <dc:language>en-US</dc:language>
  <cp:lastModifiedBy>Antanas</cp:lastModifiedBy>
  <dcterms:modified xsi:type="dcterms:W3CDTF">2004-01-08T10:30:51Z</dcterms:modified>
  <cp:revision>1</cp:revision>
  <dc:subject/>
  <dc:title>Narkozės teorijos</dc:title>
</cp:coreProperties>
</file>