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5EC-685E-4E7D-AD91-A63CE0DF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4AC-80A2-476B-BE8F-03F88084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7322-73F6-421D-B3FF-81280652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B80F-2F73-4A98-8AF4-8C2F3A10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97AD-E1D1-41B5-8FA9-0023D31C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3D6-DECC-4E89-B002-AB3F8931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BFB0-1CF8-48EF-B79E-7EDA81EF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C602-71FF-46E3-8E16-B1988443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ED48-2F67-4FC4-B134-4FA12CC3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805F-101F-4F8A-B942-BC6B8293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400-77C6-4CF2-9967-D5B1857E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89D-3CE1-4348-8F2F-C286E3DD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EC2C-2A41-48BF-95E2-82AE5E4C8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onio paruošimas anestezij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žiūr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sistema – vertinamas kvėpavimo dažnis, krūtinės ląstos deformacijos, emfizema, kvėpavimo raumenų darbas, cianozė veide ir lūpose. Auskultuojant nustatomi kvėpavimo garsai, jų pobūdis ir viet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ir kraujagyslių sistema – vertinamas pulsas, gleivinių spalva, edemos, širdies užesiai, aritmijos, AKS, periferinių venų būklė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– sąmonė, psichoemocinė būklė, centrinės parezės ar paralyžiai, periferinės neuropatijo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tak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ižiojimas – per 3 pirštų plot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tų būklė – paradontozė, protezuoti dantys, plokštelė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andim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žuvio dydis ir paslankuma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ubaciją gali apsunkinti: trumpas storas kaklas, prognatija (mažas apatinis žandikaulis), protruzija (atsikišę ilgi kandžiai), kaklinių stuburo slankstelių nepaslankumas, didelis žandikaulio nepaslankumas, apatinio žandikaulio lūžis, parafaringiniai pulynai, viršutinio žandikaulio lūžiai, didelis liežuvis, didelė strum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ubacijos eigą galima prognozuot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lamp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assifikaci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ligonis sodinamas ir paprašomas išsižioti ir kiek gali iškišti liežuvį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statant smakro – skydinės kremzlės atstumą. Atlošus galvą, matuojamas atstumas nuo apatinio žandikaulio k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vidurinės linijos ir skydinės kremzlės vidurinėje kaklo linijoje. Jei jis mažesnis 7 cm, gali būti sunki intubacija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allampatti klas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asė – matyti žiočių lankai, minkštasis gomurys, liežuvėli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klasė – matyti žiočių lankai ir minkštasis gomurys; liežuvėlį slepia liežuvio šakni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klasė – matyti tik žiočių lankai. Intubacija gali būti sunk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V klasė – viską dengia liežuvio šaknis. Intubacija laringoskopo kontrolėje praktiškai neįmano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78168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iniai tyr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ktiškai sveikų žmonių privalomas ikioperacinis ištyr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43000" y="2133720"/>
            <a:ext cx="7391160" cy="4481280"/>
            <a:chOff x="1143000" y="2133720"/>
            <a:chExt cx="7391160" cy="4481280"/>
          </a:xfrm>
        </p:grpSpPr>
        <p:grpSp>
          <p:nvGrpSpPr>
            <p:cNvPr id="70" name=""/>
            <p:cNvGrpSpPr/>
            <p:nvPr/>
          </p:nvGrpSpPr>
          <p:grpSpPr>
            <a:xfrm>
              <a:off x="1148760" y="2138400"/>
              <a:ext cx="7378200" cy="4471920"/>
              <a:chOff x="1148760" y="2138400"/>
              <a:chExt cx="7378200" cy="447192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1148760" y="2138400"/>
                <a:ext cx="2459160" cy="655560"/>
                <a:chOff x="1148760" y="2138400"/>
                <a:chExt cx="2459160" cy="6555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235160" y="2138400"/>
                  <a:ext cx="228564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mžiu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148760" y="2138400"/>
                  <a:ext cx="2459160" cy="6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3608640" y="2138400"/>
                <a:ext cx="2458800" cy="655560"/>
                <a:chOff x="3608640" y="2138400"/>
                <a:chExt cx="2458800" cy="6555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694680" y="2138400"/>
                  <a:ext cx="228636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yt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08640" y="2138400"/>
                  <a:ext cx="2458800" cy="6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6067800" y="2138400"/>
                <a:ext cx="2459160" cy="655560"/>
                <a:chOff x="6067800" y="2138400"/>
                <a:chExt cx="2459160" cy="6555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6154200" y="2138400"/>
                  <a:ext cx="228564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yrim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067800" y="2138400"/>
                  <a:ext cx="2459160" cy="65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148760" y="2793960"/>
                <a:ext cx="2459160" cy="946080"/>
                <a:chOff x="1148760" y="2793960"/>
                <a:chExt cx="2459160" cy="9460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235160" y="2793960"/>
                  <a:ext cx="228564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&lt;40 met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148760" y="2793960"/>
                  <a:ext cx="24591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3608640" y="2793960"/>
                <a:ext cx="2458800" cy="946080"/>
                <a:chOff x="3608640" y="2793960"/>
                <a:chExt cx="2458800" cy="946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694680" y="2793960"/>
                  <a:ext cx="228636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yra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tery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608640" y="2793960"/>
                  <a:ext cx="245880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6067800" y="2793960"/>
                <a:ext cx="2459160" cy="946080"/>
                <a:chOff x="6067800" y="2793960"/>
                <a:chExt cx="2459160" cy="946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154200" y="2793960"/>
                  <a:ext cx="228564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okių tyrim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067800" y="2793960"/>
                  <a:ext cx="2459160" cy="94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148760" y="3740040"/>
                <a:ext cx="2459160" cy="1679760"/>
                <a:chOff x="1148760" y="3740040"/>
                <a:chExt cx="2459160" cy="16797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235160" y="3740040"/>
                  <a:ext cx="2285640" cy="16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1-60 met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148760" y="3740040"/>
                  <a:ext cx="2459160" cy="167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608640" y="3740040"/>
                <a:ext cx="2458800" cy="1679760"/>
                <a:chOff x="3608640" y="3740040"/>
                <a:chExt cx="2458800" cy="16797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694680" y="3740040"/>
                  <a:ext cx="2286360" cy="16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yr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tery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608640" y="3740040"/>
                  <a:ext cx="2458800" cy="167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6067800" y="3740040"/>
                <a:ext cx="2459160" cy="1679760"/>
                <a:chOff x="6067800" y="3740040"/>
                <a:chExt cx="2459160" cy="16797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154200" y="3740040"/>
                  <a:ext cx="2285640" cy="16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KG, glikemija, kreatininas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, EKG, glikemija, kreatinin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067800" y="3740040"/>
                  <a:ext cx="2459160" cy="167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1148760" y="5419800"/>
                <a:ext cx="2459160" cy="1190520"/>
                <a:chOff x="1148760" y="5419800"/>
                <a:chExt cx="2459160" cy="11905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235160" y="5419800"/>
                  <a:ext cx="228564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&gt;60 metų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148760" y="5419800"/>
                  <a:ext cx="245916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608640" y="5419800"/>
                <a:ext cx="2458800" cy="1190520"/>
                <a:chOff x="3608640" y="5419800"/>
                <a:chExt cx="2458800" cy="1190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694680" y="5419800"/>
                  <a:ext cx="228636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bu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608640" y="5419800"/>
                  <a:ext cx="245880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067800" y="5419800"/>
                <a:ext cx="2459160" cy="1190520"/>
                <a:chOff x="6067800" y="5419800"/>
                <a:chExt cx="2459160" cy="11905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154200" y="5419800"/>
                  <a:ext cx="2285640" cy="11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b, EKG, Glikemija, kreatinin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067800" y="5419800"/>
                  <a:ext cx="2459160" cy="119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" name=""/>
            <p:cNvSpPr/>
            <p:nvPr/>
          </p:nvSpPr>
          <p:spPr>
            <a:xfrm>
              <a:off x="1143000" y="2133720"/>
              <a:ext cx="7391160" cy="4481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omas ištyrimas, priklausomai nuo kitų veiksni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lapalas ir elektrolit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ojantiems digoksiną, diuretikus, steroid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antiems diabetu, inkstų ligomis, vemiant, viduriuojant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enų funkcijos tyr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antiems kepenų ligom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ik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astaz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omas ištyrimas, priklausomai nuo kitų veiksni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6858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kemija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tik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oniai, turintys periferinių arterijų nepraeinamumą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ą laiką vartojus steroidus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tačius hipertenziją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gant širdies ligomi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ūtinės r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entgen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ar kvėpavimo sistemos liga anamnezėje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kologinė lig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š širdies ir plaučių operacij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rgę TBC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ometrij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iranda dusulys nedidelio fizinio krūvio metu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gantiems LOP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ešumo rodikliai (SPA, INR APTT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jant antikoaguliantu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mnezėje yra polinkis kraujuo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gant kepenų ligomis ar esant gelt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A fizinės būklės verti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aktiškai sveiki žmonės. Patologinis procesas, dėl kurio ligonis operuojamas, yra vietinis ir nesukelia sisteminių sutrikimų. Pooperacinis mirtinguma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(PM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0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cientas serga lengva arba vidutine sistemine liga, kuri nesukelia jokių funkcijos ribojimų, pvz. lėtinis bronchitas, vidutinis nutukimas, vyresnis amžius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M 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cientas serga sunkia sistemine liga, sukeliančia funkcijos sutrikimų (nekoreguota hipertenzija, cukrinis disbetas su kraujagyslių komplikacijomis, stenokardija, persirgtas MI, LOPL)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M 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8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cientas, sergantis sunkia sistemine liga, nuolat keliančia grėsmę gyvybei (širdies nepakankamumas, nestabili krūtinės angina, inkstų ar kepenų funkcijos nepakankamumas)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M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irštantys ligoniai, kurie negali išgyventi 24 val. be operacijos. (plyšusi aortos aneurizma, PATE, sunki galvos trauma)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PM 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ustatyta smegenų mirtis, jų organai bus imami transplantacij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ubios operacijos pažyminos raide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kioperacinis parengim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mnezė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vusios anestezijos, jų eiga, komplikacijos, ponarkozinio periodo ypatumai: pykinimas, vėmimas, sunkus pabudimas, pooperacinė gelta, popunkcinis galvos skausma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amos ir buvusios ligo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ki operacijos būtina koreguoti šias patologin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kle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ysčių pusiausvyros sutrikimai. Dažnai pasitaiko netekus kraujo ir skysčių dėl nudegimų, vėmimo, viduriavimo, žarnų nepraeinamumo, peritonito, traumos. Požymiai: sausas liežuvis, tachikardija, blogas odos turgoras, oligurija, hipotenzija, mažas CVS. Lab. tyrimuose </a:t>
            </a:r>
            <a:r>
              <a:rPr b="0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t ir Hb, kuomet yra dehidratacija ir </a:t>
            </a:r>
            <a:r>
              <a:rPr b="0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ant kraujavimui. Koreguojama infuzoterapija, iki stabilizuojama hemodinamik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trolitų pusiausvyros sutrikimai. Pavojiga hipokalemija (K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3.5mmol/l), nes galimos aritmijos. Korekcija – KCl infuzij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ija. Planinė operacija nerekomenduojama, jei Hb&lt;100g/l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ir kraujagyslių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oniams, persirgusiems MI, yra padidėjusi perioperacinio pakartotinio MI rizik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 persirgusiems ligoniams planinę operaciją atlikti galima po 3 mėn (pageidautina – po 6 mėn)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nepakankamumas turi būti koreguotas prieš operacij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mijos, netrikdančios hemodinamikos, nėra kontraindikacija, tačiau jos turi būti koreguojamos, pvz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chiaritminis PV turi būti pervestas į normoaritmin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 turi būti koreguota iki 160-170/95 mmHg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sistemo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t ūminėms kvėp. sistemos ligoms, bendrinė anestezija kontraindikuotin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PL serggančius ligonius būtin ruošti iki planinės operacijos, naudoja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lt-L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imetikus, gliukokortikoidus ir kt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nė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– glikemiją koreguoti iki normos. Maksimali leidžiama glikemija prieš operaciją – 12 mmol/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ydliaukės ligos – funkcija koreguoja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ki eutireozės, kadangi operacinis stresas gali provokuoti tireotoksinę krizę pooperaciniame laikotarpyje bei aritmijas operacijos metu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enų ligos – persirgus hepatitu, operuoti rekomenduojama po 5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mėn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strinės operacij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nas skrandis – galimas vėmimas, regurgitacija indukcijos, anestezijos metu arba po jos. Prieš operaciją zonduoti skrandį storu zondu pašalinant turinį. Taikyti greitą nuoseklią indukciją, naudoj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ko manevrą. Esant pilnam skrandžiui, saugesnė yra regioninė anestez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ovolemija – koreguojama adekvačia infuzoterapija. Ruošiantis ekstrinėms operacijoms, būtina užtikrinti gerą veninį priėjimą. Keletas periferinių venų, užkateterizuotų storais intraveniniais kateteriais yra daug geriau už vieną centrinę ven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edikacij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kiant operacijos, ligonį apima stresas, pasireiškianti įvairiai: nerimu, nemiga, euforija, apat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ichinis stresas sunkina operacinį stresą, provokuoja somatinius sutrikimus. Todėl keletą dienų iki operacijos būtina pradėti ligonį ruošti. Skiriami analgetikai, anksiolitikai, migdomieji, antihistamininiai preparat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akologinės premedikacijos tiksl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mės ir nerimo mažinimas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žniausiai vartojami benzodiazepinai. Suaugusiam 10-20mg diazepamo vakare per os arba 10-20mg i/m 45-9min prieš operaciją. Veikti pradeda po15-30 min išgėrus, po 2 min paskyrus i/v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aminimas (sedacija)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nzodiazepinai, barbitūratai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gezija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iatai: morfinas, fentanilas, tramadolis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nezija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dazolamas 0.5mg/kg peroraliai, 3-5 mg i/m, 1-2.5 mg i/v, 0.2-0.3 mg/kg intranazaliai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ilių sekrecijos sumažinimas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ropinas 0.5-1.0mg i/v ar i/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getacinio atsako mažinimas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mpatiniam aktyvumui mažinti - </a:t>
            </a:r>
            <a:r>
              <a:rPr b="0" lang="lt-L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drenoblokatoriai (atenololis, propranololis, metoprololis – peroraliai premedikacijai, esmololis – i/v operacijos metu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kinimo ir vėmimo profilaktik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etoklopramidas 5-20 mg, skiriant per os, i/m, i/v; droperidolis 2.5-7.5 mg i/m ar i/v; ondansetronas (Zofran®) 8-14 mg per os, 4 mg i/v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ranžio turinio kiekio sumažinimas ir pH didinim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   Antacida – rekomenduotinas 0.3M Na citratas 30 m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   H</a:t>
            </a:r>
            <a:r>
              <a:rPr b="0" lang="lt-LT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lokatoriai: ranitidinas 50-100 mg per os, i/m, i/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eikio anestetikui sumažinima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lonidinas 5 μg/kg peroraliai sukelia sedaciją, sumažina anestetikų poreikį, sumažina simpatinės nervų sistemos atsaką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rginių reakcijų profilaktika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rdies ir kraujagyslių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nokardija: ar ji buvo, kas ją skatina, trukmė, priepuolį nutraukiantys vaistai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rgti miokardo infarktai, liekamieji reiškiniai po to. Planines operacija saugiausia atlikti p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ėjus 6mėn po persirgto M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no krūvio tolerancija. Vertinama pagal NYHA klasifikacij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ydoma arba netinkamai gydoma arterinė hipertenzija (diastolinis AKS nuolat yra &gt;110mmHg) didina anestezijos riziką, nes galimi AKS svyravimai, aritmijos, insultas, miokardo išemija. AKS iki operacijos vaistais būtina sureguliuoti iki 160-170/95mmHg rib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oniai, nuolat vartojantys antikoaguliantus. Prieš operacij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go veikimo antikoaguliantai nutraukiami, 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kamas tik heparin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Y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asė – normalus fizinis krūvis nesukelia nuovargio, oro trūkumo ar širdies plakimo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klasė – ramybės metu savijauta gera; tik sunkus fizinis krūvis sukelia nuovargį, oro trūkumą, širdies plakimą ar skausmą krūtinėj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klasė – vidutinis fizinis krūvis sukelia nuovargį, oro trūkumą, širdies plakimą ar skausmą krūtinėj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klasė – bet koks fizinis aktyvumas sukelia nemalonų pojūtį krūtinėje; pasireiškia dusuliu, tachikardija, stenokardija; požymiai išlieka ir ramybėj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ėpavimo sistemo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sulys ir skrepliav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sul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minė kvėpavimo takų infekcija (sloga, prikimęs balsas, skausmas gerklėj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ėtinė obstrukcinė plaučių lig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kcija į fizinį krūvį. Paciento prašoma atsakyti į šiuos klausimus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gali užlipti laiptais nesustodamas ir į kurį aukštą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gali nubėgti 20-30 metrų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os lig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mplės išvarža – padidėjęs regurgitacijos ir aspiracijos pavoju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matas – vartoja hormonus, yra anemiški, mažai judrū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betas – padidėjus IŠL rizika, inkstų funkcijos nepakankamumas, pooperacinė infekcij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ų ir raumenų ligos – ribotas miorelaksantų naudojim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ėtinis inkstų funkcijos nepakankamumas – būdinga anemija, elektrolitų disbalansas, prailgėjęs vaistų išskyrim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lta – galimi krešumo sutrikimai, prailgėjęs medikamentų išskyrim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lepsija – anestetikai (metoheksitalis, enfluranas) gali skatinti traukuliu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eimyninė anamnez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eldimos ligos (hemofilija, porfirija, miastenija, miotonija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iškios priežasties mirtis operacijos metu (g.b. piktybinė hipertermija)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rginė anamnez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entą būtina paklausti ar alergines reakcijas sukelia antibiotikai, vietiniai anestetikai, analgetika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iniai veiksni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ūkymas – su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s oksihemoglobino ir padidintas karboksihemoglobino kiekis; galima tachikardija, hipertenzija, miokardo išem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is – kepenų funkcijos sutrikimai, sutrikusi anestetikų tolerancija, delyras pooperaciniame period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ėštumas – pirmais mėnesiais anestezija ir operacija padidina savaiminio aborto riziką. Paskutiniais mėnesiais didesnė regurgitacijos ir aspiracijos rizik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07:19:31Z</dcterms:created>
  <dc:creator>Antanas</dc:creator>
  <dc:description/>
  <dc:language>en-US</dc:language>
  <cp:lastModifiedBy>Antanas</cp:lastModifiedBy>
  <dcterms:modified xsi:type="dcterms:W3CDTF">2004-01-21T07:37:05Z</dcterms:modified>
  <cp:revision>1</cp:revision>
  <dc:subject/>
  <dc:title>Ligonio paruošimas anestezijai</dc:title>
</cp:coreProperties>
</file>