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F86-F387-4756-BCBE-5E1D035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373-647B-4C7A-B1DE-0179EC1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D74-18C1-4921-A806-A05272BD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303-05F9-4DFD-9534-C7167502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DCCA-B3D6-4387-A4A1-82682FEC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E543-6BBF-4746-AEAF-D25265A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170D-3ED0-465E-A427-714CC90D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2BC4-0200-49CC-8988-08BD078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0600-1B3B-451B-87CE-E8A97849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1B2D-5F11-459A-AD87-8582159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171E-3AE6-4E66-8C14-0D1C472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B44A-856A-4696-9E21-04EC8B12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C423-9448-4288-A2C0-9480DE8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BB7F-7735-41C7-BC51-110FAB5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A30-C20F-41B5-A0ED-B6940812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0DE1-C6C4-464C-9692-98D80DB6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DC67-3D50-491D-972E-F086DB3D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2A0-E56D-466C-AEF8-965EE5C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1C8-6277-4C8C-A691-1ECBAAC6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DB7-4BA2-4045-8800-10A0172A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245-ECA1-4FC0-8FF0-DBAE8CFD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033-5BCF-49EF-924B-8D42BD1C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C4E-A53F-4079-A042-64B2E931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62E-E741-4F88-B897-E8F247C9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E1C-65F6-4F4D-9659-875C14D5BC57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A638-AF5C-44FA-AF8C-7117C9CDF25E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bbraunusa.com/stimuplex/stimuplex-hns11.html" TargetMode="External"/><Relationship Id="rId3" Type="http://schemas.openxmlformats.org/officeDocument/2006/relationships/hyperlink" Target="http://www.bbraunusa.com/stimuplex/stimuplex-dig.html" TargetMode="External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ma, kad graikų filosofas Dioskor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.pr.Kr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termin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iacinių anestetikų veikimo mechanizmas iki šiol neaiškus. Smegenyse nėra specifinės anatominės struktūros, į kurią vieną veiktų anestetikai. Jie slopina tinklinį darinį, pusrutulių žievę, hipokampą. Anestetikai taip pat slopina impulsų plitimą nugaros smegenys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haliacinių anestetikų veikimą bando aiškinti kelios teorijos,kurios turi savų trūkumų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nitarinė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yer-Overto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ar vadinama lipidų teorija, kadangi grindžiama anestetikų tirpumu lipiduo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 anestetikui ištirpus specifinėse lipidų turinčiose struktūrose. Tirpdami membranų fosfolipidiniame sluoksnyje, inhaliaciniai anestetikai padidina jos tūrį, ko pasekoje pasikeičia mebranos funkc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tezija prasideda, kuomet cheminė medžiaga pasiekia tam tikrą koncentraciją hidrofobin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lipidinė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ąstelės struktūr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rodymas – tirpumas lipiduose koreliuoja su anestetiniu stiprum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ikimo mechanizmas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yer-Overton teorij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estetiko veikimo stiprumas koreliuoja su jo tirpumu riebaluo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ie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š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Kai kurie riebaluose tirpios substancijos yra ne anestetikai, bet konvulsant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4572000" cy="450072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yminė teori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estetikai gali susijungti su baltymų molekulėmis.Matoma paralelė tarp anestetiko stiprumo ir fermentų inhibicij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Įrodytas anestetikų sąveika su membranos baltyma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mo mechanizma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38156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Hidrofobinės baltymų (receptorių) sritys CNS yra anestetikų veik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40458c"/>
                </a:solidFill>
                <a:latin typeface="Tahoma"/>
              </a:rPr>
              <a:t>Anestetikai sąveikauja su šiais baltymais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438280" y="1600200"/>
            <a:ext cx="4496040" cy="259704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naptinio perdavimo teor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 keičia neuromediatoriaus išsiskyrimą sinapsė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inta nervinio impulso plitimas per sinapsę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urios anestezijoje naudojamos medžiagos veikia specifiškai į tam tikrus receptorius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696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imuliuoj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kotinin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MDA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methyl-D-asparta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amino-3-hydroxy-5-methyl-4-isoxazole propion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lopinantys receptoria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minosviesto rūgš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licino receptori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zijos aktyvuojami”K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anal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drenerginė sistem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imuliuojant selektyvia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gonistais, pvz.:klonidinu, sustiprėja halotano anestetinis veiki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Veikimo mechanizmas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43434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irmiausiai veiki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GABAA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us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Ji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Wingdings 3"/>
                <a:ea typeface="Wingdings 3"/>
              </a:rPr>
              <a:t>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receptorių jautrumą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Padidina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GABA-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ukeltą Cl</a:t>
            </a:r>
            <a:r>
              <a:rPr b="1" lang="lt-LT" sz="2800" spc="-1" strike="noStrike" baseline="30000">
                <a:solidFill>
                  <a:srgbClr val="40458c"/>
                </a:solidFill>
                <a:latin typeface="Tahoma"/>
              </a:rPr>
              <a:t>- </a:t>
            </a:r>
            <a:r>
              <a:rPr b="1" lang="lt-LT" sz="2800" spc="-1" strike="noStrike">
                <a:solidFill>
                  <a:srgbClr val="40458c"/>
                </a:solidFill>
                <a:latin typeface="Tahoma"/>
              </a:rPr>
              <a:t>srautą daugiau kaip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5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1371600"/>
            <a:ext cx="5791320" cy="2720880"/>
          </a:xfrm>
          <a:prstGeom prst="rect">
            <a:avLst/>
          </a:prstGeom>
          <a:ln w="255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24080" y="533520"/>
            <a:ext cx="1981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106668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371600" y="137160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75248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imes New Roman"/>
              </a:rPr>
              <a:t>Vietin</a:t>
            </a: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1371600"/>
            <a:ext cx="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1752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Region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137160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48720" y="1371600"/>
            <a:ext cx="0" cy="304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765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40458c"/>
                </a:solidFill>
                <a:latin typeface="Times New Roman"/>
              </a:rPr>
              <a:t>Bendrinė anestezij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209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33520" y="2438280"/>
            <a:ext cx="7617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5909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avirš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438280"/>
            <a:ext cx="7621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7400" y="243828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2590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filtr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2096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343040" y="289548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2362320"/>
            <a:ext cx="1219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Periferini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nervų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4266720" y="403848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4290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Ganglijų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r nerv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rezginių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blokad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266720" y="4800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4572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pidūr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66720" y="533412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51055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pin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266720" y="5943600"/>
            <a:ext cx="3049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56386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traveninė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region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848720" y="2133720"/>
            <a:ext cx="0" cy="45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2590920"/>
            <a:ext cx="28958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5520" y="3124080"/>
            <a:ext cx="10666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nhaliac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24480" y="3124080"/>
            <a:ext cx="12193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Subalansuo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34520" y="2590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3124080"/>
            <a:ext cx="1371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Total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intravenin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40458c"/>
                </a:solidFill>
                <a:latin typeface="Times New Roman"/>
              </a:rPr>
              <a:t>(TIVA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495680"/>
            <a:ext cx="914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Kaukin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anestezij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4495680"/>
            <a:ext cx="1828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trachėj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ir/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40458c"/>
                </a:solidFill>
                <a:latin typeface="Times New Roman"/>
              </a:rPr>
              <a:t>endobronchinė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4267080"/>
            <a:ext cx="1524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9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50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nestezi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kas jutimų praradimas ir atsko į aplinkos dirgiklius nebuvim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ą pirmą kartą panaudojo H.Coote 18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g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mažintas arba iš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ęs skausmo pojūtis bei atsakas į skausminius dirgikli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dirbtinai sukeltas grįžtamas CNS slopinimas. Jos dalys: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kozė (sąmonės išnyk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gezija (skausmo išnykimas arba sumažėj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orelaksacija (skersaruožių raumenų atsipalaidavimas)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vegetacinė blokada (vegetacinių funkcijų slopinima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ė anestezija yra pakankama, kai yra trys dalys:     1) narkozė (miegas); 2) nejautra (analgezija); 3)raumenų relasacija. Papildomai galima atlikti ir neurovegetacinę blokadą, tai priklauso nuo operacijos apimties ir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uroleptanalg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cientas yra ra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 motorinis aktyvu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mažėjęs/išnykęs baimės jausm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bejingumas aplinkai, esant sąmonei.Pacientas vykdo paliepimu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aistai: neuroleptikas (droperidolis) kartu su opioidiniu analgetiku (fentani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ociacinė anestezija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klė, kuriai būdinga sedacija, nejudrumas, amnezija ir išreikšta analgezi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sukelti ketaminas, naudojamas vie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inę anesteziją galima sukelti, vartojant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ą (mononarkozė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s skirtingus anestetikus (daugiakomponentė anestezija)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nius anestetikus su vietiniais anestetikais (mišrioj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nant bendrinius anestetikus su vaistas, veikiančiais tam tikrą bendrinės anestezijos komponentą (kombinuotoji anestezija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6000"/>
                            </p:stCondLst>
                            <p:childTnLst>
                              <p:par>
                                <p:cTn id="7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 anestezija – nedidelės kūno srities anestezija vietiniu anestetiku. Ji gali būti paviršinė (gleivinių ) ir infiltracinė.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ltracinė anestezija – vietinis anestetikas,sušvirkštas po oda, veikia juntamųjų nervų galines šak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nedidelės koncentracijos vietinių anestetikų tirpalai (pvz. 0.5-1% lidokaino, 1-2% novokaino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stas vietinis anestetikas pradeda veikti iš karto; veikimo trukmė priklauso nuo anestetiko rūšies bei priedų (pvz. adrenalin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o dozė priklauso nuo anestezuojamo plot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kiros kūno dalies (plaštakos, rankos, kojos) skausmo malšinimas vietiniais anestetikais, kurie veikia nervų kamienus, pluoštus, rezginius, nugaros smegenis. Ji gali būti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dinė nervų kamienų bei rezginių anestezija (blokada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, naudojant turniketus (blokada pagal Bier);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bei epidūralinė anestezi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nės nervų blokado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niausiai atliekamos operuojant viršu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patines galū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l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alia nervų ar nervinių kamienų, sutrikdo nervinio impulso plit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iausiai yra paplitę viršutinė galūnės nervinių rezginių blokados, nes ranką galima nuskausminti vienkartiniu anestetiko suleidimu. Norint anestezuoti koją, reika 2-3 anestetiko injekcij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500"/>
                            </p:stCondLst>
                            <p:childTnLst>
                              <p:par>
                                <p:cTn id="7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os laid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klausomai nuo operuojamos srities, galima nus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ti atlikant interskaleninę (tarplaiptinę), supraklavikulinę, infraklavikulinę arba aksiliarinę (pažasties duobėje) petinio rezginio blokad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inis pluoštas nustatomas neurostimuliatoriaus pagalb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eidžiama apie 30-40ml anestetiko tirpalo. Naudojamas 1-2% lidokainas arba 0.5% bupivakain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sideda po 20-30 min., trunka keletą valand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raveninė 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ė anestezij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</a:rPr>
              <a:t>Neurostimuliatoria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838080" y="1523880"/>
            <a:ext cx="6781680" cy="4571640"/>
            <a:chOff x="838080" y="1523880"/>
            <a:chExt cx="6781680" cy="4571640"/>
          </a:xfrm>
        </p:grpSpPr>
        <p:pic>
          <p:nvPicPr>
            <p:cNvPr id="309" name="" descr="Stimuplex HNS11 and Stimuplex Dig RC: The leading edge in Peripheral Nerve Block Equipment"/>
            <p:cNvPicPr/>
            <p:nvPr/>
          </p:nvPicPr>
          <p:blipFill>
            <a:blip r:embed="rId1"/>
            <a:stretch/>
          </p:blipFill>
          <p:spPr>
            <a:xfrm>
              <a:off x="838080" y="1523880"/>
              <a:ext cx="678168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>
              <a:hlinkClick r:id="rId2"/>
            </p:cNvPr>
            <p:cNvSpPr/>
            <p:nvPr/>
          </p:nvSpPr>
          <p:spPr>
            <a:xfrm>
              <a:off x="4334040" y="1523880"/>
              <a:ext cx="328572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>
              <a:hlinkClick r:id="rId3"/>
            </p:cNvPr>
            <p:cNvSpPr/>
            <p:nvPr/>
          </p:nvSpPr>
          <p:spPr>
            <a:xfrm>
              <a:off x="838080" y="1523880"/>
              <a:ext cx="322956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traveninė regioninė anestezij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a viršutinės ir apatinės galūnių nuskausminimui, kuomet operacijos trukmė ne ilgesnė kaip 1 v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tinis anestetikas sušvirkščiams į galūnės, kurioje turniketo pagalba yra nutraukta kraujotaka, veną žemiau užspaudimo vie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nestetikas, tekėdamas retrogradiškai, pasiekia kapiliarus ir patenka į ekstravaskulinį tarpą, kur nuskausmina nervines galūnė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augusio žmogaus anestezijai pakanka 35-40 ml anestetik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jami nedidelės (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koncentracijos prilokaino, lidokaino ar mepivakaino tirpalai. Nenaudojamas bupivakai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38140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37911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71800" y="2590920"/>
            <a:ext cx="2381400" cy="31716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3048120" y="30492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6172200" y="304920"/>
            <a:ext cx="2381400" cy="1590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172200" y="3352680"/>
            <a:ext cx="238140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523880" y="1066680"/>
            <a:ext cx="0" cy="114300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4267080"/>
            <a:ext cx="380880" cy="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114800" y="1981080"/>
            <a:ext cx="0" cy="60984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1066680"/>
            <a:ext cx="7621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1905120"/>
            <a:ext cx="0" cy="144756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inė blokada</a:t>
            </a:r>
            <a:r>
              <a:rPr b="0" lang="lt-L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zija (spinalinė, epidūralinė, kaudalinė), sukeliama vietinį anestetiką suleidus šalia centrinės nervų sistemos  struktūrų (nugaros smegenų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leidžiamas į nugaros smegenų subarachnoid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ekama operuojant apatines galūnes, lytinius organus, šlapimo pūslę, prostatą, tarvietės, tiesiosios žarnos operacija, taip pat nuskausminant Cezario pjūvio operacij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inalinės adatos su mandren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stetikai : Lidokain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arba Bupivakainas 0.5%, suleidžiama 3-4 m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3000"/>
                            </p:stCondLst>
                            <p:childTnLst>
                              <p:par>
                                <p:cTn id="9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4500"/>
                            </p:stCondLst>
                            <p:childTnLst>
                              <p:par>
                                <p:cTn id="9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6000"/>
                            </p:stCondLst>
                            <p:childTnLst>
                              <p:par>
                                <p:cTn id="9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inis anestetikas sušvirkščiamas į epidūrinį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tais pačiais atvejais kaip spinalinė anestezij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p pat kaip analgezijos dalis bendrinės anestezijos metu, atliekant sudėtingas kraujagyslių, žarnyno, plaučių operacijas; gimdymo nuskausminimui bei pooperaciniam skasumui malšint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os special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pidūrinės adatos 17G-18G Tuochy arba Weiss ir 20G epidūriniai kateteri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1-2% lidokaino arba 0.25-0.75% bupivakaino tirpalai,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 15-30 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a valdyti bloko aukštį bei anestezijos trukmę(per kateterį papildomai suleidžiant anestetiko), o taip pat motorinio bloko išreikštumą (keičiant anestetiko koncentraciją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000"/>
                            </p:stCondLst>
                            <p:childTnLst>
                              <p:par>
                                <p:cTn id="98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7500"/>
                            </p:stCondLst>
                            <p:childTnLst>
                              <p:par>
                                <p:cTn id="9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55640" y="1628640"/>
            <a:ext cx="6337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847 m. vasario 12 d. A.</a:t>
            </a: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Adomavičiaus paskaita apie etrį V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vasario 23 d. A.Adomavičius ir L.Lechavičius Vilniujepademonstravo pirmąją eterio narkoz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40458c"/>
                </a:solidFill>
                <a:latin typeface="Tahoma"/>
              </a:rPr>
              <a:t>1847 m. gruodžio 21 d. L.Lechavičius Vilniuje atliko pirmąją chloroformo narkoz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1683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ahoma"/>
              </a:rPr>
              <a:t>Anesteziologija Lietuv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55 m. – pirmoji endotrachėjinė nejaut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0 m. – Vilniuje įkurtas pirmasis anesteziologijos skyriu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0458c"/>
                </a:solidFill>
                <a:latin typeface="Tahoma"/>
              </a:rPr>
              <a:t>1962 m. – įkurta Lietuvois anesteziologų-reanimatologų draugij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rkoz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ės teorij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5-01-24T13:31:48Z</dcterms:modified>
  <cp:revision>7</cp:revision>
  <dc:subject/>
  <dc:title>Aneteziologija iki eterio</dc:title>
</cp:coreProperties>
</file>