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0A4-4D7C-4A4B-8DB4-F0625B14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105-B1F8-4E57-898D-5AD71D7A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462-23BD-475F-90F8-0FCC6F96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98F-13E1-4253-9A36-6C07B509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0DC9-CB3F-4402-A0BB-95AD7A9C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8106-2D7F-44DA-8F07-220A9092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9F64-F53B-4BA6-B723-1789037E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E6ED-EDCD-44A8-AA26-8286E880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EB54-870E-4C1D-9BC7-BAC0DF02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97E6-9082-43BC-AFF6-28934D91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C76A-BD60-4244-A500-ECAEC44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E39-E9EE-4E92-A646-E62F52F9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A85F-9B59-4134-A9DB-046FD3A7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ED28-374C-47D5-BDB2-FEB1D5EA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F0EE-6058-4E10-AF50-EB1DA83F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E51C-9D65-454B-8F89-BAF0E555C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6ABD-2DEE-4055-B0E3-6D4E6E76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438-7F50-49A7-9DB8-D8299A79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178-813B-4622-AF20-85EF7F82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1D4-E99C-466C-B14E-3082E35E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906-F7BC-42D2-A323-4F61AB24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A9B-14C6-4358-8D64-5CD93BA8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E3E-D99D-4AC8-AFB1-2AC7A115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07AA-9F15-4799-B461-708B2D83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E421-9F6B-4929-839B-B26881B533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2C2E-868F-4F6F-A7EA-3F497E2D3A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neteziologija iki eteri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aikoma, kad graikų filosofas Dioskoridas I a.pr.Kr. panaudojo terminą 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estezij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pibudindamas svaiginantį mandragoros veikim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enosios civilizacijos nuskausminimui naudodavo aguonų pieną (opiumą), kokos lapus, mandragoros šaknį, alkoholį, beigi drastiškas priemone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okias kaip kraujo nuleidimą iki sąmonės netekimo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Regioninei anestezijai sukelti naudodavo nervų kamienų suspaudimą bei šalčio aplikaci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operuojamoje vietoje (krioanalgezij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kai vietiniam nuskausminimui naudodavo kokos lapus: gydytojas pakramtydavo lapų ir prispjaudydavo į žaizdą (kokain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aliai anesteziologija pradėjo vystytis XIX a. antroje pusėje.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iej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endrieji anestetikai buvo inhal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inia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eteris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a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o suboksidas ir chloroform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er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intez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uota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154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, tačiau medicinoje ir anesteziologijoje buvo panaudotas 184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palio 16 d., kuomet William T.G. Morton Bostone pirmą kartą pademonstravo bendrinę eterio anestezij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zoto suboksidą anestezijai 184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eji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naudojo H.Wells ir G.Colt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oformą pirmą kartą buvo panaudojo H.Coot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;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špopuliarino akušeris J.Simpson,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naudojęs jį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mdymo skausmų sumaž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Halotanas sintezuotas 1951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adėtas naudoti 1956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, metoksifluranas pradėtas naudoti 1960m, enfluranas sintezuotas 1963, prad</a:t>
            </a:r>
            <a:r>
              <a:rPr b="0" lang="lt-LT" sz="28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ė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s naudoti 1973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Intraveninė aanestezija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ė anestezija gimė 18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kartu su švirkštu ir adata (A.Wood)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arbitūratai indukcijai pradėti plačiai naudoti 192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intezavus heksobarbitalį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iopentalis pradėtas naudoti 193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iki šiol išlieka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ko gero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lačiausiai naudojamu intraveniniu anestetiku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Ketaminas pasirodė 196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tačiau plačiai pradėtas naudoti 1970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etomidatas 197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propofolis 198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</a:rPr>
              <a:t>Miorelaksantai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942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H.Griffith, E.Jonso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pirmieji panaudojo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ubokurar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lengvėjo trachėjos intubacija,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apo įmanoma užtikrin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galingą miorelasaciją ir tuo sumaži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ti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nestetikų doze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vo sintezuota daug įvairių miorelaksantų (metokurarinas, galantaminas, pankuronijus); artimais idealiam miorelaksantu galima laikyti vekuronijų, atrakuriumą, pipekuronijumą, doksakuriumą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kcinilcholinas pradėtas naudoti 195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Opiatai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orfinas išskirtas iš opijaus 180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nau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tas ka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ip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traveninis anestetikas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adžioje opiatų ve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g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ta, nes manyta, kad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jie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adidina pooperacinį mirtingum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sidomėjimas opiatais atsinaujino 1939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 sintezavus meperidin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Opiatų naudojimą pagrindė “</a:t>
            </a:r>
            <a:r>
              <a:rPr b="0" i="1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ubalansuotos anestezijos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” koncepcija: tiopentalis – indukcijai, azoto suboksidas – amnezijai ir miegui, opiatas – analgezijai ir kurare preparatai – miorelaksacij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Regioninė anestezija</a:t>
            </a:r>
            <a:r>
              <a:rPr b="0" lang="en-GB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Vietinės anestezijos pradininku laikomas oftalmologas Carl Koller, 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kokainą akių operacijos nuskausminimu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1884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W.Halsted panaudojo kokainą infiltracinei ir periferinių nervų blokada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ir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j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spinalinę anesteziją atliko A.Bier 189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panaudojęs 0.5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%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-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3ml kokaino tirpalą. Jis taip pat pirmasis 1908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atliko intraveninę regioninę anesteziją (Blokas pagal Bi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kainas sintezuotas 1904 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r pradėtas naudoti klinikoje H.Braun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pidūrinė anestezija – 1921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dokainas –1947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hlorprokainas – 1955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Bupivakainas – 1963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m</a:t>
            </a:r>
            <a:r>
              <a:rPr b="0" lang="lt-LT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tidokainas – 1972m.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07:00:33Z</dcterms:created>
  <dc:creator>Antanas</dc:creator>
  <dc:description/>
  <dc:language>en-US</dc:language>
  <cp:lastModifiedBy>Antanas</cp:lastModifiedBy>
  <dcterms:modified xsi:type="dcterms:W3CDTF">2004-01-08T07:45:01Z</dcterms:modified>
  <cp:revision>1</cp:revision>
  <dc:subject/>
  <dc:title>Aneteziologija iki eterio</dc:title>
</cp:coreProperties>
</file>