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CE8B7-5D4F-4D3E-A425-10F6B0A1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2385-3F04-4E82-8913-3DADC9A4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43A3-973C-4E66-81BA-3DC0BFC3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8DC49-F30D-4ED1-B328-4E9E1D0D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A545-3722-4083-A671-7B93B66D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F29B-751C-474F-8324-300613DD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8A3B-0C6A-40A6-B3A0-530ECFF9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2D42-10B1-4401-B8F0-4091A094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2876-DF50-4B39-AA47-9765DBA2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B669-7A37-4012-8438-1C904DDA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DE06-2D66-42A7-808B-F8F391F9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CAAA7-740A-416D-85E2-89F0E940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0F81-A4AB-4748-95D2-50B9A337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E692-2AB3-4DDD-9878-A961E16A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E233-5446-4BE6-BDC2-90032CF8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35D0-1F04-4F96-B1DF-93DBA59F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4910-2DB2-4670-B5E3-B6E4E3A1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7A2A0-155F-4B26-95C8-83B72A6D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1253-1359-4661-A0B4-0991E3B0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01E29-4CF4-4AA8-B871-4D4AD75B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E8EB-9C82-489C-AAAC-387F2E9F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B116E-BB82-46DA-A19C-91B379CE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8F0D6-74F4-44B2-BEE5-6B517957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1E0CC-5258-4012-8A7C-D50A7326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21C7-3E57-4AB8-8D7D-7E27F88716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4169-CBC0-4F7E-8FDB-FADD6901BB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5400" spc="-1" strike="noStrike">
                <a:solidFill>
                  <a:srgbClr val="ffffff"/>
                </a:solidFill>
                <a:latin typeface="Times New Roman"/>
              </a:rPr>
              <a:t>Verslas. Verslumas. Verslininkystė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asmuo, disponuojantis kapitalu ir siekiantis jį padidinti, ieškantis naujų pelningų veiklos sričių, pasitelkiantis dalykines žinias ir žmogiškąsias savyb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Ekonominiu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– tai asmuo, kuris susiejęs lėšas, darbą, mežiagas ir pan., padidina jų visuminę vert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Psichologiniu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– tai žmogus, kurį veikti skatina tam tikri motyvai: troškimas ką nors gyvenime pasiekti, įgyti savarankiškumą ir p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923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Kitų verslininkų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yra pavojingas varžovas arba, priešingai, partneris, tiekėjas, pirkėjas ir k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kroekonominiu požiūriu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žmogus, didinantis ne vien savo, bet ir nacionalinį turtą, atskleidžiantis geresnį išteklių naudojimo, nuostolių mažinimo būdus, kuriantis naujas darbo viet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ystė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– ko nors nauja, turinčio vertę kūrimas, jėgų ir laiko reikalaujantis, asmeninę, finansinę, moralinę ir socialinę atsakomybę numatantis procesas, kuris galų gale teikia pinigų ir pasitenkinimą pasiektais rezultata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6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</a:rPr>
              <a:t> – tai ne vien veiklos forma, gyvenimo būdas, mokslas ir menas kartu paėmus; tai dar poezija ir kūrybinis polėkis, sportas, ekonominės rizikos sritis; jis aprėpia savus rašytinius ir nerašytinius dėsnius, principus, tarpusavio bendravimo etiką, slaptus sveikatos poveikio mechanizm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Nauji, dinamiški, nedideli, bet lankstūs verslai atlieka daug svarbių funkcijų visuomenėje ir nacionalinėje ekonomik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gamina prekes, teikia paslaugas, kuria pridėtinę vertę ir didina nacionalines paja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užpildo ribotas geografines, gamybines, paslaugų rink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ininkai moka mokesčiu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ininkai kuria naujas darbo vietas, kurios valstybei nieko nekainuoj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lininkai apmoko ir įdarbina daug nekvalifikuotų darbinink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perskirsto išteklius, skatina konkuruot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geriau tenkina net itin specifinius bei pavienius vartotojų poreikiu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veikia kaip ekonominio šoko slopintuvai, nustatantys ekonominio pakilimo ir depresijų rib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dekoncentruoja ekonomines jėgas ir sprendimų pasirinki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 užtikrina individualias galimybes ir socialinį mobilu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verslai tenkina asmeninius poreikius bei siekius tų asmenų, kurie juos turi ir val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lai, ypač nauji, yra tarsi laboratorijos, kuriose galima pigiai išbandyti idėjas, produktus, paslaugas, naujas rink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ūtent verslai buvo, yra ir bus tarptautinių korporacijų lopš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Išorinės verslo funkc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492360" y="3860640"/>
            <a:ext cx="2303640" cy="505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5640" y="2421000"/>
            <a:ext cx="230364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Gamina prek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5640" y="4581360"/>
            <a:ext cx="223200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katina konkuruo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227640" y="2421000"/>
            <a:ext cx="2232000" cy="503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Teikia paslau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156360" y="4653000"/>
            <a:ext cx="2232000" cy="431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ukuria tu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843280" y="6021360"/>
            <a:ext cx="3600360" cy="576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uteikia naujų darbo viet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 flipV="1">
            <a:off x="2626920" y="2923920"/>
            <a:ext cx="86508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2987640" y="4365720"/>
            <a:ext cx="5047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796000" y="2923920"/>
            <a:ext cx="86364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796000" y="4365720"/>
            <a:ext cx="360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643280" y="43657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Vidinės verslo funkcij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987640" y="3645000"/>
            <a:ext cx="2736720" cy="504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Gamina pre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68360" y="2205000"/>
            <a:ext cx="2519280" cy="719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inansinės apska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012000" y="2276640"/>
            <a:ext cx="2447640" cy="720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Personalo valdy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68360" y="5229360"/>
            <a:ext cx="2735280" cy="720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Rinkodaros 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940360" y="5229360"/>
            <a:ext cx="2664000" cy="720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Tiekimo 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619280" y="292428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164360" y="299736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7640" y="256536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03640" y="5589720"/>
            <a:ext cx="2736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87640" y="2924280"/>
            <a:ext cx="720720" cy="720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5003280" y="2997360"/>
            <a:ext cx="1008360" cy="647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203640" y="4149360"/>
            <a:ext cx="576360" cy="107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 flipV="1">
            <a:off x="5076360" y="4149360"/>
            <a:ext cx="863640" cy="107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203280" y="2997360"/>
            <a:ext cx="3600360" cy="29527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5280" y="2924280"/>
            <a:ext cx="4105080" cy="302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600" spc="-1" strike="noStrike" u="sng">
                <a:solidFill>
                  <a:srgbClr val="ffffff"/>
                </a:solidFill>
                <a:uFillTx/>
                <a:latin typeface="Times New Roman"/>
              </a:rPr>
              <a:t>Verslą sudaro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4</a:t>
            </a:r>
            <a:r>
              <a:rPr b="1" lang="lt-LT" sz="3600" spc="-1" strike="noStrike" u="sng">
                <a:solidFill>
                  <a:srgbClr val="ffffff"/>
                </a:solidFill>
                <a:uFillTx/>
                <a:latin typeface="Times New Roman"/>
              </a:rPr>
              <a:t> etapa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naujos idėjos paieška ir jos įvertinim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verslo plano sudarym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teklių paiešk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√ 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įsteigtos įmonės valdym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Išskiriamos šios verslininkystės rūš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gamybinė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►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komercinė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►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finansin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as. Verslumas. Verslininkystė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Tikslai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siaiškinti pagrindines verslo sąvok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suformuluoti verslo sampratos apibrėžimą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analizuoti verslo funkcija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nagrinėti verslininkystės rūšis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√ </a:t>
            </a:r>
            <a:r>
              <a:rPr b="0" lang="lt-LT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išnagrinėti verslininkystės įtaką šalies ekonominei sistema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funkcijos ir verslininkystė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Gamybinė verslininkystė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apima prekių gamybą ir vartoji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Komercinės verslininkystė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pagrindas yra komerciniai sandoriai, t.y. prekių ir paslaugų perpardav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ffffff"/>
                </a:solidFill>
                <a:latin typeface="Times New Roman"/>
              </a:rPr>
              <a:t>Finansinėje verslininkystėje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pirkimo ir pardavimo objektas yra pinigai, valiuta, vertybiniai popieria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XX ir XXI a. sandūroje pasaulis yra globalizacijos, naujos informacijos valdymo ir pramonės revoliucijos eros pradžio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iežastys, kurios skatina kurtis mažas ir vidutines įmones ir didina jų reikšmę pasauliui, yra sekanč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žagabaritinės technikos suklestėj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yšių kanalų, informatikos suklestėjimas paprastina priėjimą prie duomenų bazių, lengvina kontaktą su klientais ir tiekėjais užmezgim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demografiniai pokyčia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šeimos verslo privaluma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laugų plėtr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totojų poreikių skalės kit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ichologinis darbuotojų poreikių kitim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olatinis rinkos poreikių kit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400" spc="-1" strike="noStrike" u="sng">
                <a:solidFill>
                  <a:srgbClr val="ffffff"/>
                </a:solidFill>
                <a:uFillTx/>
                <a:latin typeface="Times New Roman"/>
              </a:rPr>
              <a:t>Daug verslo įmonių kuriasi buvusio Rytų bloko šalyse, tarp jų ir Lietuvoje, kadang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mažai mažų ir vidutinių įmonių atsirado privatizuojant buvusių valstybinių įmonių padaliniu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aikinus iš centro planuojamas ekonomines sistemas buvo suteikta laisvė privačiai iniciatyvai, kurios viena svarbiausių išraiškų – verslininkystės atgimim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ujai bsikuriančios įmonės dažniausiai gali būti tik mažos, nes jas kuriantys verslininkai nėra sukaupę didelio pradinio kapital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2800" spc="-1" strike="noStrike" u="sng">
                <a:solidFill>
                  <a:srgbClr val="ffffff"/>
                </a:solidFill>
                <a:uFillTx/>
                <a:latin typeface="Times New Roman"/>
              </a:rPr>
              <a:t>Visame pasaulyje verslo įmonės yra valstybės remiamos, o Lietuvoje turėtų būti remiamos, nes j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tykinai mažomis išlaidomis sukuria darbo vietų, ypač paslaugų srityje, kuri nuolat plečiasi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deda spręsti užimtumo problemas nepramoniniuose ar šiaip atokiuose nuo pagrindinių šalies centrų regionuose, kur stambios įmonės paprastai nelinkusios plėtoti veikl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varbios kaip subrangovės, vykdančios stambių įmonių užsakymus abipusiškai naudingomis sąlygomi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didina gyventojų investicinį aktyvumą, naudodamos savininkų, jų giminaičių ir draugų asmenines santaupas verslui plėst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jų daugėjant, mažėja kapitalo ir gamybos priemonių susitelkimas įvairiose verslo šakose, todėl sudaroma sveikesnė konkurencij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tina diegti inovacijas, nes sugeba lanksčiau prisitaikyti prie kintančių rinkos poreikių nei didelės įmonės ir kartu verčia pastarąsias neatsilikt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tenkina psichologinius žmonių atsakomybės, nuosavybės, sprendimo laisvės, individo saviraiškos ir kitus poreikiu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mažose šalyse naudoja įvairių vietų negausius vietinius gamtos ištekli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35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atsižvelgiant į produkto naujumą arba technologijas, kiekviena naujovė patenka į rinką šiais kanala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valstybės sektori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vidinę verslininkystę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►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apskritai verslininkyst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alstybė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gali remti mokslinius atradimus, tik ne visi jie įgyvendinam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idaus verslininkystė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– tai tokia verslininkystė, kuri susiklostė verslo struktūrose ir užtikrina ryšį tarp mokslinių tyrimų ir gamyb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ystė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– dar vienas kelias, įgalinantis mokslines idėjas paversti gaminiais, t.y. įgyvendinant naują idėją, įsteigiama ir pradeda veikti nauja įmonė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ystė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š esmės veikia vietinę ekonomiką, nes ji stiprina materialinę ir techninę bazę, todėl daugėja naujų darbo viet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ininkystės vaidmuo šalies ekonomikoje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VV, nors ir stokoja finansinių išteklių, mokslinio potencialo, techninių galimybių, įgyvendina nepaprastai daug naujų idėj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XX a. inovacijų raida išryškino SVV reikšmę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Smulkiojo ir vidutiniojo verslo subjektų gausa, aktyvi investicijų ir eksporto veikla, didelis užimtumas bei produktyvios naujos darbo vietos duoda realią naudą nacionalinės ekonomikos plėtra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agrindinis tuometinių verslininkų tikslas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buvo kuo labiau apgauti pirkėją gaunant kuo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daugiau naudos sa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Verslininkystės samprata kūrėsi stebint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kasdienę žmonių ūkinę veikl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Kintanti socialinė aplinka sudarė sąlyga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kurtis verslininkų bendrij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irmieji bandymai teoriškai įprasminti reiškinį  “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ystė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” įvyko tik XVII 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5400" spc="-1" strike="noStrike">
                <a:solidFill>
                  <a:srgbClr val="dfdef6"/>
                </a:solidFill>
                <a:latin typeface="Times New Roman"/>
              </a:rPr>
              <a:t>Dėkoju už dėmesį </a:t>
            </a:r>
            <a:r>
              <a:rPr b="1" i="1" lang="en-US" sz="5400" spc="-1" strike="noStrike">
                <a:solidFill>
                  <a:srgbClr val="dfdef6"/>
                </a:solidFill>
                <a:latin typeface="Times New Roman"/>
                <a:ea typeface="Arial"/>
              </a:rPr>
              <a:t>!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Viduramžiais sąvoka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“verslininkas”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vartojama dvejopa prasme: verslininkai buvo parodų ir muzikos renginių organizatoriai bei didelių galimybių arba statybinių projektų vadova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XVII a. jau atsižvelgiama į rizikos veiksn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asmuo, sudaręs su valstybe sutartį, kurios įgyvendinimo vertė iš anksto aptar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Dž. Lokas Prancūzijoje įkūrė Karališkąjį banką ir Misisipės bendrov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Akcija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dokumentas (vertybinis popierius), liudijantis nuosavybės ir balsavimo teisę akcinėje bendrovė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Aktyvai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konkrečiam  asmeniui priklausantis fizinis turtas (pinigai, akcijos, obligacijos) bei turtinės teisės, turinčios ekonominę vertę (patentai, autorių teisė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Pirmasis verslininkystės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teoretik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yra XVIII a. pr. Anglijos ekonomistas R.Kantiljon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asak R.Kantiljono,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– tai žmogus, kuris tam tikra kaina perka gamybos priemones, kad pagamintų atitinkamai produkcijos, siekdamas gauti pajamų, tačiau nežino, kokiomis kainomis pardu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as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traktuojamas kaip žmogus, veikiantis rizikos sąlygom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B.Sėjaus nuomone,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verslininkas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– tai žmogus, organizuojantis žmones gamybiniame viene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XVIII a. atskiriamos sąvokos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“kapitalo savininkas”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ir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“verslininkas”,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t.y. atskiriamos kapitalo teikimo ir verslininkystės funkcij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Kapitalas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– finansiniai ir materialiniai ištekliai prekėms gaminti ir paslaugoms teikti; į mokslą investuotos savininko lėš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Vartojamos sąvokos: </a:t>
            </a:r>
            <a:r>
              <a:rPr b="1" i="1" lang="lt-LT" sz="2800" spc="-1" strike="noStrike">
                <a:solidFill>
                  <a:srgbClr val="ffffff"/>
                </a:solidFill>
                <a:latin typeface="Times New Roman"/>
              </a:rPr>
              <a:t>“smulkusis verslas”, “vidutinis verslas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 u="sng">
                <a:solidFill>
                  <a:srgbClr val="ffffff"/>
                </a:solidFill>
                <a:uFillTx/>
                <a:latin typeface="Times New Roman"/>
              </a:rPr>
              <a:t>SVV apibrėžti labiausiai tinka tokie ES priimti kriterija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inės įplaukos už realizuotą produkcij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lanso sum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dra įmonei priklausančio turto suma, įskaičius grynuosius pinigus, žaliavų ir prekių atsargas, žemę, įrenginius ir kitus ištekliu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►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buotojų skaiči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IBM bendrovės atstovas Tomas Dž. Votsonas jaunesnysis poetiškai teigia, kad “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yra didžiausias žaidimas pasaulyje, jeigu žinote, kaip jį žaisti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3200" spc="-1" strike="noStrike" u="sng">
                <a:solidFill>
                  <a:srgbClr val="ffffff"/>
                </a:solidFill>
                <a:uFillTx/>
                <a:latin typeface="Times New Roman"/>
              </a:rPr>
              <a:t>Ekonomistų požiūriu verslas yr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konominė veikla, kuria siekiama peln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žsiėmimas, darbas, smulkioji gamyba, amata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giau trunkanti profesinė ir neprofesinė veikla, susijusi su pareigomis ir teisėmis siekiant uždarb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●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mybos, pirkimo, pardavimo ar tiekimo veikla, atliekama už pinigus ir t.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dfdef6"/>
                </a:solidFill>
                <a:latin typeface="Times New Roman"/>
              </a:rPr>
              <a:t>Verslo samprata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686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um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gamybos veiksnys, kurio turinys – žmogaus gebėjimas susieti kapitalą, darbą ir gamtinius išteklius, organizuoti verslą, įgyvendinti inovacijas, rizikuoti savo turtu ir gerove siekiant pel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lt-LT" sz="3200" spc="-1" strike="noStrike">
                <a:solidFill>
                  <a:srgbClr val="ffffff"/>
                </a:solidFill>
                <a:latin typeface="Times New Roman"/>
              </a:rPr>
              <a:t>Verslas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– tai nuosavybė, savarankiškumas, atsakomybė prieš visuomenę, dirbančiuosius, už save ir artimųjų gyvenim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8:09:29Z</dcterms:created>
  <dc:creator>a</dc:creator>
  <dc:description/>
  <dc:language>en-US</dc:language>
  <cp:lastModifiedBy>SK_06</cp:lastModifiedBy>
  <dcterms:modified xsi:type="dcterms:W3CDTF">2007-10-16T11:46:44Z</dcterms:modified>
  <cp:revision>32</cp:revision>
  <dc:subject/>
  <dc:title>Verslas. Verslumas. Verslininkystė</dc:title>
</cp:coreProperties>
</file>