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5EB-51B2-44DF-85C6-50113809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686-8799-462A-923D-7ACA9075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18F-BF30-421D-92E2-2574B0C8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49E-C174-48E4-8828-DC3B880C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F37F-C6C8-4D8B-9541-869327ED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AB93-6D5D-427C-A413-E3127D4D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E89A-073C-439F-94AC-A2286671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FE6E-3554-4B61-9DE3-C9E52776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C3C6-28E5-43D1-9E80-B8A2FE31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0161-CA6F-4C8D-86F5-5A638A04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D626-1F49-4899-A83E-FB9D6D3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988-3726-4243-A88D-A1276AB9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6076-08EC-44A0-9899-B9F4EBF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16D7-F973-4253-9E4C-11384BA8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5F63-BF25-41A4-9486-36ADF114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06FF-3A5A-4D51-B3B3-AB83EA6D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C7FC-0751-47A9-8BE0-E56B703B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A83-9646-47C4-A9AA-007E3C5B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75C-0C35-4457-9872-93AEC9EC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545-7CCF-4A19-90A4-50C2D829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E92-6538-44EC-AD7A-ECD0C709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0C8-CA13-4BC5-A335-AC57AD02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935-ED4B-4844-9452-C806D9B3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23DE-A225-413A-AC77-705EBC61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A741-5C65-40F5-B0D6-65C3D065AB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FC5C-BB5F-44F9-B58E-7E73073CD6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000000"/>
                </a:solidFill>
                <a:latin typeface="Verdana"/>
              </a:rPr>
              <a:t>Vadybos teori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jo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913C-E802-456E-A52B-06F98A76244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Teorija „Z“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technikos: sprendimų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Dinamiškų santykių požiūris į vadybos moksl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uotinės kokybės vadybos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223-C745-4EAA-B60B-C95B26FA33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okyčių ir inovacijų valdy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Naujos sąlygos valdymui: vadybos mokslo ateiti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E1E-12BF-4D22-A910-3089987FCB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EGZAMINAS (13-26 temo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Egzamin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akartotinas atsiskaitymas skiriamas pagal numatytą egzaminų perlaikymo savaitės tvarkaraštį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5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42A-A7FA-4BD5-B7A5-D535940C58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imes New Roman"/>
              </a:rPr>
              <a:t>Individualūs užduočių pristatymai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liekami pasirinktomis temomis, suderintomis su dalyko dėstytoj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PowerPoint formate, pateikiant pristatymo skaidres, atspausdintas po dvi A4 formato lapuos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as atliekamas auditorijoje pratybų me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ristatymo trukmė 10-15 mi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įtaka galutiniam pažymiui - 10 proc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EC08-201D-44BD-915B-C0850A5E48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varan</a:t>
            </a: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kiškas darb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ų darbas (grupinė užduoti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šomas pasirinktinai pagal dėstytojo pateiktas temas, suderinus jas su dėstytoj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tinio pobūdžio studija, kurioje turi dominuoti analitinis stilius, išreiškiantis autorių nuomonę į tyrinėjamą tematiką bei kitų autorių atliktus pastebėjimus ir tyrim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grupėse po 3-4 studentu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mas raštu iki 14 studijų savaitės (iki gegužės 07d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16 savaitę vyks namų darbų pristatymai, parengti PowerPoint formate. Pristatymo trukmė 10-15m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ti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atliekamas tokiu būdu: (50 proc. darbas pateiktas raštu ir 50 proc. – pristatymas. Konsultacijos teikiamos pratybų metu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423-076D-4E7A-B017-7DF3A20BFB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Atsiskaity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" y="2057400"/>
            <a:ext cx="8762760" cy="3987720"/>
            <a:chOff x="228600" y="2057400"/>
            <a:chExt cx="8762760" cy="3987720"/>
          </a:xfrm>
        </p:grpSpPr>
        <p:grpSp>
          <p:nvGrpSpPr>
            <p:cNvPr id="114" name=""/>
            <p:cNvGrpSpPr/>
            <p:nvPr/>
          </p:nvGrpSpPr>
          <p:grpSpPr>
            <a:xfrm>
              <a:off x="236520" y="2062080"/>
              <a:ext cx="8745840" cy="3978360"/>
              <a:chOff x="236520" y="2062080"/>
              <a:chExt cx="8745840" cy="39783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36520" y="2062080"/>
                <a:ext cx="4754880" cy="914400"/>
                <a:chOff x="236520" y="2062080"/>
                <a:chExt cx="4754880" cy="9144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52440" y="2062080"/>
                  <a:ext cx="45230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siskaitymo (užduoties) tip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36520" y="2062080"/>
                  <a:ext cx="47548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991760" y="2062080"/>
                <a:ext cx="1242720" cy="914400"/>
                <a:chOff x="4991760" y="2062080"/>
                <a:chExt cx="1242720" cy="914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107680" y="2062080"/>
                  <a:ext cx="1011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m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991760" y="2062080"/>
                  <a:ext cx="12427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34840" y="2062080"/>
                <a:ext cx="1189080" cy="914400"/>
                <a:chOff x="6234840" y="2062080"/>
                <a:chExt cx="1189080" cy="914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50760" y="2062080"/>
                  <a:ext cx="95760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 valandų, val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234840" y="2062080"/>
                  <a:ext cx="1189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7424280" y="2062080"/>
                <a:ext cx="1558080" cy="914400"/>
                <a:chOff x="7424280" y="2062080"/>
                <a:chExt cx="1558080" cy="914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7539840" y="2062080"/>
                  <a:ext cx="13262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Įtaka pažymiui, proc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24280" y="2062080"/>
                  <a:ext cx="15580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36520" y="2976480"/>
                <a:ext cx="4754880" cy="609480"/>
                <a:chOff x="236520" y="2976480"/>
                <a:chExt cx="4754880" cy="609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52440" y="29764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ividualūs užduočių pristatym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6520" y="29764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991760" y="2976480"/>
                <a:ext cx="1242720" cy="609480"/>
                <a:chOff x="4991760" y="2976480"/>
                <a:chExt cx="1242720" cy="609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107680" y="29764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991760" y="29764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234840" y="2976480"/>
                <a:ext cx="1189080" cy="609480"/>
                <a:chOff x="6234840" y="2976480"/>
                <a:chExt cx="1189080" cy="609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350760" y="29764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234840" y="29764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424280" y="2976480"/>
                <a:ext cx="1558080" cy="609480"/>
                <a:chOff x="7424280" y="2976480"/>
                <a:chExt cx="1558080" cy="609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539840" y="29764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424280" y="29764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36520" y="3585960"/>
                <a:ext cx="4754880" cy="609840"/>
                <a:chOff x="236520" y="3585960"/>
                <a:chExt cx="4754880" cy="609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52440" y="3585960"/>
                  <a:ext cx="45230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ų darbai (grupinės užduoty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6520" y="3585960"/>
                  <a:ext cx="47548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991760" y="3585960"/>
                <a:ext cx="1242720" cy="609840"/>
                <a:chOff x="4991760" y="3585960"/>
                <a:chExt cx="1242720" cy="609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07680" y="3585960"/>
                  <a:ext cx="1011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991760" y="3585960"/>
                  <a:ext cx="12427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234840" y="3585960"/>
                <a:ext cx="1189080" cy="609840"/>
                <a:chOff x="6234840" y="3585960"/>
                <a:chExt cx="1189080" cy="609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50760" y="3585960"/>
                  <a:ext cx="95760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234840" y="3585960"/>
                  <a:ext cx="1189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424280" y="3585960"/>
                <a:ext cx="1558080" cy="609840"/>
                <a:chOff x="7424280" y="3585960"/>
                <a:chExt cx="1558080" cy="609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539840" y="3585960"/>
                  <a:ext cx="13262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424280" y="3585960"/>
                  <a:ext cx="155808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36520" y="4195800"/>
                <a:ext cx="4754880" cy="609480"/>
                <a:chOff x="236520" y="4195800"/>
                <a:chExt cx="4754880" cy="6094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52440" y="419580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arpinis egzam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36520" y="419580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991760" y="4195800"/>
                <a:ext cx="1242720" cy="609480"/>
                <a:chOff x="4991760" y="4195800"/>
                <a:chExt cx="1242720" cy="6094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107680" y="419580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991760" y="419580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234840" y="4195800"/>
                <a:ext cx="1189080" cy="609480"/>
                <a:chOff x="6234840" y="4195800"/>
                <a:chExt cx="1189080" cy="6094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350760" y="419580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234840" y="419580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424280" y="4195800"/>
                <a:ext cx="1558080" cy="609480"/>
                <a:chOff x="7424280" y="4195800"/>
                <a:chExt cx="1558080" cy="609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7539840" y="419580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424280" y="419580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36520" y="4805280"/>
                <a:ext cx="4754880" cy="609480"/>
                <a:chOff x="236520" y="4805280"/>
                <a:chExt cx="475488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52440" y="4805280"/>
                  <a:ext cx="45230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alutinis egzaminas</a:t>
                  </a:r>
                  <a:r>
                    <a:rPr b="0" lang="lt-LT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6520" y="4805280"/>
                  <a:ext cx="47548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991760" y="4805280"/>
                <a:ext cx="1242720" cy="609480"/>
                <a:chOff x="4991760" y="4805280"/>
                <a:chExt cx="1242720" cy="609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107680" y="4805280"/>
                  <a:ext cx="1011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-2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91760" y="4805280"/>
                  <a:ext cx="1242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6234840" y="4805280"/>
                <a:ext cx="1189080" cy="609480"/>
                <a:chOff x="6234840" y="4805280"/>
                <a:chExt cx="1189080" cy="609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350760" y="4805280"/>
                  <a:ext cx="95760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234840" y="4805280"/>
                  <a:ext cx="1189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424280" y="4805280"/>
                <a:ext cx="1558080" cy="609480"/>
                <a:chOff x="7424280" y="4805280"/>
                <a:chExt cx="155808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539840" y="4805280"/>
                  <a:ext cx="13262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424280" y="4805280"/>
                  <a:ext cx="155808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236520" y="5414760"/>
                <a:ext cx="4754880" cy="625680"/>
                <a:chOff x="236520" y="5414760"/>
                <a:chExt cx="4754880" cy="6256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52440" y="5414760"/>
                  <a:ext cx="45230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š viso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6520" y="5414760"/>
                  <a:ext cx="47548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991760" y="5414760"/>
                <a:ext cx="1242720" cy="625680"/>
                <a:chOff x="4991760" y="5414760"/>
                <a:chExt cx="1242720" cy="625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07680" y="5414760"/>
                  <a:ext cx="1011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 Narrow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91760" y="5414760"/>
                  <a:ext cx="1242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234840" y="5414760"/>
                <a:ext cx="1189080" cy="625680"/>
                <a:chOff x="6234840" y="5414760"/>
                <a:chExt cx="1189080" cy="6256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350760" y="5414760"/>
                  <a:ext cx="95760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234840" y="5414760"/>
                  <a:ext cx="1189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7424280" y="5414760"/>
                <a:ext cx="1558080" cy="625680"/>
                <a:chOff x="7424280" y="5414760"/>
                <a:chExt cx="1558080" cy="6256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539840" y="5414760"/>
                  <a:ext cx="13262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24280" y="5414760"/>
                  <a:ext cx="155808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"/>
            <p:cNvSpPr/>
            <p:nvPr/>
          </p:nvSpPr>
          <p:spPr>
            <a:xfrm>
              <a:off x="228600" y="2057400"/>
              <a:ext cx="8762760" cy="3987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6FE-AD92-442B-80C2-CA687C7EB4F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grindinė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es A.F. Stoner, R.Edward Freman, Daniel R. Gilbert, Jr. Vadyba. Kaunas, Poligrafija ir informatika, 1999. 660 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vilas Zakarevičius, Vadyba: genezė, dabartis, tendencijos. Kaunas, Vytauto Didžiojo universiteta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. 225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raim Turban, Jack Meredith, Fundamentals of management science. Irwin, 1991. 1010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nius Neverauskas, Jonas Rastenis, Vadybos pagrindai. Kaunas, Technologija, 2001. 143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el A. Wren, The Evolution of Management Thought, John Wiley &amp; Sons, Inc. 1994. 466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629-4D17-4445-A314-B78802F187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Literatūra (papildom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Ramon J. Aldag,Timothy M. Stearns, Management. Cincinati, South-Western Publishing, 1991. 800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G.A. Cole, Management: Theory and Practice. London, Letts, 1996. 462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Fabijonas Saulius Butkus. Organizacijos ir vadyba. Vilnius, Alma Litera, 1996. 158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Jonas Kvedaravičius. Graičiūno vieta ir reikšmė vadybos raidoje. Kn.: Organizacijų vadyba: sisteminiai tyrimai, Nr.8. Kaunas, VDU. 1998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Michael H. Mescon, Michale Albert, Franklin Khedouri. Management. New York, Harper and Row Publishers, 1992. 700 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E28-3FFC-4FF7-9334-351F6AD762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2111040"/>
            <a:ext cx="785160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pažindinti su vadybos moksl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suteikti teorines žinias apie vadybos mokslo raid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ugdyti įgūdžius, įgalinančius analizuoti vadybos mokslo raidos tendencij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1DA-756D-46B4-A245-7A70D92D52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iksla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ažinti ir vertinti vadybos įtaką organizacijų ir pasaulio ekonomikos plėt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Verdana"/>
              </a:rPr>
              <a:t>pritaikant vadybos mokslinės minties istorinę patirtį, formuoti vadybos mokslo principų vieningą suvokim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F5D-ED28-4789-BE98-765A8D92A6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ištakos: ankstyvieji strateg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ų 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mokykla: F. Taylor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kslinio valdymo teorijos raida ir reikšmė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FB9-46B9-4210-82B1-3D302CD2CA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organizacijos teorijos mokykla: H. Fayol vadybos principa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as Lietuvoje: V. Graičiūno indėlis į klasikinės organizacijos teorijos raid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. Weber idealaus biurokrat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Klasikinės sociopsichologinė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710-EC10-4AC2-A415-9E4896E456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Žmogiškųjų santykių teorija: Hawthorne eksperimenta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Bihevioristinė mokykla: veiklos ir elgsenos motyv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Lyderiavi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Grupių elgsen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0E3-629E-48D4-8F4B-71924B1BFD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</a:t>
            </a: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Verdana"/>
              </a:rPr>
              <a:t>Tarpinis egzaminas (1-12 temo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Testas, sudarytas iš teorinių klausimų ir situacijos analizių (uždavinių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Atsiskaitymas vyksta raš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Konsultacijos teikiamos teorinių paskaitų ir pratybų met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30 proc. galutinio pažym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A65-B521-49B9-A1E2-146BAC7804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isuotinis dalyvavimas valdyme: partisipatyvinė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Vadybos mokslo mokykla: kiekybinės valdymo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Integratyvaus valdymo mokykl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Profesionalaus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D1B-8586-4B10-8286-4BDDA3DE1D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0000"/>
                </a:solidFill>
                <a:latin typeface="Verdana"/>
              </a:rPr>
              <a:t>Modulio turiny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Moderniosios vadybos teorijo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stem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avait</a:t>
            </a:r>
            <a:r>
              <a:rPr b="0" lang="lt-LT" sz="3000" spc="-1" strike="noStrike">
                <a:solidFill>
                  <a:srgbClr val="000000"/>
                </a:solidFill>
                <a:latin typeface="Verdana"/>
              </a:rPr>
              <a:t>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ituatyvinio valdymo teori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Verdana"/>
              </a:rPr>
              <a:t>Strateginio valdymo teorij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621-024C-4D10-8A56-6539D3FFC2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4:06Z</dcterms:modified>
  <cp:revision>17</cp:revision>
  <dc:subject/>
  <dc:title>Introduction to Management</dc:title>
</cp:coreProperties>
</file>