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017-0D13-4343-953B-91001E94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813-7F31-464E-B4DD-74C55B59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F6D-3724-4634-9B8D-0C982950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80F-9B3B-4C1F-A644-1B640216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6FF8-7B20-4B4A-BAA6-6FE9175A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E25B-35A5-4060-8D15-F7137CD4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D30B-03F6-4AE1-999C-6D692A42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8C12-6900-4CB4-9CBA-D9D04F36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0C27-75F4-4A04-A247-C77F626A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3FD1-EF4F-4A39-B8A2-496A4989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DA10-A6A0-4A6B-8049-23CBE360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40E-2E7F-4137-B822-C0A943ED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0612-4F49-4BE4-938F-F4E89E27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2405-21BB-4AD7-8CB4-66C78948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27BD-0A70-49F6-A12C-FCDF8144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0FBC-978C-4848-8833-FA6F288E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52C6-90E0-45B5-B85F-2C99E44B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EDD-1B41-4EE4-BF4D-A6ADEDEC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A02-C753-44B4-BA07-A6BA6733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3C98-3C4F-4E58-9D06-B65981FB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A17-3134-414A-8F7E-24C8747D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133-D29B-4B72-8266-F1C8E582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63F-3BC2-4EC5-AF8F-67A6D115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31C-54F6-4358-B985-303FA13A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EF44-AB49-4D20-84BC-CB1FA3FC02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3DCA-EE11-45C4-8E8E-4AAD58BBDB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samprata ir kategorij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6942-9DFF-45B7-98D4-21B5F14BE22B}" type="slidenum">
              <a:t>1</a:t>
            </a:fld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rezultat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100" spc="-1" strike="noStrike">
                <a:solidFill>
                  <a:srgbClr val="000000"/>
                </a:solidFill>
                <a:latin typeface="Tahoma"/>
              </a:rPr>
              <a:t>VALDYMO PRINCIPAI IR METODAI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700" spc="-1" strike="noStrike">
                <a:solidFill>
                  <a:srgbClr val="000000"/>
                </a:solidFill>
                <a:latin typeface="Tahoma"/>
              </a:rPr>
              <a:t>socialinėje organizacijoj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412-A768-4FD3-BF1B-4C27A70E9A9F}" type="slidenum">
              <a:t>10</a:t>
            </a:fld>
          </a:p>
        </p:txBody>
      </p:sp>
    </p:spTree>
  </p:cSld>
  <p:transition>
    <p:split dir="out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OS PRINCIP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rindinės taisyklės, elgesio normos, teiginiai, kuriais(iomis) remiantis reiktų atlikti valdymo veiklą organizacijose (efektyviai ir efektingai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D259-CFCC-4310-8D21-EB22B0F1862C}" type="slidenum">
              <a:t>11</a:t>
            </a:fld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OS PRINCIPŲ KLASIFIKAVI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al formuluojamų taisyklių pobūdį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rašomieji (rekomendacin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rodomieji (normatyvin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gal apimamų (vadybos) sričių platumą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ndriej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nkretū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C05-BDCA-43EC-9920-267BCB9BC148}" type="slidenum">
              <a:t>12</a:t>
            </a:fld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7E8-89F0-48FA-880D-80660A08F988}" type="slidenum">
              <a:t>13</a:t>
            </a:fld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pecifinė darbinės veiklos rūš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Procesas, apimantis konkrečias stadij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Tikslinė veikl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eikla, pagrįsta išteklia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eikla, orientuota į rezultat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Cikliška veikl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9E1-E87B-4C49-99D1-C03E01D43B73}" type="slidenum">
              <a:t>14</a:t>
            </a:fld>
          </a:p>
        </p:txBody>
      </p:sp>
    </p:spTree>
  </p:cSld>
  <p:transition>
    <p:split dir="out" orient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OCIALINĖ ORGANIZACI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truktūrizuota žmonių grupė, siekianti bendrų tiksl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prielaida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Atvira sistema: vidinė ir išorinė aplink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usideda iš valdymo ir valdomosios posistemių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9B9-B15B-4AA7-B556-7018D12E0FB8}" type="slidenum">
              <a:t>15</a:t>
            </a:fld>
          </a:p>
        </p:txBody>
      </p:sp>
    </p:spTree>
  </p:cSld>
  <p:transition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OCIALINĖS ORGANIZACIJOS APLINK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ahoma"/>
              </a:rPr>
              <a:t>TIESIOGINIO POVEIK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idiniai veiksni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Išoriniai veiksni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ahoma"/>
              </a:rPr>
              <a:t>NETIESIOGINIO POVEIKIO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2758-EE18-499E-8A16-8C1772D27618}" type="slidenum">
              <a:t>16</a:t>
            </a:fld>
          </a:p>
        </p:txBody>
      </p:sp>
    </p:spTree>
  </p:cSld>
  <p:transition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FUNKCIJ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veiklos turiny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Darbo pasidalijimo valdyme rezulta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avarankiškos valdymo veiklos daly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Objektyvios, specializuotos valdymo veiklo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veiklų atlikimas valdymo srityse sudaro valdymo veiklos turinį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04D-2204-4BF2-ABA4-1268129B6D5C}" type="slidenum">
              <a:t>17</a:t>
            </a:fld>
          </a:p>
        </p:txBody>
      </p:sp>
    </p:spTree>
  </p:cSld>
  <p:transition>
    <p:split dir="out" orient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VALDYMO PERSONALA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Valdymo veiklos subjekta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000" spc="-1" strike="noStrike">
                <a:solidFill>
                  <a:srgbClr val="000000"/>
                </a:solidFill>
                <a:latin typeface="Tahoma"/>
              </a:rPr>
              <a:t>Žmonės, atliekantys valdymo veikl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714-994C-4872-894E-D10DD9259D36}" type="slidenum">
              <a:t>18</a:t>
            </a:fld>
          </a:p>
        </p:txBody>
      </p:sp>
    </p:spTree>
  </p:cSld>
  <p:transition>
    <p:split dir="out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LDYMO PERSONAL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DOVAI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SPECIALIST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APTARNAUJANTIS PERSONALA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3C4-C581-4981-9965-E0B037146543}" type="slidenum">
              <a:t>19</a:t>
            </a:fld>
          </a:p>
        </p:txBody>
      </p:sp>
    </p:spTree>
  </p:cSld>
  <p:transition>
    <p:split dir="out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3880" y="2363400"/>
            <a:ext cx="7629480" cy="374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siaiškinti vadybos sampratą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siaiškinti vadybos mokslo tikslus, objektą ir rezul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rėžti vadybos mokslo terminij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302-1171-4ACE-9495-C1208E841E00}" type="slidenum">
              <a:t>2</a:t>
            </a:fld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METOD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veiklos</a:t>
            </a: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 atlikimo būda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Konkretizuoja valdymo veiklą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Pagrįsti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funkcij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sr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dov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dovavimo stilia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Vadybos mokslo rezultat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722-3312-44D1-B7B1-B13129A171EA}" type="slidenum">
              <a:t>20</a:t>
            </a:fld>
          </a:p>
        </p:txBody>
      </p:sp>
    </p:spTree>
  </p:cSld>
  <p:transition>
    <p:split dir="out" orient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Vadybos mokslo terminija – pagrindinės kategorijo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ORGANIZACINĖ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DYMO </a:t>
            </a: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STRUKTŪRA (OV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Valdymo veiklos</a:t>
            </a: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 atlikimo for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Konkretizuoja valdymo veiklą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ahoma"/>
              </a:rPr>
              <a:t>Charakteristika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Santykinai savarankiški elementa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funkcijų pasidalijim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Formalių ryšių visum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Valdymo grandžių ir lygių visu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ahoma"/>
              </a:rPr>
              <a:t>Organizacijos veiklų koordinavim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3EF-918B-4E12-9705-E7053C7C6CCC}" type="slidenum">
              <a:t>21</a:t>
            </a:fld>
          </a:p>
        </p:txBody>
      </p:sp>
    </p:spTree>
  </p:cSld>
  <p:transition>
    <p:split dir="out" orient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Klausimai diskusij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44760" y="2017440"/>
            <a:ext cx="38098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uo skiriasi “vadyba” nuo “valdymo”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a mokslas ar men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BD04924_" descr=""/>
          <p:cNvPicPr/>
          <p:nvPr/>
        </p:nvPicPr>
        <p:blipFill>
          <a:blip r:embed="rId1"/>
          <a:stretch/>
        </p:blipFill>
        <p:spPr>
          <a:xfrm>
            <a:off x="1562040" y="2017800"/>
            <a:ext cx="3051360" cy="377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BDE-9D7C-402A-861E-232B5FE9FEEC}" type="slidenum">
              <a:t>22</a:t>
            </a:fld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A mokslas ar mena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sl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omasi iš vadovėlių, mokytojų ir aplinkos (IŠSILAVINIM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ritaikomas mokslas kintant sąlygoms (PATIRT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okslo ir meno vertė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inių ir patirties sintezė įgalinanti prognozuoti ateities įvyki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023F-A981-4523-9AD7-D5ABDFFCFE94}" type="slidenum">
              <a:t>23</a:t>
            </a:fld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Arial"/>
              </a:rPr>
              <a:t>Kodėl studijuoti vadybą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prasti kaip organizacijos valdom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irengti valdyti arba būti valdom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BD06663_" descr=""/>
          <p:cNvPicPr/>
          <p:nvPr/>
        </p:nvPicPr>
        <p:blipFill>
          <a:blip r:embed="rId1"/>
          <a:stretch/>
        </p:blipFill>
        <p:spPr>
          <a:xfrm>
            <a:off x="1182600" y="2422440"/>
            <a:ext cx="381024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5EC-0A62-4686-9EC2-0464C9385322}" type="slidenum">
              <a:t>24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VADYBA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 –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.A. Graičiūnas, 1935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.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mokslinė vadybos ir visuminė valdymo veiklos sampra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428-9464-45CC-864C-39F01DABDF5A}" type="slidenum">
              <a:t>3</a:t>
            </a:fld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Keturios “</a:t>
            </a:r>
            <a:r>
              <a:rPr b="1" lang="lt-LT" sz="4000" spc="-1" strike="noStrike">
                <a:solidFill>
                  <a:srgbClr val="333399"/>
                </a:solidFill>
                <a:latin typeface="Tahoma"/>
              </a:rPr>
              <a:t>vadybos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”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management)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amprato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53452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os nariai, kurie priima esminius sprendimus susijusius su organizacijos veikla. (Šiuo atveju priimtina tik Amerikos vadybinėje kalboj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)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inios, sukauptos mokslinių tyrimų ir praktinių stebėjimų met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6FC-A105-44EF-ACC9-705FAD9CF50F}" type="slidenum">
              <a:t>4</a:t>
            </a:fld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Keturios “</a:t>
            </a:r>
            <a:r>
              <a:rPr b="1" lang="lt-LT" sz="4000" spc="-1" strike="noStrike">
                <a:solidFill>
                  <a:srgbClr val="333399"/>
                </a:solidFill>
                <a:latin typeface="Tahoma"/>
              </a:rPr>
              <a:t>vadybos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”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management) </a:t>
            </a:r>
            <a:r>
              <a:rPr b="0" lang="lt-LT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samprato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)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aktinis mokslinių studijų taikymas specifinių vadybinių problemų sprendimu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)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os veiklų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planavimo, organizavimo, vadovavimo ir kontrolė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procesas sisteminiu būdu siekiant organizacijos tikslų. (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šaltini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 Ramon J. Aldag, Timothy M. Stearns, Management, 1991 South Western Publishing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ai klasikinė samprata reiškianti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minę organizacijos valdymo veiklą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203-BC79-40AC-AC28-473B69AFF3EE}" type="slidenum">
              <a:t>5</a:t>
            </a:fld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8029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vi 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“VADYBOS”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sampratos pu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ė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apsmas vadovu priklauso nuo vadybinių žinių ir praktinių įgūdžių. …šiuo atveju galima kalbėti apie “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” kaip apie mokslą (discipliną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adovo veikla gali būti sistemiškai analizuojama ir klasifikuojama. …aišku, kad reikia iškirti profesinius ir mokslinius “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” aspektu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šaltini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Peter F. Druker An Introductory View of Management, 197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085-5D4F-4A17-945B-DE8AC2F3137C}" type="slidenum">
              <a:t>6</a:t>
            </a:fld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Mokslas apie socialinių organizacijų, sistemų valdym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Praktinių valdymo metodų ir tradicijų, būdingų kokiam nors istoriniam laikotarpiui ar šaliai, visuma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51C-B03F-4B47-A8A3-9D71EAB96C59}" type="slidenum">
              <a:t>7</a:t>
            </a:fld>
          </a:p>
        </p:txBody>
      </p:sp>
    </p:spTree>
  </p:cSld>
  <p:transition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Suformuoti efektyvius valdymo metodu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Nurodyti efektingas organizacijos plėtros krypti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Padėti organizacijoms prisitaikyti prie dinamiškai kintančios aplinkos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51F-8552-413A-9B09-272DF447086D}" type="slidenum">
              <a:t>8</a:t>
            </a:fld>
          </a:p>
        </p:txBody>
      </p:sp>
    </p:spTree>
  </p:cSld>
  <p:transition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dybos mokslo objekt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100" spc="-1" strike="noStrike">
                <a:solidFill>
                  <a:srgbClr val="000000"/>
                </a:solidFill>
                <a:latin typeface="Tahoma"/>
              </a:rPr>
              <a:t>VALDYMO VEIKLA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700" spc="-1" strike="noStrike">
                <a:solidFill>
                  <a:srgbClr val="000000"/>
                </a:solidFill>
                <a:latin typeface="Tahoma"/>
              </a:rPr>
              <a:t>socialinėje organizacijoje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TR, 2005 Nerijus Pačėsa, D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1E5-EE51-47CB-9EFC-FE7AD93A4945}" type="slidenum">
              <a:t>9</a:t>
            </a:fld>
          </a:p>
        </p:txBody>
      </p:sp>
    </p:spTree>
  </p:cSld>
  <p:transition>
    <p:split dir="out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3:40Z</dcterms:modified>
  <cp:revision>22</cp:revision>
  <dc:subject/>
  <dc:title>Introduction to Management</dc:title>
</cp:coreProperties>
</file>