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3C3-B910-4EE5-AFA7-3F66345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9FE-C21B-4F9C-8A0C-DC5FD835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137-6DAF-47EE-88ED-1A2828DB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30C-4856-45ED-A71D-CBBAF3C1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86B0-AAE9-4138-9D55-BDDEB138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A37-629A-4BB2-8B3D-792135F8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18D9-CC3B-4D60-8960-D522A45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E0BE-D998-4FE6-85EE-2E968082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75A-4DBA-404E-8D60-A3F9B92F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139A-0FD2-4CD5-8BA0-271B7A8F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2167-1669-4A3A-BBC6-AFBE02F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D95-9199-41FD-A18E-56355D1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D1F-A2F7-4437-98F7-4AE26240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C21-B02D-40F7-B4E0-6E160F6A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FEC8-351F-4344-BB98-08B07DD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3068-FE63-492A-A941-AB81187A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8171-A341-48A3-82A9-EEBE3322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8E3-A50D-4771-9701-F1A30AE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77D-CD9C-4D0B-A26C-87F10B43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413-2DF2-4F70-8C33-23E46FD6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8D8-98AB-44C4-A5FA-FEC304CE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AAC-C75D-4272-8EF7-A3D5493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0B0-B78F-4C60-9E1F-ACFC67A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C70-E368-47BE-9028-5F1F9B49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7936-B670-4382-8333-A434DD346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817-657F-451E-A5E0-B28909E769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0B03-F9E5-4E9C-A25A-CF054214BCD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nės valdymo struktūros svarba (T. Burns, G. Stalk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36460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irmą kartą vadyboje panaudoti terminai: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valdymo struktūr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Mechanist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yra labiau biurokratizuota, aiškiai nustatytos padalinių funkcijų ribos, reglamentuota veikla taisyklėmis. Tokia struktūra yra “kieta” ir nelankst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Organinė valdymo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abiau grįsta žmogiškaisiais santykiais, funkcijas derinant prie kompetencijų, lanksčiai reaguojant į aplinkos pokyčius ir organizacijos poreikiu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FF9-62B4-43BD-9725-AA63F2DE68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kirtingi požiūriai į organizacijos  struktūr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057400"/>
            <a:ext cx="205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2819520"/>
            <a:ext cx="0" cy="3733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2767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819520"/>
            <a:ext cx="228600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Ai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hierarch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038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733920"/>
            <a:ext cx="2286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ustaty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re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76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4572000"/>
            <a:ext cx="228600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386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10080"/>
            <a:ext cx="22860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6553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6324480"/>
            <a:ext cx="228600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981080"/>
            <a:ext cx="205740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514600"/>
            <a:ext cx="0" cy="4114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819520"/>
            <a:ext cx="259056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Bendradarbi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4038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733920"/>
            <a:ext cx="25905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taik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b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i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4876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4572000"/>
            <a:ext cx="2590560" cy="6858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orm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5410080"/>
            <a:ext cx="2514600" cy="6858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Nefor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komun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00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6248520"/>
            <a:ext cx="25905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5F2-C0E0-4263-AEDE-B4E2D44E97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812960" y="167652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1981080"/>
            <a:ext cx="52671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rbuotojų charakteristi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243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silav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895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276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dovavimo stil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6576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-autoritar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419112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rjeros lūkesč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41148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495680"/>
            <a:ext cx="16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495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5029200"/>
            <a:ext cx="22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gūdž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33412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86600" y="525780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57564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ir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606096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a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601992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2B8-15DE-482F-9535-007B3E97EC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id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270160" y="18702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09000" y="1870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65040" y="27082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Y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5800" y="31654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19200" y="31654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8862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430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LEK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520" y="4994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917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57913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935-E8B7-47F0-80DB-F655B07ECE6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šoriniai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21747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chanist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2680" y="21747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2936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KLAUSOM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0520" y="3394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90600" y="3470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038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OLOG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4572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utinin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572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sikeičianč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533412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INKOS DINA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32360"/>
            <a:ext cx="10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Ž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92400" y="5756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k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735-8FB8-41BE-994E-6BFEBC0E6D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aplinkos įtaka organizacijos valdymui bei vadybos metodų būtinybė prisitaikant prie besikeičiančios aplinko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leista struktūros įtaka ir galimybės organizacijai prisitaikant prie aplinkos pokyčių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os mechanistinės ir organinės organizacijos koncepcijos bei jų įtaka organizacijos gebėjimams reaguoti į aplinkos pokyči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5D2-49C0-45F4-88D9-5ABBCC2CB4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03D-1D48-4590-9095-110BA5295D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etodų nelankstumas bei taikymo ribotumai skatino ieškoti naujų vadybos princip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latinė situacijų kaita sąlygojo poreikį ieškoti metodų, leidžiančių valdyti organizacijos tokių pokyčių konteks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3FD-D9D4-4175-9080-7EF158B756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3C8-A569-49AD-AF2D-C7D1083141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P. Lawre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Lor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R Mockl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. Bur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G. Stalker ir kit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BF0-3E35-4967-BE6C-206AC3325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cijų analizės princip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id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diferenciacijos (atskirų organizacijos struktūrinių padalinių įtakos situacijai) ir integracijos (organizacijos kaip visumos galimybės įtakoti situaciją) lygio nustaty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Išorinės aplinkos analizė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os išorės veiksnių įtakos nustatymas bei iš jos kylančių galimybių ir grėsmių įvertin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2B6-1FA7-463D-A214-EDDA55360B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Diferenciacija / integracija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iferenci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sąlygota skirtingų padalinių specializacijos, požiūrių, tikslų, struktūrų  skirtingumų. Tai veiklos skirtingumų sąlygoti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adalinių bendradarbiavimo kokybės laipsn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o diferenciacijos ir integracijos laipsnio priklauso organizacijos galimybės reaguoti į aplinkos pokyčius ir valdyti situac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375-19E9-4A7F-A131-8573DA248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yrimų išvados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P. Lawrence, J. Lorsch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namiškesnė aplinka tuo didesnio diferenciacijos ir integracijos laipsnio reikia sėkmei pasiek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tabilesnė aplinka reikalauja mažesnio diferenciacijos bet vis dar aukšto integracijos laipsn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uo didesnis diferenciacijos laipsnis, tuo didesnė vidinių konfliktų grėsmė ir mažesnė jų sprendimo galimybė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Esant dideliam netikrumo laipsniui, integracija užtikrinama vidurinės grandies vadovų; esant stabiliai aplinkai, integracija užtikrinama aukščiausio lygio vadov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B70-A0A8-4AD5-B1C9-D4CBB70779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Situatyvinio nagrinėjimo žingsniai</a:t>
            </a:r>
            <a:br>
              <a:rPr sz="4000"/>
            </a:b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(R. Mockler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ituacijos diagno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priežasčių nustatymas ir tikslų formulav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Priežasčių anali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įtakojančių veiksnių diferencijavimas ir įvertin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Veiksmų alternatyvų numa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galimų veiksmų būdų nustat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ternatyvų įvertinimas ir pasirink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tinkamo sprendimo suradi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prendimo realizavimo plano sudary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02C-4203-46D4-97F8-5D37521E68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0:19Z</dcterms:modified>
  <cp:revision>47</cp:revision>
  <dc:subject/>
  <dc:title>Introduction to Management</dc:title>
</cp:coreProperties>
</file>