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387-C036-4E79-B3EC-A1A76F19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539-685E-4044-9C0E-F287F093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37A-F80B-422B-BEE7-DEB9233E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46A-C360-464F-B3CA-B0C2B5A2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534-7DCD-4AD8-B3A5-4263FD74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01B8-95C9-4B17-8740-969B475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58E9-08BA-4ABE-AD36-3C33C6A9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069D-7B2D-4432-B47C-35EBE3D9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9E19-B6CB-4253-A477-0A7A571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A5E-FE07-4A37-AA39-372E5B7B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7450-9586-48E3-A184-4B5BF3C4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AB4-12E8-4310-AB6C-7211D927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7158-4E9A-4346-BEAD-79BD4B3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7F3-0A26-4D6C-95A0-7FC5DE92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4983-598D-4374-953B-C1C29ED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90F-EE4C-436C-8E42-0FE9075E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B045-D074-4BC0-A71C-C8A1BBAF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DF8-1A7F-4D6D-9CF1-9532C68C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8BC-115B-4E5E-BC60-A9B8CBE0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55DD-4C9F-4255-B0E5-69D9A81B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5CC-6D0E-47E4-810C-B0D4827F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210-436F-4CAC-862E-2440633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E76-8490-4FD8-99A1-96BD0649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5A4-A8D8-4A22-9B6C-36D96F54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6FE3-AE3B-46E3-8FE9-67417CA9DB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A4D-A893-4303-A4B5-0269D9C2A1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0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49EC-C3E7-4A3C-9ABD-1C14ABE818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rįžtamasis ryš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alanso tarp veiklos ir aplinkos palaik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ferenciacija – veiklų specializacija ir vaidmenų multi-funkcišku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eiklų įvairovė – įvairūs būdai tikslams pasiekti. (“Equifinality”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L. Bertalanfi, 194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47E-6642-4846-91C5-19F8E175F4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veiklos kintamiej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n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echnologi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truktū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lin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660-C312-45BB-BE79-D8EC5642E0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plinkos charakteristiko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Emery ir Trist (1965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atsitiktinė – nekintanti ir homogeniška, poreikiai atsitiktinai išsibarstę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stovi, koncentruota - nekintanti, poreikiai koncentruo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intanti, reaktyvi – didelė konkurencija ir lanksti konkurentų reakci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Dinamiška – sparčiai kintanti, reikalaujanti ypač didelio prisitaikomumo, kad išgyven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548-B6EB-4E5F-8564-2A9B730BEB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a yra socialinė – ekonominė siste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Social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žmonių grupė, kuriuos sieja bendri tikslai, interesai, bendradarbiavimo ryš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Ekonominė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organizacija yra vieta, kur fizinio kapitalo santykio su darbo jėga rezultate gaunamas produktas, atnešantis ekonominę naud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6E0-0A51-45E7-97A8-FA304A2DEE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os posistemės</a:t>
            </a:r>
            <a:br>
              <a:rPr sz="4400"/>
            </a:b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Katz ir Kahn (196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myb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amos (išteklių ir rezultatų paskirstymas, išoriniai ir vidiniai ryš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tarnavimo (stabilumą užtikrinanti posistemė, darbuotojų darbo turinio nustatymas, atlygis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itaikymo (gebėjimai atpažinti ir reaguoti į pokyčius, marketingas, tyrimai ir pan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ymo (koordinavimas ir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1C8-E8BE-489B-84B3-E0C8481827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Organizacijos sisteminė sandar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Gamyb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gamyb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Komerc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komerc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Ekonom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finansinei - ekonom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– technolog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techninei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Socialinė posistem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, organizacijos personalo valdymo ir darbo organizavimo funkcijai realizuot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405-3633-4EA8-9109-D2822043C4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jos sisteminis valdyma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2174400"/>
            <a:ext cx="84186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ymo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vykdanti dvejopo pobūdžio funkcij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tskirų organizacijos procesų (posistemių) valdymo funkcija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endrąsias valdymo ciklo funkcijas (planavimas, organizavimas, vadovavimas, kontrolė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Valdomoji sistem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, integruotai realizuojanti atskirus organizacijos proce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025-8542-486E-8492-04140CE04D2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taikytas sisteminis požiūris organizacijų valdym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i esminiai sisteminio valdymo bruožai ir elementa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a organizacija, kaip atvira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Įvardinti ir apibūdinti atviras sistemas įtakojantys veiksni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Nustatytos ir apibrėžtos organizacijos posistemės ir jų sąveikos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8B2C-7180-47B3-86D1-714D5B5155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stemin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ės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B93-E808-4E3F-B023-C7869ADB58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šaugo organizacijų įvairov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lobalių korporacijų valdymas iškėlė naujus vadybos iššūki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isteminio požiūrio populiarėjimas, analizuojant kitas, su vadyba nesusijusias sr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ų integracijos problemos skatino ieškoti naujų būd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E1C-8DDB-451C-82EA-4617A19453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810-3EB0-498A-8186-6832DFDEA5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Sistemos sampr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a – tarpusavyje susijusių elementų visuma, veikiančių kar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Atvi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Užda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istemos dažnai dalomos į posistemes – autonomiškai veikiančias sistemas vienos sistemos viduje, užtikrinant visos sistemos gyvavi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osistemių ribos nėra matomos – jos yra pagrįstos ryšiais tarp posistemi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81C-44DB-446E-8A37-83F3C1122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1240" y="380880"/>
            <a:ext cx="7845480" cy="5607000"/>
          </a:xfrm>
          <a:prstGeom prst="ellipse">
            <a:avLst/>
          </a:prstGeom>
          <a:gradFill rotWithShape="0">
            <a:gsLst>
              <a:gs pos="0">
                <a:srgbClr val="23238d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1218960" cy="68580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5562720"/>
            <a:ext cx="60948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62720"/>
            <a:ext cx="685800" cy="457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57560" y="385128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5199120"/>
            <a:ext cx="457200" cy="8668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29400" y="2962440"/>
            <a:ext cx="2133720" cy="2552400"/>
            <a:chOff x="6629400" y="2962440"/>
            <a:chExt cx="2133720" cy="2552400"/>
          </a:xfrm>
        </p:grpSpPr>
        <p:sp>
          <p:nvSpPr>
            <p:cNvPr id="116" name=""/>
            <p:cNvSpPr/>
            <p:nvPr/>
          </p:nvSpPr>
          <p:spPr>
            <a:xfrm>
              <a:off x="6629400" y="3494160"/>
              <a:ext cx="213372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roduk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aslau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Pel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Nuostol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29400" y="2962440"/>
              <a:ext cx="213372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Rezultat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520" y="2962440"/>
            <a:ext cx="2133360" cy="2552400"/>
            <a:chOff x="533520" y="2962440"/>
            <a:chExt cx="2133360" cy="2552400"/>
          </a:xfrm>
        </p:grpSpPr>
        <p:sp>
          <p:nvSpPr>
            <p:cNvPr id="119" name=""/>
            <p:cNvSpPr/>
            <p:nvPr/>
          </p:nvSpPr>
          <p:spPr>
            <a:xfrm>
              <a:off x="533520" y="3494160"/>
              <a:ext cx="2133360" cy="20206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Žmonė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Medžiag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Kapital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uomeny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962440"/>
              <a:ext cx="2133360" cy="55872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Ištekli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09680" y="5746680"/>
            <a:ext cx="4876920" cy="42552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16440"/>
            <a:ext cx="475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įžtamasi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71800"/>
            <a:ext cx="895320" cy="890640"/>
          </a:xfrm>
          <a:prstGeom prst="rightArrow">
            <a:avLst>
              <a:gd name="adj1" fmla="val 50000"/>
              <a:gd name="adj2" fmla="val 25150"/>
            </a:avLst>
          </a:prstGeom>
          <a:gradFill rotWithShape="0">
            <a:gsLst>
              <a:gs pos="0">
                <a:srgbClr val="7e7e32"/>
              </a:gs>
              <a:gs pos="50000">
                <a:srgbClr val="ffff66"/>
              </a:gs>
              <a:gs pos="100000">
                <a:srgbClr val="7e7e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11560" y="2935440"/>
            <a:ext cx="2797200" cy="2624040"/>
            <a:chOff x="3211560" y="2935440"/>
            <a:chExt cx="2797200" cy="2624040"/>
          </a:xfrm>
        </p:grpSpPr>
        <p:sp>
          <p:nvSpPr>
            <p:cNvPr id="125" name=""/>
            <p:cNvSpPr/>
            <p:nvPr/>
          </p:nvSpPr>
          <p:spPr>
            <a:xfrm>
              <a:off x="3211560" y="3483000"/>
              <a:ext cx="2797200" cy="207648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Valdym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Darbuotoja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Technolog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>
                  <a:solidFill>
                    <a:srgbClr val="000000"/>
                  </a:solidFill>
                  <a:latin typeface="Arial"/>
                </a:rPr>
                <a:t>Operacij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11560" y="2935440"/>
              <a:ext cx="2797200" cy="574560"/>
            </a:xfrm>
            <a:prstGeom prst="rect">
              <a:avLst/>
            </a:prstGeom>
            <a:gradFill rotWithShape="0">
              <a:gsLst>
                <a:gs pos="0">
                  <a:srgbClr val="b1b146"/>
                </a:gs>
                <a:gs pos="50000">
                  <a:srgbClr val="ffff66"/>
                </a:gs>
                <a:gs pos="100000">
                  <a:srgbClr val="b1b1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Transformacij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692360" y="992160"/>
            <a:ext cx="652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rganizacijos aplin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1905120"/>
            <a:ext cx="3810240" cy="838080"/>
          </a:xfrm>
          <a:prstGeom prst="rect">
            <a:avLst/>
          </a:prstGeom>
          <a:gradFill rotWithShape="0">
            <a:gsLst>
              <a:gs pos="0">
                <a:srgbClr val="b1b146"/>
              </a:gs>
              <a:gs pos="50000">
                <a:srgbClr val="ffff66"/>
              </a:gs>
              <a:gs pos="100000">
                <a:srgbClr val="b1b1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vir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64E-3417-493F-B13B-EF0ECC3D96C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a – atvira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una išteklius iš aplink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Transformuoja juos į rezultatu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 rezultatus aplink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19A-7EB0-4ACE-A336-177CF7609F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tz; Kah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L. Bertalanf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. Rappo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. Bou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. Si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J.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M. Bla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W. Scott ir k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16B-5E86-495F-A04B-B48653A075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rganizacijų – kaip atvirų sistemų charakteristikos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nergijos ir skatinimo svarba (žmonės, medžiag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edžiagų konversijos procesai ir su tuo susiję darbinės veik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iduodami produkt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ocesų ciklišku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Negatyvi atrof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Katz and Kahn, 1966m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943-A33C-462F-9C56-1A484A9417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54Z</dcterms:modified>
  <cp:revision>48</cp:revision>
  <dc:subject/>
  <dc:title>Introduction to Management</dc:title>
</cp:coreProperties>
</file>