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2B9-CD86-4051-875C-0233A8B2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9C3-3764-41A1-8B49-3CCCF377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4E4-9677-4589-B8F2-6EEB9765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DE8-A8BC-4B72-95AB-75ECE8CC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142B-3EB6-415D-84BA-19CB50FD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C845-F843-4CA5-9A0F-3F577DFD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B0EA-3C0D-4AD2-9147-12079394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2E6B-5DD0-42B5-828A-B283F8B4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87F5-F2F7-474D-B0BB-A83AE100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D32E-1393-47B4-B433-7AD6D6EE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E4B2-D50A-4F6F-B6C0-7A5D7F4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74D-C1DF-4362-B2C6-407EB07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1D38-64F5-4C4E-BCA6-86DE5E7A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DACE-CE37-4AA3-A2D6-341C15C1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A31C-FB36-48AA-B7A2-04DECBB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FD48-C50B-4B92-80AE-999B272D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5028-D11B-459A-B645-0003FCDC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8FB-94FE-44F3-BD84-196D7E5B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FC1-7C96-4FE5-9865-A8B05764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4E0-529E-4C45-A8F4-7B884051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296-DE0B-41B0-83BE-912AC80A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4EC-5DF6-4B5C-A0A2-F87BE912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8FE-12D0-4A95-B77F-10470F30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895-5657-43D8-B97E-85A236F5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0A3C-4C55-4040-B4DA-F0124B6C80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382F-2B9A-4964-B6C7-93F7AC9822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oderniosios vadybos teorij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7CED-2F64-45AF-A3B6-0FB40DCAA0E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ėkmingų organizacijų teorijo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 valdymas kompleksinis, integruotas daugybės vadybos sudėtinių elementų realizavimas, siekiant organizacijos tikslų ir sėkmingos veikl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041-F6EA-472F-B38C-DE5B629AD4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os klasikinės vadybos teorijos ir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s kompleksinio valdymo metodų taikymas, taigi ir vadybos teorijų studijavimo, poreiki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ybos mokslas tapo svarbia, būtina, objektyviai neišvengiama socialinių mokslų visumos dalim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FCDF-34B7-4A14-BB94-5B89E73710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ųjų vadybos teorijų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D4E-DDBE-4ADD-9239-6E8B9A5365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3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B73-5F04-49B8-89D3-AFF805FCFF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Teorijo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6800" y="2239920"/>
            <a:ext cx="749124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tuatyv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Tikslinio valdymo teorija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isteminė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Organizacinio vystymo ir strateginio valdymo teori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416160" indent="-41616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ėkmingų organizacijų teorijo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EF9-2924-4A3F-A690-026D9AAF6B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333399"/>
                </a:solidFill>
                <a:latin typeface="Tahoma"/>
              </a:rPr>
              <a:t>Situatyvinė teorij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ose dažnai pasitaiko analogiškos situacijos, kurių sprendimui gali būti naudojami tipiniai sprendimų metodai. Todėl svarbu aprašyti tuos metodus, sisteminti ir skleisti, padedant efektyviai valdyti organiza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94E-DD4B-4658-ABD7-80FD6BE535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5F6-B122-464A-AF22-A1413F249D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Sisteminė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yra atvira socialinė sistema sudaryta iš posistemių, kurių veikla tarpusavyje susijusi. Tik kiekvienai iš posistemių veikiant nepriekaištingai ir suderintai su kitomis posistemėmis organizacija, kaip sistema gali veikti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EE0-3F4D-4A00-8CD5-A0CC489075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Organizacinio vystymo ir strateginio valdymo teorija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Organizacija veikia nuolat besikeičiančioje aplinkoje. Tokios sąlygos verčia keisti požiūrį į valdymą, kad tai nėra periodinių ar vienkartinių veiksmų seka, tačiau nuolatinis, tęstinis procesas, orientuotas į ilgalaikę perspektyv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20D-9BA1-460B-BF99-394F6B63DB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Strategi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2060640"/>
            <a:ext cx="6553080" cy="29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Organizacijos veiklos ir gyvavimo tolimesnėje ateityje perspektyvinis mode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1A4-D91A-42C0-9401-B2CBD7B15B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1:21Z</dcterms:modified>
  <cp:revision>47</cp:revision>
  <dc:subject/>
  <dc:title>Introduction to Management</dc:title>
</cp:coreProperties>
</file>