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7CEA-8222-4448-BB05-4FB0764F19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59CA1-F6CD-4EB9-A22B-2196FB20C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16000" y="650880"/>
            <a:ext cx="4632480" cy="34732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5480" y="4341960"/>
            <a:ext cx="5032440" cy="41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F5A4-6E9D-46D6-9D02-B63BC019E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4DA7-AD72-4C6B-ACEE-B7A62CBBD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2F89-D087-4EAD-BDAB-F6FA9B7CF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AFAC-0791-4DDA-98A7-3EF728A15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E9982-667D-4F5C-9396-4E74230B1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DF325-BFC8-466A-91AA-52AE1FCD4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DD14F-C4F7-4C21-BDB2-51B29C659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E738C-4F7D-491D-9528-BEEACE63C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2B0CD-ABCB-4EC8-B824-CE5DE59EA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9F47C-D00B-4FC4-A164-080ADA556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F305B-0C87-4DF7-942A-11490BC3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5C90-01A2-434B-B918-CF6280991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5752E-08C4-4972-A603-ECD2D6DB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58DF4-1444-46F1-844E-276E3884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E21C4-5ADC-4EED-BEC1-D8C400382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599B7-B8F6-409E-B564-C09396CC6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91C1D-95A7-4CC7-857E-03729D6FA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A183-990C-4F1F-9BCD-59138A3E4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671F-71FD-42A7-A6DB-F820E3BBB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A663-FC99-47C0-B32E-653E69B96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5D2F-0E75-42C1-B37D-2BE037753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BEAC-5941-477B-8B0C-994A4545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D3ED-3537-4327-B931-4C52850C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1F3B-9D60-4F35-ABFD-06462603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2CB36-9929-4165-B0C0-BDF9954B722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A5ACC-59E7-4E67-8728-AFBD7F63951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34544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Tikslinio valdymo teori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5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CFEE0-46C2-4CC5-9AFD-730F093E7676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BO problem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neadekvati top valdymo lygmens para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neprofesionaliai suformuluoti tiksl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neadekvatus pažangos monitoring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daug popierinio darb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laikui imlus darb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57F9-BCB8-47F4-8F94-602F8BE6434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Planavimo efektyvum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9640" y="1905120"/>
            <a:ext cx="799488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Efektyvinti kompanijoje naudojamus metodus, technikas, priemones ir sistemas. Pokyčiai ir nauji būdai didina klaidos tikimyb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Skatinti dalyvavimą planavime. Kuo daugiau organizacijos žmonių dalyvauja tuo didesnis lojalumas ir pasitikėjimas užtikrinam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Efektyvinti komunikaciją ir didinti informuotumą. Tikslų ir veiklų sąveikos suvokimas svarbus planavimo sėkme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52B4-BC3E-4716-858F-E690E0123B9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Nuopelnai vadybos mokslu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Integruoti individualių ir organizacijos tikslų derinimo požiūriai bei pritaikyti šiuolaikinėms organizacijų veiklos sąlygom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Išryškinta darbuotojų dalyvavimo planavime ir tikslų nustatyme svarba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Išplėtota “tikslo nuosavybės” koncepcija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Suformuota MBO samprata bei nustatyti tikslinio valdymo organizacijose principa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10D5-C41F-4CE5-B204-86F845D83D8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Paskaitos tiksl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50640" y="2363760"/>
            <a:ext cx="7635960" cy="374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pibūdint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ikslinio valdymo teorijos susiformavimo prielaid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Pristatyti pagrindinius autori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pžvelgti jų nuopelnus vadybos mokslui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8183-A209-43D3-8857-E3E6CDF0154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Brush Script MT"/>
              </a:rPr>
              <a:t>Prielaidos</a:t>
            </a:r>
            <a:r>
              <a:rPr b="0" lang="en-US" sz="4000" spc="-1" strike="noStrike">
                <a:solidFill>
                  <a:srgbClr val="333399"/>
                </a:solidFill>
                <a:latin typeface="Brush Script MT"/>
              </a:rPr>
              <a:t> 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Išaugo organizacijų įvairovė, o tuo pačiu daugėjo ir valdymo problemų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Aplinka keičiasi vis sparčiau, todėl reikia naujų vadybos metodų prisitaikant prie besikeičiančios aplink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Sparčiai keičiasi žmonių poreikiai, taigi ir motyvavimo veiksniai, kas reikalauja naujų motyvavimo metodų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Organizacijų veikla tampa ypač priklausoma nuo žinių ir informacij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Vadovavimas žmonėms ir įtraukimas į valdymą tampa vis svarbesniu vadybos objekt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29AB-1371-4441-B9D2-45A0AB62100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3399"/>
                </a:solidFill>
                <a:latin typeface="Tahoma"/>
              </a:rPr>
              <a:t>Tikslinio valdymo teorija</a:t>
            </a:r>
            <a:br>
              <a:rPr sz="3600"/>
            </a:br>
            <a:r>
              <a:rPr b="0" lang="lt-LT" sz="3600" spc="-1" strike="noStrike">
                <a:solidFill>
                  <a:srgbClr val="333399"/>
                </a:solidFill>
                <a:latin typeface="Tahoma"/>
              </a:rPr>
              <a:t>(Management by Objectives MBO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96800" y="2174400"/>
            <a:ext cx="7489800" cy="392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Esmė: Sudaryti tikslų medį kiekvienam valdymo lygiui, kuriame aiškiai atsispindėtų kiekvieno padalinio ir darbuotojo tikslai, kurių įgyvendinimas leis pasiekti organizacijos tikslų. Tik tuomet organizacija veiks efektyvia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0C19-5E66-4D98-8276-3A9A1F5E249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Autori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1280" y="2276640"/>
            <a:ext cx="7929360" cy="34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ahoma"/>
              </a:rPr>
              <a:t>H. Tosi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ahoma"/>
              </a:rPr>
              <a:t>S. Carro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ahoma"/>
              </a:rPr>
              <a:t>J. Odiorn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8D4A-06C7-4E54-A6CF-5B6FF353D8A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ikslini</a:t>
            </a: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o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valdym</a:t>
            </a: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o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(MBO)</a:t>
            </a: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 žingsni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tarti darbo reikalavim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šplėtoti potencialius tiksl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tarti tiksl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statyti kontrolės srit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įvertinti rezultat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EA15-FCA7-4E4E-BD4F-A225CBFACAE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ikslų formulavimo veiksni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linkos poveik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nkurenci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operaci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diniai veiksni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pildoma motyvaci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šankstiniai susitarim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diniai ištekli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acijos vertybė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7182-964E-4A2F-904A-6212AB9F06D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ikslų formulavimo subjekt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sija - strateginiai tiksl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kščiausio lygmens vadov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ktiniai tiksl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kščiausio lygmens funkciniai vadov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durinio lygmens vadov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yviniai tiksl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durinio lygmens vadov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žemiausio lygmens vadov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CA89-F41A-4F8C-811E-3067E611E94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BO nau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gerinama horizontali komunikaci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gerinamas išteklių panaudojim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gerinama vertikali komunikaci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tobulinami pažangos vertinimo kriterij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gerinamas planavimo proces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729C-A0B2-4A13-B06B-7424E231A7C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5-03T11:02:11Z</dcterms:modified>
  <cp:revision>48</cp:revision>
  <dc:subject/>
  <dc:title>Introduction to Management</dc:title>
</cp:coreProperties>
</file>