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9C0F-37E4-4FB3-8340-CBDC32A2B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1914-5D1B-442E-BA5A-B527F15F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BAA1-E875-49EA-9A57-A5DCD9025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ABBA-1990-4600-9B82-EBAB73859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371-2C07-48DF-A5BA-4A1109E38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B8F-A216-4E7F-8FAE-97C65A73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1E5-A065-4C60-961A-641FD5B2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CBF-D9A1-4AFF-94C5-BFAD5FDB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9AF-4728-4B53-A8DC-AE014D9F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9280-F9E8-49CB-B215-1CF7D6C5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B315-0DFE-4BE9-ABCD-3287437B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A637-55AC-4320-A5B3-B9A28D27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6CD1-6C2C-44B3-B73E-1EA109A7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C3F4-C667-4AB4-9C84-A50FA362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7214-EE50-4F70-BF9F-2F2780BD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D0F7-A2F3-4545-9599-E27F8585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A82-3546-4482-B9C9-12B41AA0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1C30-09D5-4080-A01F-6FB760C4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F2BF-BC44-4EBD-904E-E91815B5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DB04-62CC-4A3B-8332-5063D764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199B-015A-4939-908F-8EC91901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89CE-6FA8-4CED-A89A-B37CD343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9D1-7A83-4210-83A4-A3B32A5E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954-2721-40A4-8B8D-E2D74521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C1C-E00B-4B17-9EB3-4AA7BE08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3B0-5453-4937-AAD6-710FBD00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91F-5EA7-423E-8906-AADD08A8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29F-7D24-4F42-ADAF-0E7A13F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DC7-AAB7-4613-AF3B-5DB0932F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6B81-91E3-477C-9066-90B66DF4E6B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243F-E17E-464A-9B74-527D1CB23C5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Vadybos mokslo mokykla: kiekybinės valdymo teorijo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1884-DCE0-4749-BE05-B886200FF1A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74280" y="636480"/>
            <a:ext cx="734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šteklių modeliai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 (EOQ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dojama sprendžiant, kiek ir kokiu metu žaliavų užsaky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užsakant žaliavas ir jas laikant sandėly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reti - užsakymo kaštai bus maži, bet saugojimo - did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i užsakymai bus dažni - užsakymo kaštai bus dideli, o saugojimo - maž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štekli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deliai siekia nustatyti balanso tašką, kuomet šie kaštai mažiau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D65-FE91-4D38-B276-A345326C32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ritinio kelio metodas (CPM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uPont kompanijos sukurta planavimo ir kontrolės kompiuterizuota diagrama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6-195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uja Gantt diagramos versi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iklų apimties ir laiko vaizdavi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rėlėms vaizduojamas kritinis (optimalus) veiklų atlikimo grafik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E63-C79E-45B5-904F-52BBCE8DBB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ERT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rogramos vertinimo ir peržiūros technika (Program Evalution and Review Techniq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ukurtas JAV jūrų laivyn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8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rt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eiklų tinklo (sistemos) planavimui, ryšių nustatymui, jų tarpusavio ryšio vaizdavimui la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tatistinės tikimybės naudojimas trijų scenarijų suformavimui (optimistiniam, labiausiai tikėtinam, pesimistinia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829-9025-43CD-ADE2-70F3FFCF9C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76520" y="1415880"/>
            <a:ext cx="373068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05120" y="5372280"/>
            <a:ext cx="380664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9080" y="4822920"/>
            <a:ext cx="1462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Slac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080" y="5491080"/>
            <a:ext cx="13053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7920" y="4727520"/>
            <a:ext cx="373824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37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440" y="4876920"/>
            <a:ext cx="2733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Optimal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024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laik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9320" y="1125360"/>
            <a:ext cx="24865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7920" y="695160"/>
            <a:ext cx="373824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7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59480" y="1100160"/>
            <a:ext cx="195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Veikl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0" y="4822920"/>
            <a:ext cx="1896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Crit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64800" y="5491080"/>
            <a:ext cx="12124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Pa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6560" y="4727520"/>
            <a:ext cx="3738600" cy="1454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6040" y="470700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2960" y="4797360"/>
            <a:ext cx="1927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ritin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5320" y="5465880"/>
            <a:ext cx="1555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kel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53040" y="1125360"/>
            <a:ext cx="18342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560" y="695160"/>
            <a:ext cx="3738600" cy="145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6040" y="674640"/>
            <a:ext cx="3730680" cy="1446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1100160"/>
            <a:ext cx="1710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Arial"/>
              </a:rPr>
              <a:t>Įvyki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74680" y="26622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8280" y="3483000"/>
            <a:ext cx="3087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808080"/>
                </a:solidFill>
                <a:latin typeface="Arial"/>
              </a:rPr>
              <a:t>Networ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10000" y="2444760"/>
            <a:ext cx="4024080" cy="1987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89120" y="2424240"/>
            <a:ext cx="4017960" cy="19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9120" y="2637000"/>
            <a:ext cx="1829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"/>
              </a:rPr>
              <a:t>PER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8640" y="3429000"/>
            <a:ext cx="2363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ffffff"/>
                </a:solidFill>
                <a:latin typeface="Arial"/>
              </a:rPr>
              <a:t>Tinkla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2480" y="211932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48" y="0"/>
                </a:moveTo>
                <a:lnTo>
                  <a:pt x="0" y="0"/>
                </a:lnTo>
                <a:lnTo>
                  <a:pt x="0" y="1629"/>
                </a:lnTo>
                <a:lnTo>
                  <a:pt x="0" y="1653"/>
                </a:lnTo>
                <a:lnTo>
                  <a:pt x="24" y="1653"/>
                </a:lnTo>
                <a:lnTo>
                  <a:pt x="376" y="1653"/>
                </a:lnTo>
                <a:lnTo>
                  <a:pt x="376" y="1605"/>
                </a:lnTo>
                <a:lnTo>
                  <a:pt x="24" y="1605"/>
                </a:lnTo>
                <a:lnTo>
                  <a:pt x="24" y="1629"/>
                </a:lnTo>
                <a:lnTo>
                  <a:pt x="48" y="1629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2480" y="3394080"/>
            <a:ext cx="296640" cy="1312920"/>
          </a:xfrm>
          <a:custGeom>
            <a:avLst/>
            <a:gdLst/>
            <a:ahLst/>
            <a:rect l="l" t="t" r="r" b="b"/>
            <a:pathLst>
              <a:path w="376" h="1653">
                <a:moveTo>
                  <a:pt x="0" y="1653"/>
                </a:moveTo>
                <a:lnTo>
                  <a:pt x="48" y="1653"/>
                </a:lnTo>
                <a:lnTo>
                  <a:pt x="48" y="24"/>
                </a:lnTo>
                <a:lnTo>
                  <a:pt x="24" y="24"/>
                </a:lnTo>
                <a:lnTo>
                  <a:pt x="24" y="48"/>
                </a:lnTo>
                <a:lnTo>
                  <a:pt x="376" y="48"/>
                </a:lnTo>
                <a:lnTo>
                  <a:pt x="376" y="0"/>
                </a:lnTo>
                <a:lnTo>
                  <a:pt x="24" y="0"/>
                </a:lnTo>
                <a:lnTo>
                  <a:pt x="0" y="0"/>
                </a:lnTo>
                <a:lnTo>
                  <a:pt x="0" y="24"/>
                </a:lnTo>
                <a:lnTo>
                  <a:pt x="0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05640" y="211932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72" y="0"/>
                </a:moveTo>
                <a:lnTo>
                  <a:pt x="224" y="0"/>
                </a:lnTo>
                <a:lnTo>
                  <a:pt x="224" y="1629"/>
                </a:lnTo>
                <a:lnTo>
                  <a:pt x="248" y="1629"/>
                </a:lnTo>
                <a:lnTo>
                  <a:pt x="248" y="1605"/>
                </a:lnTo>
                <a:lnTo>
                  <a:pt x="0" y="1605"/>
                </a:lnTo>
                <a:lnTo>
                  <a:pt x="0" y="1653"/>
                </a:lnTo>
                <a:lnTo>
                  <a:pt x="248" y="1653"/>
                </a:lnTo>
                <a:lnTo>
                  <a:pt x="272" y="1653"/>
                </a:lnTo>
                <a:lnTo>
                  <a:pt x="272" y="1629"/>
                </a:lnTo>
                <a:lnTo>
                  <a:pt x="27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05640" y="3394080"/>
            <a:ext cx="214200" cy="1312920"/>
          </a:xfrm>
          <a:custGeom>
            <a:avLst/>
            <a:gdLst/>
            <a:ahLst/>
            <a:rect l="l" t="t" r="r" b="b"/>
            <a:pathLst>
              <a:path w="272" h="1653">
                <a:moveTo>
                  <a:pt x="224" y="1653"/>
                </a:moveTo>
                <a:lnTo>
                  <a:pt x="272" y="1653"/>
                </a:lnTo>
                <a:lnTo>
                  <a:pt x="272" y="24"/>
                </a:lnTo>
                <a:lnTo>
                  <a:pt x="272" y="0"/>
                </a:lnTo>
                <a:lnTo>
                  <a:pt x="248" y="0"/>
                </a:lnTo>
                <a:lnTo>
                  <a:pt x="0" y="0"/>
                </a:lnTo>
                <a:lnTo>
                  <a:pt x="0" y="48"/>
                </a:lnTo>
                <a:lnTo>
                  <a:pt x="248" y="48"/>
                </a:lnTo>
                <a:lnTo>
                  <a:pt x="248" y="24"/>
                </a:lnTo>
                <a:lnTo>
                  <a:pt x="224" y="24"/>
                </a:lnTo>
                <a:lnTo>
                  <a:pt x="224" y="16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6CE-8861-4C36-B28A-3227D50FECB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839880" y="534960"/>
            <a:ext cx="7629480" cy="5591160"/>
            <a:chOff x="839880" y="534960"/>
            <a:chExt cx="7629480" cy="5591160"/>
          </a:xfrm>
        </p:grpSpPr>
        <p:sp>
          <p:nvSpPr>
            <p:cNvPr id="219" name=""/>
            <p:cNvSpPr/>
            <p:nvPr/>
          </p:nvSpPr>
          <p:spPr>
            <a:xfrm>
              <a:off x="3497400" y="1384200"/>
              <a:ext cx="0" cy="1114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51640" y="1079640"/>
              <a:ext cx="0" cy="1419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81680" y="2492280"/>
              <a:ext cx="0" cy="3248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282760" y="2451240"/>
              <a:ext cx="101520" cy="3324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63520" y="552276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63520" y="46879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63520" y="3849840"/>
              <a:ext cx="6823080" cy="60300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3520" y="301140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3520" y="2173320"/>
              <a:ext cx="6823080" cy="60336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9880" y="534960"/>
              <a:ext cx="7629480" cy="1327320"/>
            </a:xfrm>
            <a:prstGeom prst="rect">
              <a:avLst/>
            </a:prstGeom>
            <a:solidFill>
              <a:srgbClr val="9933ff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PERT </a:t>
              </a:r>
              <a:r>
                <a:rPr b="1" lang="lt-LT" sz="4000" spc="-1" strike="noStrike">
                  <a:solidFill>
                    <a:srgbClr val="ffffff"/>
                  </a:solidFill>
                  <a:latin typeface="Arial"/>
                </a:rPr>
                <a:t>tinklo kūrimo žingsniai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914400" y="2057400"/>
            <a:ext cx="726120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dentifikuoti visas veikl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statyti įvykdymo eiliškum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tvaizduoti veiklų srautą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Įvertinti veiklų atlikimo la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i projekto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4AC-D9A3-4139-84AA-F1C5D75941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omas momentas, kuomet kaštai yra lygūs pajam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omen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ūs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dr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eneto ka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E4C-ED26-4883-8F78-8A1596AF8E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533520"/>
            <a:ext cx="9078840" cy="6084360"/>
            <a:chOff x="0" y="533520"/>
            <a:chExt cx="9078840" cy="6084360"/>
          </a:xfrm>
        </p:grpSpPr>
        <p:sp>
          <p:nvSpPr>
            <p:cNvPr id="233" name=""/>
            <p:cNvSpPr/>
            <p:nvPr/>
          </p:nvSpPr>
          <p:spPr>
            <a:xfrm flipV="1">
              <a:off x="1858320" y="2468160"/>
              <a:ext cx="5625000" cy="3496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640" y="853920"/>
              <a:ext cx="1800" cy="5094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744560" y="5986080"/>
              <a:ext cx="583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" y="533520"/>
              <a:ext cx="1101960" cy="52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$9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,0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5840" y="5941800"/>
              <a:ext cx="517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5200" y="3555720"/>
              <a:ext cx="3916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-733320" y="3057840"/>
              <a:ext cx="183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jamos/kašta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26920" y="6254640"/>
              <a:ext cx="2657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ffffff"/>
                  </a:solidFill>
                  <a:latin typeface="Arial"/>
                </a:rPr>
                <a:t>Pardavimai (tūkst. Vnt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860000">
              <a:off x="5306760" y="2991240"/>
              <a:ext cx="228240" cy="658080"/>
            </a:xfrm>
            <a:prstGeom prst="triangle">
              <a:avLst>
                <a:gd name="adj" fmla="val 49977"/>
              </a:avLst>
            </a:prstGeom>
            <a:solidFill>
              <a:srgbClr val="fcd1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823040" y="3048840"/>
              <a:ext cx="5676840" cy="1641240"/>
            </a:xfrm>
            <a:prstGeom prst="line">
              <a:avLst/>
            </a:prstGeom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81800" y="2771640"/>
              <a:ext cx="2239560" cy="391680"/>
            </a:xfrm>
            <a:prstGeom prst="rect">
              <a:avLst/>
            </a:prstGeom>
            <a:solidFill>
              <a:srgbClr val="fcd1b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5040" y="4652640"/>
              <a:ext cx="579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7860000">
              <a:off x="6127200" y="2388240"/>
              <a:ext cx="228240" cy="823320"/>
            </a:xfrm>
            <a:prstGeom prst="triangle">
              <a:avLst>
                <a:gd name="adj" fmla="val 49977"/>
              </a:avLst>
            </a:prstGeom>
            <a:solidFill>
              <a:srgbClr val="ebd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66680" y="2806560"/>
              <a:ext cx="230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Lūžio tašk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1760" y="2223720"/>
              <a:ext cx="1839600" cy="392040"/>
            </a:xfrm>
            <a:prstGeom prst="rect">
              <a:avLst/>
            </a:prstGeom>
            <a:solidFill>
              <a:srgbClr val="ebd3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86640" y="2257200"/>
              <a:ext cx="190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1800" spc="-1" strike="noStrike">
                  <a:solidFill>
                    <a:srgbClr val="000000"/>
                  </a:solidFill>
                  <a:latin typeface="Arial Narrow"/>
                </a:rPr>
                <a:t>Bendros pajam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680000">
              <a:off x="6501600" y="3321000"/>
              <a:ext cx="239760" cy="626400"/>
            </a:xfrm>
            <a:prstGeom prst="triangle">
              <a:avLst>
                <a:gd name="adj" fmla="val 49977"/>
              </a:avLst>
            </a:prstGeom>
            <a:solidFill>
              <a:srgbClr val="9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61880" y="3790800"/>
              <a:ext cx="1519920" cy="391680"/>
            </a:xfrm>
            <a:prstGeom prst="rect">
              <a:avLst/>
            </a:prstGeom>
            <a:solidFill>
              <a:srgbClr val="9fffe1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46760" y="3825720"/>
              <a:ext cx="1583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Bendri kašta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8360" y="4673520"/>
              <a:ext cx="1355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Nuostol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fc0128"/>
                  </a:solidFill>
                  <a:latin typeface="Arial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22040" y="1439640"/>
              <a:ext cx="959760" cy="70452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840000">
              <a:off x="7081560" y="2015280"/>
              <a:ext cx="239760" cy="783720"/>
            </a:xfrm>
            <a:prstGeom prst="triangle">
              <a:avLst>
                <a:gd name="adj" fmla="val 49977"/>
              </a:avLst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3440" y="1473120"/>
              <a:ext cx="749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Peln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000" spc="-1" strike="noStrike">
                  <a:solidFill>
                    <a:srgbClr val="000000"/>
                  </a:solidFill>
                  <a:latin typeface="Arial Narrow"/>
                </a:rPr>
                <a:t>zon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75720" y="5180040"/>
              <a:ext cx="1371240" cy="239760"/>
            </a:xfrm>
            <a:prstGeom prst="triangle">
              <a:avLst>
                <a:gd name="adj" fmla="val 49977"/>
              </a:avLst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541640" y="3125520"/>
              <a:ext cx="1537200" cy="2573280"/>
              <a:chOff x="7541640" y="3125520"/>
              <a:chExt cx="1537200" cy="2573280"/>
            </a:xfrm>
          </p:grpSpPr>
          <p:sp>
            <p:nvSpPr>
              <p:cNvPr id="258" name=""/>
              <p:cNvSpPr/>
              <p:nvPr/>
            </p:nvSpPr>
            <p:spPr>
              <a:xfrm rot="5400000">
                <a:off x="6897960" y="3768840"/>
                <a:ext cx="1526760" cy="239760"/>
              </a:xfrm>
              <a:prstGeom prst="triangle">
                <a:avLst>
                  <a:gd name="adj" fmla="val 49977"/>
                </a:avLst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64840" y="3511080"/>
                <a:ext cx="11844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intami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65200" y="5000040"/>
                <a:ext cx="131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Pastovū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000" spc="-1" strike="noStrike">
                    <a:solidFill>
                      <a:srgbClr val="ffffff"/>
                    </a:solidFill>
                    <a:latin typeface="Arial"/>
                  </a:rPr>
                  <a:t>kašt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713560" y="3605040"/>
              <a:ext cx="0" cy="23220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1760" y="5941800"/>
              <a:ext cx="76680" cy="74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352680" y="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ffff"/>
                </a:solidFill>
                <a:latin typeface="Arial"/>
              </a:rPr>
              <a:t>Lūžio taško analiz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6E8-DF02-4266-AFE6-8A7C9533831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ūžio taško meto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2514600"/>
            <a:ext cx="52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ov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ū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 = ----------------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ina - Kintami kašt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95E-9D01-4975-872B-C734C82B30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ji vertė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V - procedūra, kurios metu analizuojama būsimoji hipotetinė įvairių alternatyvų vert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ocedū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skirtingas alternatyvas ir rezultat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statyti galimybes, kurios gali atsiras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Įvertinti būsimąją kiekvienos jų vert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5C5-12E9-4989-9B50-2B76CC9DE2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ūsimosios vertės skaičiavimo pvz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47600" y="2022480"/>
            <a:ext cx="68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rategi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556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     $200 pelnas               $5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8320" y="3013200"/>
            <a:ext cx="73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     $400 pelnas               $300 (nuostol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5440" y="377496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s/nuostolio įvertini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34840" y="423216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  Sėkmė = .8          Nuostolis = 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36640" y="46483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  Sėkmė = .5          Nuostolis = 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73080" y="5375160"/>
            <a:ext cx="77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ėkm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uostol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A    $200 x .8 = $160 + ($500) x .2 = ($100) = $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74880" y="624852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. ženklas B     $400 x .5 = $200 + ($300) x .5 = ($150) = $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B64-684F-42A6-ADAB-00C8EDF6471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askaitos tiksl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38400" y="2292480"/>
            <a:ext cx="763560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ibūdinti vadybos mokslo mokyklos susiformavimo prielai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istatyti pagrindinius kiekybiniu metodus ir techni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pžvelgti kiekybinės teorijos nuopelnus vadybos mokslu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3FF-311D-47A9-9C1B-A6003AE8AA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Gamybos ir žaliavų planavimo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RP (Material Requirements Planning) – Žaliavų poreikio planavimo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detalių (subproduktų) tiekimo planavimui gamyboje, tiekiant pagal poreik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1520" indent="-371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anban” (Just in time)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kirta itin tiksliam žaliavų ir medžiagų tiekimo planavim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a pagal iš anksto sudarytą grafik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kslas – nėra atsarg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7640" indent="-364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Tiekiam kada reikia – svarbiausiai – laikas, o ne kiek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BBA-E4D1-43BC-891F-7E93F1BD3A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Nuopelnai vadybos mokslu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atematinių metodų taikymo plė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Gamybos valdymo racionaliz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lanavimo ir kontrolės metodų taikymas valdy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ų metodų sukūr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etodų taikymas prognozav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ompiuterinių technologijų diegimas organizacijų valdyme, siekiant įsisavinti naujus planavimo ir kontrolės metod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925-A8EB-461B-97EA-48F0E37494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Prielaidos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nkstesnių autorių – Babbage, Taylor, Gantt, Gilbreth, Emerson taikyti kiekybiniai valdymo principa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II ir IV dešimtmetyje sumažėjęs dėmesys produktyvumo valdymui ir išaugęs sociopsichologiniams valdymo aspekt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Didžiosios depresijos pabaiga ir II pasaulinis karas sąlygojo didelių kompanijų skaičiaus augim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Formavosi nauja racionalaus organizacijų valdymo aplinka, palanki moksliniams valdymo metod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BD1-787E-4EB9-A95A-A40DA6CC30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Operacijų tyrimų komand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Komandos suformuotos iš įvairių sričių specialist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Britai suformavo pirmąsias tokias komandas, radarų sistemų kūrimui, skirtų civilinei apsaugai II Pasaulinio karo met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iena geriausiai žinomų prof. Blackett komanda, sudaryta iš trijų psichologų, dviejų matematikų, vieno astro-fizikų, dviejų matematikos fizikų, vieno armijos karininko, vieno tyrėj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JAV  - Arthur D. Little, Inc. privačios konsultacinės kompanijos veikla operacijų tyrimų srity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2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urta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Amerikos operacijų tyrimų asociacija, pradėtas leisti žurnal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Operacijų tyrima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53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Vadybos mokslo institutas (TIMS) pradėjo leisti leidinį “Vadybos mokslas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20A-E7EB-4B0F-9164-28AF8DFBF4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bjektas – gamybos valdy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enojo požiūrio į gamybos valdymą kai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uo darbo organizavimo modelių link matematinių – statistinių metod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Naujasis vadybos mokslas – orientuotas į valdymo problemų sprendimą, naudojant specifines technikas, analizuojančias kiekybinius kintamuosius ir ryšius tarp jų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formuota eilė kiekybinių technikų, naudojamų gamybos vald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E38-4774-4998-B12E-4ABCFBF8DE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ffff"/>
                </a:solidFill>
                <a:latin typeface="Times New Roman"/>
              </a:rPr>
              <a:t>Kiekybinės technik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84200" y="2168280"/>
            <a:ext cx="7491600" cy="38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i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programavi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Eilių mode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teklių modeliai (EO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ritinio kelio metodas (CP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ERT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Lūžio taško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ūsimosios vertės meto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ti: MRP, Kanb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317-963E-4005-9A51-058A1212AE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iesinis programavim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aus išteklių kiekio ir kombinacijos nustaty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ekiama su ribotais ištekliais maksimizuoti naudą ir minimizuoti nuostol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yzdžia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amybos grafikų sudar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Žmonių pritraukimas projektų vykdymu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timalių maršrutų nustatym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0C0-55D8-4D85-A9F2-BC701B4FEB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2120" y="304920"/>
            <a:ext cx="7629480" cy="5591160"/>
            <a:chOff x="762120" y="304920"/>
            <a:chExt cx="7629480" cy="5591160"/>
          </a:xfrm>
        </p:grpSpPr>
        <p:sp>
          <p:nvSpPr>
            <p:cNvPr id="167" name=""/>
            <p:cNvSpPr/>
            <p:nvPr/>
          </p:nvSpPr>
          <p:spPr>
            <a:xfrm>
              <a:off x="3419640" y="1154160"/>
              <a:ext cx="0" cy="111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3880" y="849600"/>
              <a:ext cx="0" cy="1419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3920" y="2262240"/>
              <a:ext cx="0" cy="324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5000" y="2221200"/>
              <a:ext cx="101520" cy="332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85760" y="529272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85760" y="44578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5760" y="3619800"/>
              <a:ext cx="6823080" cy="603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85760" y="278136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5760" y="1943280"/>
              <a:ext cx="6823080" cy="603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304920"/>
              <a:ext cx="7629480" cy="144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Tiesinio programavimo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ffff"/>
                  </a:solidFill>
                  <a:latin typeface="Times New Roman"/>
                </a:rPr>
                <a:t>efektyv</a:t>
              </a:r>
              <a:r>
                <a:rPr b="0" lang="lt-LT" sz="4000" spc="-1" strike="noStrike">
                  <a:solidFill>
                    <a:srgbClr val="00ffff"/>
                  </a:solidFill>
                  <a:latin typeface="Times New Roman"/>
                </a:rPr>
                <a:t>inima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43120" y="1953720"/>
            <a:ext cx="6858000" cy="39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boti i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l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Optimizavimo siek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Alternatyvios išteklių kombinacijo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Multiplikuoti rezultatų derini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Kintamųjų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esin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ės priklausomybės nustaty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307-4E8B-4EA2-92F9-37073E99D7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lt-LT" sz="4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ių modelia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idaro kaštai, naudojant perdaug ar per mažai eilių konkretaus laiko rėmu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lių teorija leidžia įvertinti ir nustatyti optimalų skaičių eilių, minimizuojant kaštus ir maksimizuojant naud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D3A-788F-48BB-85BD-EB658CC1F9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 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6:32Z</dcterms:modified>
  <cp:revision>51</cp:revision>
  <dc:subject/>
  <dc:title>Introduction to Management</dc:title>
</cp:coreProperties>
</file>