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73A1-269B-4E9C-BE84-19E6466F6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D574-6591-4CFA-94FF-1A7D35CC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628A-61D0-4938-8991-BA4E82FB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5C2B-4449-4E62-B022-971A4EA4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8449-E9AB-400D-9215-D7218FBCC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E15B-2C6A-4320-BEF9-0EA26979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784F-76B1-4E23-A9C8-C7F6711E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15AB-7479-4DFA-AB35-19558B3C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5310-ACAD-4E82-90E6-E05D4D64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B70E-3B92-4A39-9CB2-2A99F830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09BC-2140-4644-8BEB-631990F0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015B-36E6-4B87-A2A9-7FCC0544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985D-736F-4131-9A85-63277157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64FF-3F3C-4576-89A8-0BBF595C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4903-18A6-4EF2-AB99-7C9FE8A4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699F-35AA-4E52-8CEB-67BC8CDCD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CFC7-B523-45C5-9C0B-F4D256357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9689-FB6E-4C9E-A7D8-774D86FD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D68A-A000-415A-A4C1-692D3CA4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5C2C-5233-4D13-AA28-38CA80CB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CE1B-C443-4F02-B03F-D3225572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6FDE-A6A0-4A79-BA6C-23A9E3C1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9BE4-2F8F-4E87-82F8-5F82D09E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6FC4-ED2B-458A-AA5D-61CBDFC3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7A22-1993-4F6E-BCBC-41701D956DF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D768-094F-4D9A-B603-201C3F9642F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700" spc="-1" strike="noStrike">
                <a:solidFill>
                  <a:srgbClr val="ffffcc"/>
                </a:solidFill>
                <a:latin typeface="Arial"/>
              </a:rPr>
              <a:t>Visuotinio dalyvavimo valdyme (partisipatyvinė) teorija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4D0B-7936-44BD-9693-C0321B59AC7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Arial"/>
              </a:rPr>
              <a:t>Nuopelnai vadybos mokslu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Pagrįsta, kad organizacijos žmonės, dalyvaudami valdymo procese labiau motyvuojami geriau atlikti savo funkcijas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Išryškinta, kad kiekvienas žmogus kupinas kūrybingų minčių, taigi yra neišsenkantis naujų idėjų šaltinis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Pagrįsta, kad derinant organizacijos narių ir organizacijos interesus, derinami ir visuomeniniai interesai, kas leidžia organizacijai įsitvirtinti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1D61-9428-4A2D-9A5B-05783777FE8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Arial"/>
              </a:rPr>
              <a:t>Paskaitos tiksla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0280" y="1981080"/>
            <a:ext cx="8083440" cy="412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Apibūdinti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v</a:t>
            </a: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isuotinio dalyvavimo valdyme teorij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s</a:t>
            </a: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 susiformavimo prielaida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Pristatyti pagrindinius autori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Apžvelgti jų nuopelnus vadybos mokslui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706A-E031-4465-A535-CF70428FD8C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ffffcc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Klasikinių teorijų ribotas požiūris į žmogaus svarbą organizacijoj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Valdymo ir 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endim</a:t>
            </a: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ų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pri</a:t>
            </a: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ė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imo centralizacija</a:t>
            </a: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, augant organizacijoms darėsi vis sudėtingesnė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Augo darbuotojų nepasitenkinimas motyvacine sistema ir valdymo neefektyvumu organizacijos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Naujų idėjų trūkumas skatino įtraukti vis daugiau žmonių į valdymo procesą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5BFC-92AF-4D58-B8BE-E8112728F9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Teorijos ir autoriai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C. Ker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W. Gellerma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K. Perrow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T. Pars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R. Liker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bjektas – </a:t>
            </a: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organizacijos darbuotojų dalyvavimas užduočių formavime ir sprendimų priėmim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FEC3-37FE-48F9-B99B-926E4A3C46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Dalyvavimo valdyme galimybės </a:t>
            </a:r>
            <a:br>
              <a:rPr sz="4000"/>
            </a:b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(C. Kerr,  W. Gellerman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Priimant sprendimus organizacijos lygmenyje, į jų rengimo ir priėmimo grupes įtraukiami organizacijos padalinių (grupių) atstovai, turintys atstovavimo teisę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Priimant sprendimus padalinio lygmenyje, į jų rengimo ir priėmimo procesą vadovas įtraukia padalinio darbuotojus, su kuriais konsultuojamasi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7842-D1FC-43B7-936F-B7D9EABE883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Arial"/>
              </a:rPr>
              <a:t>Institucionalizm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eaeaea"/>
                </a:solidFill>
                <a:latin typeface="Verdana"/>
              </a:rPr>
              <a:t>Organizacija veikia visuomeninėje aplinkoje, taigi yra visuomenės dalis arba visuomenės institucija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eaeaea"/>
                </a:solidFill>
                <a:latin typeface="Verdana"/>
              </a:rPr>
              <a:t>Organizacijai svarbu įsitvirtinti visuomenėje ir būti pripažintai, kaip reikalingai institucijai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eaeaea"/>
                </a:solidFill>
                <a:latin typeface="Verdana"/>
              </a:rPr>
              <a:t>Visuotinis dalyvavimas padeda geriau įsitvirtinti visuomenėje, nes atspindi platesnius žmonių ir grupių, t.y. visuomenės interesus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eaeaea"/>
                </a:solidFill>
                <a:latin typeface="Verdana"/>
              </a:rPr>
              <a:t>Organizacijos ir visuomenės interesai turi būti suderinti.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5895-18F6-4320-B3C8-C2439E9513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Institucinis valdymas </a:t>
            </a:r>
            <a:br>
              <a:rPr sz="4000"/>
            </a:b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(K. Perrow, T. Parsons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2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eaeaea"/>
                </a:solidFill>
                <a:latin typeface="Verdana"/>
              </a:rPr>
              <a:t>Gamybinis valdymas</a:t>
            </a: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, organizacijos, kaip gamybinio – techninio objekto valdyma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eaeaea"/>
                </a:solidFill>
                <a:latin typeface="Verdana"/>
              </a:rPr>
              <a:t>Socialinis valdymas</a:t>
            </a: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, organizacijos, kaip socialinio objekto (žmonių) valdyma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eaeaea"/>
                </a:solidFill>
                <a:latin typeface="Verdana"/>
              </a:rPr>
              <a:t>Institucinis</a:t>
            </a: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, organizacijos, kaip institucinio objekto santykyje su kitais, visuomenėje funkcionuojančiais objektais, valdyma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F35A-155B-4292-BF67-57D6AA0BA9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Idealios organizacijos modelis</a:t>
            </a:r>
            <a:br>
              <a:rPr sz="4000"/>
            </a:b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(R. Likert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Organizacijos tikslai nustatomi grupinių svarstymų būdu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Organizacija yra atviras objektas, palaikantis ryšius su kitomis organizacijomis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eaeaea"/>
                </a:solidFill>
                <a:latin typeface="Verdana"/>
              </a:rPr>
              <a:t>Sprendimai visuose organizacijos lygiuose priimami, įtraukiant jos narius. Informacijos srautai organizacijoje turi būti subalansuoti – pasiekti organizacijos narius ir išorės institucijas laiku ir tiksliai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50AE-49AC-4637-8FF0-335A651EF71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Idealios organizacijos modelis</a:t>
            </a:r>
            <a:br>
              <a:rPr sz="4000"/>
            </a:br>
            <a:r>
              <a:rPr b="0" lang="lt-LT" sz="4000" spc="-1" strike="noStrike">
                <a:solidFill>
                  <a:srgbClr val="ffffcc"/>
                </a:solidFill>
                <a:latin typeface="Arial"/>
              </a:rPr>
              <a:t>(R. Likert), tęsiny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Darbuotojai motyvuojami įvairiais būdais, ypač naudojant grupinio skatinimo metodus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Visų lygių vadovai pasitiki organizacijos nariais, svarsto ir panaudoja jų teikiamus pasiūlymus ir idėja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eaeaea"/>
                </a:solidFill>
                <a:latin typeface="Verdana"/>
              </a:rPr>
              <a:t>Kontrolės funkcijos organizacijoje decentralizuotos, ji vykdoma keliais lygiai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ECD3-4E78-44B1-9FD2-704C9F6DD56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4 Nerijus Pačėsa,Dr</a:t>
            </a: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0:58:52Z</dcterms:modified>
  <cp:revision>41</cp:revision>
  <dc:subject/>
  <dc:title>Introduction to Management</dc:title>
</cp:coreProperties>
</file>