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0845-EA9D-4CD3-BB09-CCEFEE20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85EE-5588-4AEE-81ED-4567793A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7A67-A538-4210-AFDA-B15F6BE8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1952-EACD-4D1D-AA45-5C664D7A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ED09-5446-4967-89E4-6B2F62F9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7B54-16F0-43B6-9D1A-4D981C8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4D17-721A-4A6D-8FD3-949454C9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70F1-B2F9-4791-B547-C9ED869A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F549-72D0-47C6-9726-C7A709D6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C0DD-EA72-426E-9440-758D178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51B0-69EA-4DF1-8B7B-4554348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62D0-4762-4C16-98FE-AFE10D5B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9700-8193-48FC-8003-47A65AEB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DB7F-1BBF-41F7-AB6A-A8A23D0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614D-9C19-4FD5-A54B-1A7203B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4CF4-8ABB-4DE9-AC4F-E0980FC9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E8EB-D03B-4E27-8A20-8DBFC3AE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DF2C-AA79-43E0-ABB7-ADB996AA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3A09-9844-461A-8855-453A98E9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4D80-5003-4C45-AEE9-33113EAC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90FE4-F871-4341-A50D-CBBD04D3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2E5C-B3A5-449B-83E8-B5189929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F8E4-691A-41C6-9466-CD7CA27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434D-F6DC-4255-BF5B-3D58765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D487-7389-4F96-B797-1BCE8B089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4FEB-C4BE-47A0-B282-D21C4C7AAE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540E-2AAC-4723-A729-DAC76702643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elgsena ir vaidmu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up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ė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elgsenos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ategorijos (Rackham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Morgan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977)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ai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(koncepcija, veik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ystymas (kitų pasiūlymų teiki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Rėmimas (narių ir jų idėj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sut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ynyba / puol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2726-A7E8-45B4-964B-876A9EBB1F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rup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ė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 elgsenos 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ategorijos (Rackham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&amp;</a:t>
            </a: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 Morgan,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77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blok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tviras elges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vokimo tik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endr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sie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nformacijos teik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erėm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Elgesio parėmimas (nario įtraukim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2FB1-FFE0-4919-AC86-824732B6F6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grupėje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i ryšiai tarp nar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bo klimato pokyč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tokratinis 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iežtas grupės struktūr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idelis akcentas lojalum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ACEB-BBDD-4ED4-95BF-955965BC66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nkurencija tarp grupių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os tarp grupių priežast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itos grupės traktavimas kaip priešinin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ilpna komunikacija, pasitikėjimo sto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igiami stereotip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zoliuotas požiū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66E5-A72F-41AE-9BD9-9738750B2C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nfliktų tarp grupių sprend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grupes už jų indėlį į visos organizacijos veiklą, o ne vien už individualius grupės rezultat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katinti tarpgrupinę komunikaciją ir bendradarbiav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Įgalinti grupės narius pažinti problemas už grupės ribų ir skatinti organizacijos visumos suvoki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ekti išvengti konkurencinių tarpgrupinių situacijų (laimi-pralaimi)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skatinti 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ituacijas (laimi – laim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93D9-C560-4AC7-8A4F-88BE52F78F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omandos ir jų formav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lt-LT" sz="3500" spc="-1" strike="noStrike">
                <a:solidFill>
                  <a:srgbClr val="ffffff"/>
                </a:solidFill>
                <a:latin typeface="Arial"/>
              </a:rPr>
              <a:t>Gera (efektyvi) komanda – kada jos nariai gali dirbti kaip komanda, veikdami atskirai ir orientuodamiesi į veiklų papildomumą ir nuoseklumą nei į bendrą užduotį, reikalaujančią tikslumo vietos ir laiko prasme</a:t>
            </a:r>
            <a:r>
              <a:rPr b="0" lang="lt-LT" sz="3500" spc="-1" strike="noStrike">
                <a:solidFill>
                  <a:srgbClr val="ffffff"/>
                </a:solidFill>
                <a:latin typeface="Arial"/>
              </a:rPr>
              <a:t>... (Adair,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1986m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C0CF-01FA-4FB0-B502-64AB24FB7F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irm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ntroliuojantis ir koordinuojantis, tačiau nekurian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rchitekt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sprendimų ir situacijos modeli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novatoriu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ūrybiškas mąstymas ir pozityvus požiūris į kitų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Vert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analizuoja ir objektyviai vertina siūlymus ir idė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C4F5-A188-4F95-8E62-10ABD07E0B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omandos lyderio vaidmuo formuojant ir valdant komand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panijos darbinink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dėjų ir kompanijos bendrų planų įgyven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Komandos nary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komandos poreikių identifikavimas ir ten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Išteklių ieško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išteklių ir idėjų paieška komandos išorėje siekiant komandos tiksl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Įgyvendintoja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orientuojasi į sėkmingą užduoties įgyvendinimą laiku ir kokybišk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906F-5D6D-40D8-B273-2111773BF5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0280" y="1980720"/>
            <a:ext cx="8083440" cy="412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grupių elgsenos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es grupių elgsenos formavimo ir valdymo kryptis ir pžiū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5314-A752-4803-BBCC-88115B8ED6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gaus poreikio priklausyti grupei išryšk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įtakos individo elgesiui svarbos suvok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veiklos svarbos organizacijos veiklai išryšk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osi ir elgsenos priežasčių paieška ir principų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AE8B-F492-4104-B9BC-D95AD58A44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teorijo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grupių formavimas ir elgsenos motyvavim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efektyv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ių apribojim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elgsena ir vaidm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nkurencija tarp grupi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mandos ir jų form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586C-D9CB-4E9D-8753-975AE24DC3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elgsenos veiksniai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yderi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arn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erių motyv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nor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ividualūs vaidmen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lin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DC11-4892-42C6-842E-262AAE3260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fdef6"/>
                </a:solidFill>
                <a:latin typeface="Arial"/>
              </a:rPr>
              <a:t>Grupių formavimas (B. Tuckman,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1965)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Form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forming), užduoties, taisyklių, išteklių, struktūros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Konflikt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storming), emocionalus pasipriešinimas grupės taisyklė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Normalizav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norming), konfliktų sureguliavimas ir naujų taisyklų nustaty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Veikla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performing), užduočių atlikimas, sprendimų įgyvendin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baigima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(adjourning), grupės iširimas, atlikus užduot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498D-2764-44AC-A964-FDA7629A5C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ės darnumo veiksni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panaš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izinis artimumas darbo viet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Užduoties struktū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rupės dyd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šorės pavoj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lygio perspekty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o stil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našūs socialiniai faktori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ECF1-C611-46BC-850F-3758B9B9BC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Grupių efektyvumo veiksni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eformali, laisva aplin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lačios diskusijos aktyviai dalyvauj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s užduoties suvokimas ir įsipareig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riai klauso vienas k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fliktai sprendžiami konstruktyv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prendimai priimami kolegia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ėjos reiškiamos laisvai ir atvir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yderiavimas paskirst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rupė analizuoja savo pažangą ir elges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21F6-1A22-49BF-A802-89F210D301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Grupių apriboji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748720" cy="42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Grupės dyd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mažos grupės darnesnės, užtikrina dalyvavimą, didelės grupės užtikrina didesnę talentų diversifikacij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Užduoties prigimti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techninės užduotys reikalauja homogeniškų, specifinių grupių, problemų sprendimas, kūrybiškumas reikalauja įvairialypės grupės sudė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Narystė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grupės daugialypiškumas, talentų įvairovė užtikrin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ffffff"/>
                </a:solidFill>
                <a:latin typeface="Arial"/>
              </a:rPr>
              <a:t>Aplinkos veiksniai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, darbo aplinka, fizinis artumas ir kiti artimos aplinkos veiksniai, sąlygoja grupės efektyvum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1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2420-0744-4AAB-96A7-2DC133B2B3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8:18Z</dcterms:modified>
  <cp:revision>45</cp:revision>
  <dc:subject/>
  <dc:title>Introduction to Management</dc:title>
</cp:coreProperties>
</file>