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392-AA0A-481B-8779-E48B4A2E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3DE-D377-4FD0-93AF-B0F85863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85B-8287-4102-8918-8018E26E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113-F820-419F-A781-34875321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B6A3-7C6E-4E4A-AC61-5A93B0E4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8918-F75E-4923-9C43-D91B5FEF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875A-1D4B-4F9B-9C9B-3114C049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510F-3A40-4CA8-A9F3-15E75509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85B4-1DE1-4081-A4CB-0AD2FA75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41BB-0EF4-4524-9FE9-81B44B13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5368-7ED1-456D-983F-5642F650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E0B-05A5-4C48-A41C-FB48BA59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4FD6-8737-438C-82FC-48396117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2D7A-3007-45A7-86C6-E769F025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4F1D-8151-4557-AF9B-F1898C1A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3ADC-5F2F-48CC-A363-B42734F4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AA72-3755-41BC-BA8B-558E9528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08C-AA90-40B6-B042-4A134944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2F9-245D-4898-B4FB-4455A6A6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E7A-5F26-4EA2-809F-225500B1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3C4-4D18-4FFA-964E-7BBCBDF9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FEB-23B1-458F-91BC-7ADDAC5B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5FF-F8FC-49C7-9C97-E478BAEA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FFA-A56E-4C8B-AEC9-9F5E7036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B989-6BEA-4270-A1EB-B1AB57CCDB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92F3-B9E4-4895-9B2B-ACD9B1C3B2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ffffff"/>
                </a:solidFill>
                <a:latin typeface="Arial"/>
              </a:rPr>
              <a:t>Lyderiavimo teorij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888C-0BE0-49F1-A759-62883D18F25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Autoritarinis – demokratinis vald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3116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adovas daro sprendimus</a:t>
            </a: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 ir juos “nuleidži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“parduoda” sprend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sprendimus ir inicijuoja klaus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sprendimų projektus diskusija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pristato problemą, sulaukia pasiūlymų ir priima sprendim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apibrėžia sritį ir ribas bei deleguoja grupei priimti sprendim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Vadovas deleguoja pavaldiniams veikti savo funkcijų ribose ir priimti sprendim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8952-D7D1-4E1C-AFFD-B9043509CF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Atsitiktinumų teorij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ktas – vadovavimas, pag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rįstas poreikių pokyčiais, integruojant užduoties, grupės ir individualius poreik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ituacijos valdymą lemiantys veiksniai (Fiedl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7)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Lyderio ir pavaldinio santyk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Užduoties struktūrizavimo laips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Arial"/>
              </a:rPr>
              <a:t>Pareigybės valdžios ir galios laipsn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E52-25F7-4382-A751-BE098EAB69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Funkcinis lyderiavimo model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16360" y="1844640"/>
            <a:ext cx="2592360" cy="244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63640" y="3500280"/>
            <a:ext cx="2665440" cy="2521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3573360"/>
            <a:ext cx="2592360" cy="244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492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Užduotie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4076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rupė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407664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16360" y="4076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Individualūs poreiki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7D6-6C92-4654-91A4-C0F765F64B3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Lyderiavimo teorijų nuopeln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ryškintas vadovo - lyderio vaidmuo organizacijoj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Apibrėžti vadovavimo stiliai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analizuotos ir apibendrintos vadovams būdingos savybė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Suformuoti vadovavimo principai nuo autokratinio iki demokratin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analizuoti lyderiavimo būdai, priklausomai nuo situacij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Arial"/>
              </a:rPr>
              <a:t>Išryškinti vadovų asmeninė įtaka organizacijos veiklai ir santykiams su darbuotojai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071-CCE8-4652-90E2-C0ACE5AE49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ibūdint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deriavimo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teorijų susiformavimo prielaid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B2C-A372-450F-8168-52643F561B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ožiūrių į vadovo formavimosi sąlygas kai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o vaidmens organizacijose sureikšm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oreikio profesionaliems ir kvalifikuotiems vadovams aug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o – lyderio formavimo metodų ir principų sto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3C3-E96A-446D-AE7C-D7BA9F8627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ų tip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46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Charizmat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sąlygotas asmeninių savybių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Tradic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paveldėtas ar kitų aplinkybių sąlygotas status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Situacijo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atsiradimas tinkamoje vietoje tinkamu met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Paskirta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pozicijos, pareigybės suteiktas status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ffffff"/>
                </a:solidFill>
                <a:latin typeface="Arial"/>
              </a:rPr>
              <a:t>Funkcinis</a:t>
            </a: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, sąlygotas gebėjimų, žinių ir kitų savybių, lemiančių ekspertinį išskirtinum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EEC-647C-45D4-A522-174533DB82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avimą lemiantys veiksni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844640"/>
            <a:ext cx="4174920" cy="194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1844640"/>
            <a:ext cx="4032360" cy="1944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3789360"/>
            <a:ext cx="4174920" cy="20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3789360"/>
            <a:ext cx="4032360" cy="20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2133720"/>
            <a:ext cx="338292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DER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EBĖJIM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ŽIN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ASMENYB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2133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21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TIKSL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4076640"/>
            <a:ext cx="2303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PAVALDINI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GEBĖJIM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MOTYVACI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64000" y="4005360"/>
            <a:ext cx="20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400536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APLINKA / SITUA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A93-03D6-4ACE-A60E-88213793D0E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Lyderiavimo teorij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avybių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iliaus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itiktinumų teor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cijos vadovų vadovavimo žmonėms gebėjimų ir būdų analizė ir formav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2605-7146-4B0D-9C45-2A55319A23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Savybių teorij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esminių organizacijos vadovų vadovavimo žmonėms asmeninių savybių nustaty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ffffff"/>
                </a:solidFill>
                <a:uFillTx/>
                <a:latin typeface="Arial"/>
              </a:rPr>
              <a:t>Dominuojančios savybės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Protas, intelek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Energ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Sumanumas, išrading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i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%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lyderių savybių yra bend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D51-77CD-44FF-A8B2-B951C7B67B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Arial"/>
              </a:rPr>
              <a:t>Stiliaus teorij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ktas –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vadovavimo žmonėms stilių nustatymas ir form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avimo stilių kraštutinum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Autoritarini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centralizuotas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 (X vadov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Demokratini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, deleguotas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 (Y vadov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B09-9099-4273-860C-292CEC610BD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Autoritarinis – demokratinis vald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557360"/>
            <a:ext cx="8424720" cy="2592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24000" y="1557000"/>
            <a:ext cx="8424720" cy="25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84464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Arial"/>
              </a:rPr>
              <a:t>AUTORITARI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Valdžios panaudojimo sr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924280"/>
            <a:ext cx="266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Arial"/>
              </a:rPr>
              <a:t>DEMOKRATI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</a:rPr>
              <a:t>Pavaldinių laisvės srit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971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979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995640" y="4221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76720" y="4220640"/>
            <a:ext cx="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156360" y="4149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80360" y="414972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916360" y="4220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35280" y="537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27280" y="530064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5373720"/>
            <a:ext cx="46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00360" y="5373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5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6920" y="587700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EGAVIMO LAIPSN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F572-63BC-4985-A351-D99508C5467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5-03T10:57:04Z</dcterms:modified>
  <cp:revision>44</cp:revision>
  <dc:subject/>
  <dc:title>Introduction to Management</dc:title>
</cp:coreProperties>
</file>