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259A-8968-4466-935D-6E8E4EF9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DE9-B772-49EA-9C60-DC385F60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5B79-B9D0-4336-BF00-F58EBF06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C33F-BAD5-4684-96C7-C9FE430F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B087-407F-49D9-8EE6-B3CD3E7A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857B-BF40-4CAE-AA11-342C5470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A546-D391-490E-A97E-D8204B1C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7721-0E7F-4033-98C5-AD158A01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18D6-7967-4B53-B797-BD8FA7D3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8A52-B48A-44B9-B38F-4188D8AC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BBD5-E840-4F38-AFB8-15378533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B51-486F-45BA-B723-7AE99418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96B7-FC6A-4E4F-9A88-CC56FAEA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C975-B2AC-4341-8169-F6169B41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C6B6-8297-4939-8DE3-84E7376D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FB09-9C99-4164-96F3-A7CE2F47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DF1A-DCCB-49FF-8098-41C6254E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253-9437-473C-97AD-BBC25C3F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DED-CE4F-4067-A1E0-7071444F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41E5-DCA5-4BD2-B4F4-A580934D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40D-A769-48BB-93DC-85CCF0EA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D81F-FE14-43FC-9323-D8464DC7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972-53A1-4436-B7D4-2071E50F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FE7A-4EA4-4A1E-90D7-EDA04256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88D9-CC61-42C4-9CF6-3140649F40C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768A-29BD-4AE4-B893-5186E164C97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06633"/>
                </a:solidFill>
                <a:latin typeface="Garamond"/>
              </a:rPr>
              <a:t>Bihevioristinės – veiklos ir elgsenos motyvavimo teorijo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3602-F7AB-4002-85B4-81610D6BE66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400" spc="-1" strike="noStrike">
                <a:solidFill>
                  <a:srgbClr val="006633"/>
                </a:solidFill>
                <a:latin typeface="Garamond"/>
              </a:rPr>
              <a:t>Poreikių grupė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7931160" cy="47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Fiziologiniai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maistas, miegas, seksas ir 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Saugumo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poreikis stabiliai aplinkai, būstui, ir apsisaugojimui nuo pavoj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Bendravimo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(prisirišimas, meilė) – noras socialiai priklausyti grupei žmoni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Pripažinimo, pagarbos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poreikis būti gerbiamam ir pripažintam tarp kit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Saviraiškos poreikia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noras išbandyti save ir siekti rezultatų vis aukštesniame lygy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B72F-1DAB-4E8B-AC0B-BF6ED3B75E6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Douglas McGregor (X ir Y teorijo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tyri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eorija 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eorija 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lasikinės žmogaus elgesio motyvų kraštutinumus apibrėžiančios frazės – “valdymo stiliaus” folklor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315-8695-4886-BE22-852F99ED22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eorija 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dirba tik todėl, kad patenkinti savo materialinius poreiki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nemėgsta ir vengia darbo, atsakomybės ir dirba ne tą, kuris malonus, o kuris gali duoti daugiau pajam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us būtina griežtai prižiūrėti ir versti gerai dirbt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Būtina reglamentuoti veiklos turinį, nustatyti procedūras ir kontroliuot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AB1-E547-48FD-BCF2-EE21DEBDF4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eorija 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linkę dirbti ir darbas reikalingas kaip maistas ir poil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renkasi darbą, kuris jiems malonus ir gali suteikti didžiausią pasitenkinim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stengiasi gerai ir atsakingai atlikti darbą, būti ištikimi organizacijai, siekti jos tiksl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eikia suteikti darbuotojui galimybes save realizuoti, veikti kūrybiškai ir naši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1E8-F374-4D11-8193-CDF1261A629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Chris Argyri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jektas – darbuotoj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ų asmeninių poreikių ir organizacijos tikslų suderinamu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Žmonės vengia darbo ne todėl, kad tingi, bet todėl, kad verčiamu dirbti ir kontroliuojami kaip vaik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uformavo Brendimo – Brandos Teorij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Žmogaus asmenybė vystosi tam tikrose srityse, kurios keičiasi laik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DF24-6DEC-4FFC-B146-0DB2BEA9093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Brendimo – Brandos teorij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syvumas ----------------------- Aktyvu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riklausomybė ---------------- Nepriklausomyb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ibota elgsena ------------------ Įvairi elgs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viršutiniški interesai -------- Gilūs interes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rumpalaikė perspektyva --Ilgalaikė perspekty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ekimo pozicija -------------- Lygiavertė pozi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Nepasitikėjimas ----- Pasitikėjimas ir savikontrol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CDE2-2BB4-4DF9-9E8C-2F223796543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Išvad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lasikinė organizacija pasižymi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Užduočių specializavi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omandų grandinės apibrėži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Valdymo centralizavi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ontrolės išplėstu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Subrendę” darbuotojai siekia išvengti nepalankios aplinkos darbe kurdami neformalias grupes ir organizuodami veiklas prieš formalią organizacij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46D-1312-4D88-8FB9-F635DB4C893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F. Herzber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ktas – 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asitenkinimas darb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Tyrimai skirti nustatyti situacijas, kuomet darbuotojai patyrė pasitenkinimą ir nepasitenkinimą darbo vietoj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Motyvatoriai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– veiksniai, sąlygojantys pasitenkinim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Higienos veiksniai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lemia nepasitenkinim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A586-0215-47E7-B7C7-4410D27382C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200" spc="-1" strike="noStrike">
                <a:solidFill>
                  <a:srgbClr val="006633"/>
                </a:solidFill>
                <a:latin typeface="Garamond"/>
              </a:rPr>
              <a:t>Svarbiausi motyvator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siekim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ripažin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tsakomybė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aaukštin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Šie veiksniai susiję su darbo turiniu ir sąlygoja pozityvų pasitenkinimą darbu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AF97-8A15-4DC8-A3F2-A162EF6CA1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200" spc="-1" strike="noStrike">
                <a:solidFill>
                  <a:srgbClr val="006633"/>
                </a:solidFill>
                <a:latin typeface="Garamond"/>
              </a:rPr>
              <a:t>Svarbiausi higienos faktor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ompanijos politika ir administrav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riežiūra – techniniai aspekt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tlygin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arpasmeniniai santyki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o sąlyg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Šie veiksniai susiję su darbo aplinka ir gali tik mažinti nepasitenkinimą ja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A51-038E-4579-B93C-39EBF91D20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Paskaitos tiksl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pibrėžti motyvavimo koncepcij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pibūdinti Bihevioristinės – veiklos ir elgsenos motyvavimo teorijų susiformavimo prielaid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ristatyti pagrindinius autori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r teorij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pžvelgti jų nuopelnus vadybos mokslu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047-D35A-437B-9C77-D2639462D3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Rensis Liker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ktas – 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valdymo įtaka darbuotojų elgsenai derinant jų interesus su organizacijos ir formuojant santykius neformaliose grupė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Mičigano tyrimai</a:t>
            </a: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Produktyvūs vadovai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– žemi kaštai ir aukštas darbuotojų motyvacijos lygmu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Neproduktyvūs vadovai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– aukšti kaštai ir žemas darbuotojų motyvacijos lygmu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100" spc="-1" strike="noStrike">
                <a:solidFill>
                  <a:srgbClr val="000000"/>
                </a:solidFill>
                <a:latin typeface="Arial"/>
              </a:rPr>
              <a:t>Naujas vadybos modelis</a:t>
            </a: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 pagrįstas tarpasmeninių santykių rėmimu ir vystym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Vadovo funkcija – remti darbuotojo priklausomybę grupei ir skatinti asmeninę saviraiška grupės vidu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E52-CB8F-48FB-A01D-EFC70BEF183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Vadovavimo stil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92936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Eksploatacinis - autoritarini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– hierarchinė valdžia, kontrolė, bausmės, menka komunikacija, nėra komandinio darbo. Produktyvumas že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Palankus - autoritarini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– yra šiek tiek valdžios delegavimo, naudojamos bausmės, tačiau ir skatinimas, konsultuojama darbe. Produktyvumas aukštesnis, tačiau kaštai aukš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Konsultacinis –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tikslai ir užduotys formuojamos po konsultacijų su darbuotojais, naudojamas komandinis darbas. Produktyvumas geras, tačiau motyvavimas nepakanka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Darbuotojų dalyvavimas</a:t>
            </a: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 – ideali sistema, darbuotojai dalyvauja formuojant tikslus ir užduotis, gerai organizuotas komandinis darbas, gera komunikacija, aukšta motyvacija. Produktyvumas aukš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8B3-38CC-4768-BB62-77CFCAAC168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tyvavimo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 teorijų nuopeln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792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skleisti darbuotojo elgsen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ą ir veiklą, skatinantys veiksni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sisteminti žmogaus poreikiai ir jų patenkinimo svarba jų elgsen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formuoti darbuotojų motyvavimo aktyviai veiklai metodai ir princip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asmeninių ir organizacijos tikslų suderinamumo problema ir svarba veiklos rezultata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vadovų įtaka motyvuojant darbuotoju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grupių svarba motyvuojant joms priklausančius darbuotojus siekti geresnių rezultatų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DCA-1BE1-4074-96D8-2A1042CB92E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Bihevioristinės – veiklos ir elgsenos motyvavimo teorijos (vėlyvesnė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. H. Vroom (Vilčių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obbins (Turto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Lock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Lathman (Tikslų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elley (Požymių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B. F. Skinner (Gebėjimų stiprinimo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W. Ouchi Teorija “Z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E79-6D31-458E-A283-06969302FF1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V. H. Vroom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j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bjektyvia realio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ituacijos interpratecij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ilčių teor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kaip žmogus suvokia ryšį tarp trijų dalykų – pastanga, atlikimas, atlyg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ituacijos suvokimą sąlygojančių veiksnių apibrėžima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118-D15E-4BAB-B4AE-1A6303835DD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tyvavimo veiksniai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ilt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– tikėjimas, kad atitinkamas veiksmas duos laukiamą rezultat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Priemonė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 - tikėjimas, kad atitinkamų priemonių panaudojimas duos laukiamą rezultatą ir atlyg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alentinguma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– įsitikinimo laipsnis, kad patrauklus atlygis potencialiai yra įmano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1F52-A2E4-473A-82E5-C2B151FC19F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Varomoji jėga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aromoji jėga (VJ)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Force (F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– trijų motyvavimo veiksnių kombinaci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J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F)=Viltis (Expectancy E)* Valentingumas (Valence V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=E*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072D-8B64-40D4-ACF1-DADF5E39081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il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čių teorijos nuopeln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792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teikė suprantamą požiūrį į motyvavimo proces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rindė, kad individai veikia, jei yra įsitikinę, kad jų veikla duos pageidaujamus rezulta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skleidė individualaus situacijos suvokimo svarbą motyvavimo procesu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ryškino, kad efektyvus atlikimas suteikia pasitenkinimą darbu, o ne atvirkščiai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ryškino darbo veiksnių – autonomiškumas, įvairovė, užduoties suvokimas ir grįžtamasis ryšys yra svarbiausi organizuojant darb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29D0-2575-4B6A-BE66-6DEF647E590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Robbin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j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bjektyviu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ožiūriu į veiklos ir naudos santyk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urto teor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kaip žmogus suvokia ryšį tarp dedamų pastangų darbui atlikti ir gaunamos naudos (teisinguma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s suvokdamas situacijos neteisingumą patiria “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turtinę įtampą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EEB6-83CF-4378-A742-1C806249143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urtinė įtamp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Turtinė įtampa skatina elgtis taip, kad suvokiamos situacijos neteisingumas būtų panaikin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Žmogus elgiasi pozityviai, jei suvokia kad gaunama nauda yra per didelė ir reikalauja didesnių pastang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Darbas pervertin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Žmogus elgiasi negatyviai, jei suvokia kad gaunama nauda yra per maža ir neatitinka įdedamų pastang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Darbas neįvertin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C38D-EC93-42B2-A846-A8EC457B477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tyvavim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Instinktyvūs ir racionalūs procesai, kurių metu žmogus siekia patenkinti savo poreikius ir tikslus, kurie sąlygoja ir formuoja žmogiškąjį elgesį. (Cole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1995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0A86-7ADF-4316-B490-92911CFE6A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urtinė įtampos šalinimo būdai (Robbin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Galimi darbuotojo elgesio pasirinkimai, šalinant įtamp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eičiasi indėlis į darbą (nenaudoti per daug pastangų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eičiasi rezultatai (daryti daugiau, net jei ir prastesnės kokybė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Iškreipiamas savęs vertinimas (dirbu žymiai sunkiau ir daugiau negu ki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Iškreipiamas kitų vertinimas (kiti darbai žymiai patrauklesni (arba ne) negu aš galvoja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Pasirenkamas skirtingas vertinimo atskaitos taškas (nesvarbu, kad blogesnis už kažką bet geresnis už kitą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Paliekamas darb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018-B25F-4BBA-AFC8-673DC8C541F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urto teorijos esm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Individai vertina ne tik indėlio į darbą ir gaunamos naudos santykį (kaip vilčių teorijoje), bet ir siekia palyginti jį su kitomis veiklomis ir tai tampa esminiu stimulu veikl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Individai patys susikuria tam tikrus teisingo atlygio už darbą standartus... Šie standartai yra santykiniai; atlygio skirtumai suvokiami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pripažįstami) kaip teisingi už skirtingai atliktą darbą (skitingas atlikimo lygis)   Jaques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1964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9F0-C022-4B1B-B0E0-9240B47A079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Locke 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&amp;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 Lathm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katinant siekti savų tikslų ir uždavini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ų teori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žmogaus asmeniniai siekiai patys savaime yra stiprūs motyvatori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uo tikslai specifiškesni tuo labiau motyvuoja. “Atlikti darbą gerai” pats savaime nėra stiprus motyvas, tuo tarpu asmeninis specifinis tikslas yra žymiai stipresnis motyvas atlikti darbą gera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A45-C8CB-40E0-B9A3-950E0D0781F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ikslo “nuosavybė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o individualizavimas didina 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įsipareigojimą tikslui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 ir motyvaciją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Įsipareigojimas didėja, jei tikslai tampa vieš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pecifinis individualus tikslas stiprina pasitikėjimą savo jėgomis ir didina 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veiksmingumą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ų individualizavimas leidžia harmonizuoti juos su organizacijos tiksla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ikslų individualizavimas leidžia efektyviau valdyti organizaciją (MB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4C6-DB70-48FE-B144-03AD66ABB28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Kell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įtakojant vidinius ir išorinius veiksniu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ožymių teor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žmogaus elgesys įgauna tam tikrus požymius, nes jį suformuoja vidiniai veiksniai (kontroliuojami) ir išoriniai aplinkos veiksniai (nekontroliuojami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ai pasirinkdami tam tikrą elgesį daro tai sąmoningai ir verčiami tam tikrų aplinkos veiksni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843-2801-4017-82F6-DDF53B5CE6E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Elgesio požymi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idiniai kriterijai lemiantys elgesio pasirinkimą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Išskirtinu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(kaip išskirtinai ir netipiškai pasielg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Konsensus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(kaip elgesys atitinka tipišką elgesį tipinėse situacijo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Arial"/>
              </a:rPr>
              <a:t>Pastovu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 (kaip elgesys pastovus ir nuoseklus laikui bėga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Elgesys pasižymintis vidiniais kriterijais kontroliuojamas ir motyvuo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Išoriniai kriterijai lemia elgesį, vengiant atsakomybės, įsipareigojimo ir kontrolė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009-01B7-40E7-A5D1-8B486FACAB4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B. F. Skin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s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įtakojant išorinius veiksnius, naudotus praeityj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Gebėjimų stiprinimo teor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žmogaus elgesys yra ankstesnių elgesio pasekmių funkci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arbuotojo elgesį galima motyvuoti veiksniais, kurie davė rezultatų praeityje ir kurių poveikis stiprina įgūdžius veikti ateity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DE4-5AD1-4703-974E-F99238D6845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Elgesio motyvavimo būda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ozityviai skatinti norimą elges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gnoruoti nepageidaujamą elges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engti bausmių, kaip pagrindinės priemonės, siekiant norimų rezultat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stiprinti įgūdžius iš kart, kai pageidaujamas rezultatas pasiek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ikyti pozityvų įgūdžių stiprinimą reguliari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ertinti pozityvius ir negatyvius individualios aplinkos veiksn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ibrėžti norimo elgesio ir rezultato santykį kiekybišk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E36-6A46-4EB6-B122-4DAAD5BAFD2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W. Ouch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- žmonių elgesio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vima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s, taikant japoniškosios vadybos principu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Teorija “Z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Esmė – “Z” tipo organizacija siekia tobulinti savo gebėjimus koordinuoti žmones, ne technologijas, didinant produktyvumą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0CB-41C2-4CCD-92C2-9A90B7B1F7E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Japoniškosios vadybos bruožai lyginant su vakarietišk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ojalumas organizacijai / lojalumas profesij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ėtas kilimas karjeros laiptais / poreikis diktuoja kilimą karjeros laip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tas darbo keitimas / dažnas darbo keit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amda visam gyvenimui / samdos garantijų nė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ertinami ilgalaikiai darbai / vertinami darbo rezulta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lgalaikis dėmesys kvalifikacijos kėlimui / kvalifikacijos tobulinimas pagal poreik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12F9-DF87-4603-BB74-0068689D622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tyvavim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 </a:t>
            </a: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model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844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Fiziniai poreiki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im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486900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ocialiniai/ intelektiniai/ emociniai poreiki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1916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Elgs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508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Elgs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Atsak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32720" y="1916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asitenkin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32720" y="501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usivyl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04000" y="3357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Rezulta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26920" y="3715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357336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50072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3789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3573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451640" y="2276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51640" y="37893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5F1-BE09-46C4-B7E4-2F713C54DC8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Teorija “Z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naikinti visus dirbtinius barjerus statusui formuoti (harmonizavi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estruktūrizuoti darbą, sudarant sąlygas darbuotojui prisiimti prasmingą vaidmenį ir pozityviai įtakoti organizacijos sėkm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lėtoti mokymus, užtikrinant valdymo tęstinum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obulinti komunikaciją visomis kryptimis akcentuojant kompanijos veiklą, politiką ir ateities galimy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idinti individualią atsakomybę darbui, kokybei ir aplink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iegti naujoves organizacijos valdyme ir darbo organizav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5D6-445B-4B1F-8434-CE1424A37B3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otyvavimo</a:t>
            </a:r>
            <a:r>
              <a:rPr b="0" lang="lt-LT" sz="3800" spc="-1" strike="noStrike">
                <a:solidFill>
                  <a:srgbClr val="006633"/>
                </a:solidFill>
                <a:latin typeface="Garamond"/>
              </a:rPr>
              <a:t> teorijų (vėlyvesnių) nuopelnai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792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skleisti darbuotojo elgsen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ą ir veiklą, skatinantys veiksni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a žmogaus asmeninių siekių ir subjektyvios motyvacijos svarba, skatinant elgesį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formuoti darbuotojų motyvavimo aktyviai veiklai metodai ir princip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ryškinti vadovavimo principai skatinant darbuotojų subjektyvią motyvaciją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šanalizuoti ir pristatyti japoniškosios vadybos principai ir ypatum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Japoniškojo valdymo principai pateikti, kaip efektyvūs darbuotojo subjektyvios motyvacijos veiksnia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E9B-FE1A-4650-993E-7D0978DF7D5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006633"/>
                </a:solidFill>
                <a:latin typeface="Brush Script MT"/>
              </a:rPr>
              <a:t>Motyvavimo požiūriai </a:t>
            </a:r>
            <a:br>
              <a:rPr sz="3800"/>
            </a:br>
            <a:r>
              <a:rPr b="0" lang="lt-LT" sz="3800" spc="-1" strike="noStrike">
                <a:solidFill>
                  <a:srgbClr val="006633"/>
                </a:solidFill>
                <a:latin typeface="Brush Script MT"/>
              </a:rPr>
              <a:t>pagal Schein (</a:t>
            </a:r>
            <a:r>
              <a:rPr b="0" lang="en-US" sz="3800" spc="-1" strike="noStrike">
                <a:solidFill>
                  <a:srgbClr val="006633"/>
                </a:solidFill>
                <a:latin typeface="Brush Script MT"/>
              </a:rPr>
              <a:t>1965)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acionalus – ekonominis </a:t>
            </a: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Asmeninių interesų ir naudos maksimizavi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Socialinis 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Socialiniais poreikiais asmeniniais santykiais pagrįsta elgse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Saviraiškos 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Pripažinimo, pagarbos ir saviraiškos poreikiais pagrįsta elgse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000" spc="-1" strike="noStrike">
                <a:solidFill>
                  <a:srgbClr val="000000"/>
                </a:solidFill>
                <a:latin typeface="Arial"/>
              </a:rPr>
              <a:t>Sudėtingas žmogus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. Kompleksiškas ir sudėtingas įvairių poreikių, interesų ir tikslų derinys, sąlygojantis žmogaus elgsen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BEA9-FD40-4F94-9CCB-E8AEA55D48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Brush Script MT"/>
              </a:rPr>
              <a:t>Prielaidos</a:t>
            </a:r>
            <a:r>
              <a:rPr b="0" lang="en-US" sz="4200" spc="-1" strike="noStrike">
                <a:solidFill>
                  <a:srgbClr val="006633"/>
                </a:solidFill>
                <a:latin typeface="Brush Script MT"/>
              </a:rPr>
              <a:t>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Klasikinių teorijų ribotas požiūris į žmogaus svarbą organizacijo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Motyvacinių priemonių ir metodų trūkumas ir ribotum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Visapusiškų veiklos aktyvinimo motyvų paieška ir taikymo organizacijų valdyme galimybė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6D9-B07F-4B7F-B642-368CCFFE37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Bihevioristinės – veiklos ir elgsenos motyvavimo teorijos (ankstyvesnė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842840"/>
            <a:ext cx="7929360" cy="42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braham Mas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Douglas McGregor (X ir Y teorij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Chris Argyr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F. Herzberg (Motyvavimo – higienos teorij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Rensis Like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747-CA37-4FAD-A608-D9B72154D9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Abraham Mas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Amerikiečių psicholog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43m. </a:t>
            </a: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Pirmasis paskelbė žmonių poreikių, skatinančių jų elgesį, hierarchinę piramidę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Arial"/>
              </a:rPr>
              <a:t>Objektas – žmogaus veiklą sąlygojančių poreikių visu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312-B9A9-4DED-B2AF-9F2A6786BA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006633"/>
                </a:solidFill>
                <a:latin typeface="Garamond"/>
              </a:rPr>
              <a:t>Poreikių hierarchij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1484280"/>
            <a:ext cx="7848720" cy="432108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5373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iziologin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4724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4005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ndrav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34290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ipaži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2708280"/>
            <a:ext cx="22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viraišk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522936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8000" y="4581360"/>
            <a:ext cx="53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0" y="3933720"/>
            <a:ext cx="41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3284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4C2-49A5-4CD9-8C78-DF53C0C7658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00Z</dcterms:modified>
  <cp:revision>53</cp:revision>
  <dc:subject/>
  <dc:title>Introduction to Management</dc:title>
</cp:coreProperties>
</file>