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6E-60EF-411B-88E2-1E3CAE7E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F75-67B9-4A92-8605-2DB69E3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193-5FC5-45F8-A36A-5D50515F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26A-D382-4C4D-A3FC-C60E689E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6E7-1DC2-4FE7-BB22-B3127F99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69BE-E316-4B33-8716-4E176CA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121-BC6F-446D-A140-F0ECE91A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5A4-CB6A-4B20-8288-3A46F8C0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023A-DBB7-472B-A346-1E9DC858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D8C3-2727-401B-87E5-F9A5F90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B82-0E41-496E-8EFD-D46F510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AC2-F79B-4E8D-8DD8-333E74B2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00BB-125A-4511-97F2-A4849E3C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B33C-6A6D-4D9A-8E80-13C1DDD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B4C8-BA49-4759-998D-1B8D038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DDB-52D4-495D-8625-0A1A418C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2F80-727A-4079-BC56-5FDCB423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059-00E8-4B8D-B5F0-4847EA5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0EA-7285-4E79-9295-761F1C4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A85-DCD9-4090-A677-597A4E04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42E-C5A7-443F-AAA2-765D4ECE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181-9141-410B-A9A6-1E0995E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4B4-D7BF-4FE0-9751-B2BEAAF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EA8-8732-4AB2-AE47-E08D8DA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93DE-D625-4F2E-91F7-A32EE105BB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A394-E0E1-4BD0-963A-EC0029FFB8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Žmogiškųjų santykių teorija: Howthorne eksperimenta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0DC8-4357-4327-A1B7-B9BCCC157E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: išvados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1392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Individas negali būti aktyvinamas izoliuotai- bet tik kaip grupės nary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oreikis priklausyti grupei ir būti svarbiam joje yra netgi svarbesnis nei atlygis už darbą bei fizinės darbo sąlyg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Neformalios grupės turi didžiulę įtaką darbuotojo elgesiui darbo viet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Meistrai ir vadovai turi kreipti dėmesį į socialinius poreikius ir siekti juos pakreipti formalios organizacijos labu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D90-41E2-4702-ABC9-09E103F04D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ayo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ŽMOGUS – socialinis gyvūnas tiek darbe tiek gyvenime, todėl individo priklausomybė grupei yra ypatingai svarbi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F4D-2CF9-4327-954C-AF0C22B478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ary Parker Foll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68-1933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yrimų objektas – žmonių santykiai ir organizacinė struktūr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Valdymas – menas kurti daiktus per kitus žmon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141D-3060-4061-825A-C7F2380A12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Tyrimų objekt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aldžios ir autoriteto sąvokų analizė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Valdžia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 – objektyvi valdymo sudėtinė dal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utoritet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įgyjamas teisingai naudojantis valdž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02840" indent="-402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o atsakomybės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“už ką atsakau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9920" indent="-39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Grupinė atsakomybė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atsakomybė už darbų derinimą su kitais, tuo pačiu atsakant už grupės darbo rezultat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93A-1718-4A9A-9663-61FD9AEBD6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Vidiniai konfliktai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onfliktų sprendimo tipa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Domin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viena pusė sugeba įveikti kit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Kompromis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daro nuolaidas ir susita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Integravimas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– kai abi pusės ieško konflikto priežasčių ir būdų joms pašalint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iš konfliktų priežasčių – vadovavimo būd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93840" indent="-3938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Grubus komandavimo būdas iššaukia psichologinį pasipriešinim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1DE-6BBB-44A6-B194-4889DAFD94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Organizacijos reikšmė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rupės svarba – sujungiant asmeninius gabumus į kažką didesnio (sinergij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linkos veiksnių įtaka organizacijai: politika, ekonomika, biologija ir t.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ldymo objektas ne tik organizacija bet ir organizacijos aplin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elio šiuolaikinių vadybos teorijų ir požiūrių pagrin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FA4B-7DF7-4544-A1AE-8242560D69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b9efee"/>
                </a:solidFill>
                <a:latin typeface="Garamond"/>
              </a:rPr>
              <a:t>M. P. Follet išvad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31160" cy="421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20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lt-LT" sz="4000" spc="-1" strike="noStrike">
                <a:solidFill>
                  <a:srgbClr val="ffffff"/>
                </a:solidFill>
                <a:latin typeface="Garamond"/>
              </a:rPr>
              <a:t>Darbininkai, apgalvodami, kaip vykdyti sprendimus, dalyvauja valdyme – sprendimų realizavime. Todėl svarbu juo įtraukti ir į sprendimo priėmimo proces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B77-EC3A-410E-B122-BFD71F2E0C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Žmogiškųjų santykių teorij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771200"/>
            <a:ext cx="7929360" cy="42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socialinių veiksnių įtaka darbuotojų elgsenai ir darbo našumu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neformalių santykių organizacijoje svarba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žmogaus priklausomybės grupei svarba – grupių valdy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Motyvavimo aktyviai veiklai veiksnių analizė – motyvavimo teorijų ištak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Išryškinta vadovų asmeninė įtaka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su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ais ir santykiams </a:t>
            </a:r>
            <a:r>
              <a:rPr b="0" i="1" lang="lt-LT" sz="2600" spc="-1" strike="noStrike">
                <a:solidFill>
                  <a:srgbClr val="ffffff"/>
                </a:solidFill>
                <a:latin typeface="Garamond"/>
              </a:rPr>
              <a:t>tarp</a:t>
            </a:r>
            <a:r>
              <a:rPr b="0" lang="lt-LT" sz="2600" spc="-1" strike="noStrike">
                <a:solidFill>
                  <a:srgbClr val="ffffff"/>
                </a:solidFill>
                <a:latin typeface="Garamond"/>
              </a:rPr>
              <a:t> darbuotojų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6FB-13D6-405B-A780-9FC44BB990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0280" y="1977840"/>
            <a:ext cx="808344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žmogiškųjų santykių teorijos susiformavimo prielaid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99F-C021-46C2-9953-E90DCE7EC5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adovų ir pavaldinių santykių problem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384-DEB8-4515-872E-A12943927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Elton Mayo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8960" y="1904760"/>
            <a:ext cx="793116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880 – 1949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arvard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dybos mokyklos p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ichologijos profesoriu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Žymiausiais žmogiškųjų santykių problemų tyrinėtojas XX amžiuj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1927 – 1932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Vakarų elektrotechniko kompanijos Howthorne gamykloje Čikago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tliko </a:t>
            </a: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tyrimus, tapusius vadybos mokslo klasik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Garamond"/>
              </a:rPr>
              <a:t>Objektas – žmonių socialiniai santykiai darbe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0C6-C546-458B-962B-C1C513885C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3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Pirm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4 – 192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apšvietimo darbo vietoje įtaka darbo našum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vi darbuotojų grupės atskirtos viena nuo kitos ir nuo kitų gamyklos darbuotoj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Viena – kontrolinė grupė – turėjo pakankamų, pastovų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Kita- -eksperimentinė grupė – kintamą apšvietim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biejų grupių darbo našumas padidėjo, net ir stipriai sumažinus apšvietimą eksperimentinei grupe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2AD-AE34-4F62-A508-37D86CFE90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Antroji stadija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1927 – 1929)</a:t>
            </a:r>
            <a:r>
              <a:rPr b="0" i="1" lang="lt-LT" sz="2800" spc="-1" strike="noStrike">
                <a:solidFill>
                  <a:srgbClr val="ffffff"/>
                </a:solidFill>
                <a:latin typeface="Garamond"/>
              </a:rPr>
              <a:t> – Rėlių surinkimo bandymų kambar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Objektas – fizinių darbo sąlygų įtakos darbo našumui tyr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Šešios darbininkės atskirtos nuo kitų darbuotoj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Buvo atliekama fizinių darbo sąlygų kaita: įvestos poilsio pertraukėlės ir keičiama jų trukmė, pietų pertraukos laikas ir trukmės keičiami ir pa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Darbo našumas auga, nepaisant darbo sąlygos gerėjo ar blogė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Garamond"/>
              </a:rPr>
              <a:t>Išvada – Howthorne efektas – darbininkės reagavo ne tiek į pokyčius, kiek į joms rodomą dėmesį – objektas peraugo į požiūrių ir vertybių tyrim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D486-546D-481F-89C8-A787088827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Treči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28 – 1930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uotojų požiūrių į darbo sąlygas, jų priežiūrą ir jų darbą tyrim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Apklaust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000 darbuotoj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Pasėkoje - pagerintos darbo sąlygos, patobulinti darbo priežiūros metoda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apo aišku, kad darbuotojų santykiai bei vadovų santykis su darbuotojai yra labai svarbus veiksnys, formuojant darbuotojų požiūr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866-B4AE-462C-BB8F-999664CDFE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Ketvirtoji stadija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(1932)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– elektros instaliacijos </a:t>
            </a:r>
            <a:r>
              <a:rPr b="0" i="1" lang="lt-LT" sz="3200" spc="-1" strike="noStrike">
                <a:solidFill>
                  <a:srgbClr val="ffffff"/>
                </a:solidFill>
                <a:latin typeface="Garamond"/>
              </a:rPr>
              <a:t>gamybos priežiūros kambar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Objektas – darbininkų darbo našumo tyrimas įprastomis sąlygomis, tačiau izoliuotai nuo kit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 vyrų buvo perkelti dirbti į atskirą patalp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o sąlygos buvo daugiau mažiau tos pači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Tyrimas truko šešis mėnesi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Garamond"/>
              </a:rPr>
              <a:t>Darbuotojai gana greitai nustatė savo bendravimo taisykles, požiūrius bei suformavo neformalią grupę, kuri siekė apsisaugoti nuo išorinės įtakos, tuo pačiu kontroliuodama vidaus tvark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1A6-6924-422C-911C-03E646C670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700" spc="-1" strike="noStrike">
                <a:solidFill>
                  <a:srgbClr val="b9efee"/>
                </a:solidFill>
                <a:latin typeface="Garamond"/>
              </a:rPr>
              <a:t>Howthorne eksperimentai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7491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ffffff"/>
                </a:solidFill>
                <a:latin typeface="Garamond"/>
              </a:rPr>
              <a:t>Baigiamoji stadija </a:t>
            </a: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(1936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rim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ezultat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yrimas ir i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dos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profesinio orientavimo porei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nalizuotas darbininko – meistro, ir darbininko – vadovo santyk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šryškintas meistro vaidmuo, analizuojant darbininkų darbo problemas ir ieškant būdų jas sprę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C89-4A4C-4A18-8B52-A76ED68F15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29Z</dcterms:modified>
  <cp:revision>44</cp:revision>
  <dc:subject/>
  <dc:title>Introduction to Management</dc:title>
</cp:coreProperties>
</file>