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B648-02AF-492E-9458-7E78152D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16F0-E8C3-4F45-9E58-65268E0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8DC-AADF-4009-B2EA-B053807C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E1A-241A-41C1-9301-DEA59B4F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0D10-58FE-4642-9F78-F78A0A45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0A6C-F944-4A1A-899F-8BD99339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B2DE-7D03-46E0-8856-0E98A095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B982-0151-4797-8CB9-6AABAA58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43D7-12A4-416E-B368-5508ABA8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8888-803C-41BD-8626-584BC26A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BDE7-03EA-44F4-B7F3-5ACBF414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62A-5AE2-468C-BF02-FFBDA745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E129-8DE2-4D88-A0A7-1622E79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FFCD-712C-4D5C-8E52-BA3BE83D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BB1A-4690-4B9A-9208-EB623B86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BDF5-B8D1-43E6-AFB2-64A18C6D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5AF4-7C45-4BC1-B854-22E547D0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B13-02BB-4E83-96C0-594273A9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229-BB6D-41CA-B281-06DE77FB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3EB-9297-453C-A8F5-279F810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624-160F-4A21-A187-38F40188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9C9-6858-416B-995F-73BAF495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DE2-20B4-4EA0-ABB3-4885FD2E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C5CC-E095-4874-AB33-1E63361B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6D7D-288F-4552-ABC7-B2BDBC88EA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E752-B8FA-4EBE-AB48-0DE5341F57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bbd71"/>
                </a:solidFill>
                <a:latin typeface="Arial"/>
              </a:rPr>
              <a:t>Klasikinės sociopsichologinės teorijos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F2B5-0822-41C6-8BE7-5218C75E5AF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avybi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iliau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tsitiktinumų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os vadovų vadovavimo žmonėms gebėjimų ir būdų analizė ir formavi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EDA-BA28-4702-BC9D-AB248296E4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efektyvu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ių apribojim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rupės elgsena ir vaidmu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nkurencija tarp grupi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omandos ir jų formavi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monių grupių formavimas ir elgsenos motyvav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BCF-AB63-41D6-87CF-D222F66DAD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. Ker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W. Geller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. Pe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. Par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dalyvavimas užduočių formavime ir sprendimų priėm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D6E0-300C-4E9C-A93A-406867DCC1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nuopeln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s žmogaus vaidmuo organizacijoj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arengti darbuotojų tarpusavio santykių pagrindai, išryškinant vadovų ir pavaldinių santyki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Suformuoti darbuotojų motyvavimo aktyviai veiklai metodai ir princip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radėti spręsti organizacijos ir visuomenės santykių klausima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pjungtos klasikinių teorijų nuostatos su socialiniais ir psichologiniais princip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šryškinta vadovų asmeninė įtaka organizacijos veiklai ir santykiams su darbuotoja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529-A939-4BF0-BCF5-7E22F6F1B3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bbd71"/>
                </a:solidFill>
                <a:latin typeface="Arial"/>
              </a:rPr>
              <a:t>Sociopsichologinių teorijų ribotuma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Per didelis akcentas darbuotojų tarpusavio santykiams, psichologiniams veiklos motyvams iškreipia kompleksinį vadybos objekt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Žmonių motyvuotos elgsenos ir pasitenkinimo siekis nukreiptas savotiškos laimės kūrimui yra nenatūraliai pabrėžtas. Organizacijos funkcija – nėra kurti laimę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rganizacijos funkcija – sudaryti sąlygas žmogui siekti savo laimė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956-AFE3-4490-8662-0E59514F90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0280" y="1981080"/>
            <a:ext cx="8083440" cy="412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opsichologini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 teorijų susiformavimo prielaid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pagrindinius autor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ų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531-BB7F-4C49-9A29-D9F6029E21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ių teorijų ribotas požiūris į žmogaus svarbą organizac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rganizacijų vadovų didelis dėmesys darbo organizavimui ir produktyvumo didinimui, tačiau mažas darbuotojų darbo sąlygų gerini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rbuotojų nepasitenkinimas darbo sąlygomis ir motyvacine sistema organizacij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5A3-F0B4-4DE0-81F3-B9C6876233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bbd71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bbd71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eitėsi žmonių darbo ir vadovamo jiems princip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parti ekonominė plėtra ir žmonių koncentravimasis miestuose (ypač JAV) lėmė poreikio pramogoms ir laisvalaikiui augi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amybos kompanijos išgyveno krizę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Akcij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r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gimas)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 ir klasikinių metodų ribotum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3A4-84AF-4336-AFA1-7F8261B62A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ių teorijų esmė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78960" y="1908000"/>
            <a:ext cx="7931160" cy="42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nių elgesio organizacijose tyrimas ir formav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Žmogiškojo faktoriaus svarbos išryškini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žmonių motyvavimas, grupių santykiai ir lyderiavim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15F-42F1-459B-A960-BE0FBD8944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Sociopsichologinės teorijo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Lyderiavimo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Grupių elgsenos teori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isuotinio dalyvavimo valdyme (partisipatyvinė) te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5A2-0F60-413D-B5A5-B0A68457D6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Žmogiškųjų santykių teo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Elton Ma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Mary Parker Fo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žmonių tarpusavio santykiai, psichologinių ir socialinių veiksnių įtaka organizacijos veiklos efektyvumu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783-CBBA-4864-B1E3-D890211939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ankstyvesnė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braham Mas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ouglas McGregor (X ir Y teorijo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Chris Argy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F. Herzberg (Motyvavimo – higienos teor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Rensis Lik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3BA-F537-441D-BC4A-A9AEE2F782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dbbd71"/>
                </a:solidFill>
                <a:latin typeface="Arial"/>
              </a:rPr>
              <a:t>Teorijos ir autoria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ihevioristinės – veiklos ir elgsenos motyvavimo teorijos (vėlyvesnė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H. Vroom (Vilč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obbins (Turt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Lock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Lathman (Tiksl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elley (Požymių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B. F. Skinner (Gebėjimų stiprinimo teor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darbuotojų veiklos aktyvinimo motyvų analizė ir skatin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58C-644F-459A-92CC-F167D07619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14Z</dcterms:modified>
  <cp:revision>41</cp:revision>
  <dc:subject/>
  <dc:title>Introduction to Management</dc:title>
</cp:coreProperties>
</file>