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CC7-C955-4C0A-956D-B6A5D52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20A-9DE5-45FB-B0D4-1DC0E93F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F2E-49E8-4F21-9E14-FE75A4DC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703-1818-4E85-853D-94D3878B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2F4-BEEC-4D80-9EA3-7BBA7469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B830-9B2C-47C4-A7C9-B1DEEBE2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CDED-F23B-4D76-86C5-1CDF6887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69D-B6D4-4D10-8E43-151C82D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638-E44E-48BE-9CDB-93E276BD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FA20-3465-46B2-B437-9F7F72BC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499F-DFD1-4B5F-8BB6-405280B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8D1-6F88-43F4-8C74-43FD715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75C9-8847-4E05-9A66-D8E69FD5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7595-B837-4F49-AA45-A1BAB8F2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349-18C0-4DC6-BFEF-EF78207C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790E-1AB8-4F4E-884C-5618AD19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C40-A558-4E11-A269-944B6554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F30-50A8-4DF8-943A-1464316A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E9E-5237-44EB-9142-26C6D44E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548-B27E-41B3-A1C5-8DA12394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0EC-220C-4088-B288-F0C9C6F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E8E-2CBA-42E6-8A20-FC6C6BF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305-1347-4EF9-B068-CC0C8E1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9C4-3257-4E53-AB40-B4BEF06D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DCA2-1557-414C-9717-84E6447A7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A588-CED8-4E80-AFCA-6F1B23D6DF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M. Weber idealaus biurokratinio valdymo teor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15EC-ED21-42A9-811F-AFCBF544D0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3399"/>
                </a:solidFill>
                <a:latin typeface="Tahoma"/>
              </a:rPr>
              <a:t>Weber biurokratijos koncepcijos esmė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zuoti ir reglamentuoti santykius tarp darbuotojų organizacijoje, suformuoti “nuasmenintą” santykių atmosferą, eliminuoti vienų prielankumą (neprielankumą) kitiems. Bet koks nukrypimas nuo reglamentų neigiamai veikia darbo efektyvumą ir rezultat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9CC-A0A7-44A6-972D-B0D75D66FA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Hierarchinė struktūr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aiškiai apibrėžta valdžios hierarchija yra racionalaus darbuotojų elgesio kontrolės pagrin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reigybės yra sujungtos vertikaliais ryšiais, sudarančiais įsakymų linij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didėja su kiekvienu laipteliu aukšty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Darbų grupė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truktūriniai padaliniai, kurie leidžia kompleksinius darbus racionaliai suskaidyti į atskiras operacij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 leidžia efektyviausiai panaudoti darbuotojus ir lengviau specializuoti naujai priimt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61-6204-4743-AA73-F892096D26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aisyklės ir procedūr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svarbu paskirstyti taisykles ir procedūras organizacijos darbuotojams formuojant sprendimo priėmimo grandinę ir darbuotojų elges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Taisyklės ir procedūros garantuoja organizacijos stabilumą ir apsaugo nuo savanaudiško elges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echninė kompetenc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acionaliai apibrėžtos pareigybės leidžia parinkti geriausiai kompetentingus darbuotoj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Garantuoja personalo parinkimo objektyvum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AE9-A784-4BB5-ACCB-3133AA68C9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3399"/>
                </a:solidFill>
                <a:latin typeface="Tahoma"/>
              </a:rPr>
              <a:t>Biurokratijos struktūrinė charakteristik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9840" y="1699920"/>
            <a:ext cx="871380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Nuosavybės atskyr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atskiriant savininkus nuo valdymo galima užtikrinti objektyvesnį valdymą, nepagrįstą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Savininkai daugiau orientuojasi į kuo didesnį pelną, bet ne į produktyvumo didinim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Pareiginė valdžia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valdžia suteikti pareigybei, bet ne asmeniui, vengiant jos panaudojimo savanaudiškais tikslai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smuo, praradęs pareigas, praranda ir valdži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600" spc="-1" strike="noStrike">
                <a:solidFill>
                  <a:srgbClr val="000000"/>
                </a:solidFill>
                <a:latin typeface="Tahoma"/>
              </a:rPr>
              <a:t>Faktų fiksavimas</a:t>
            </a: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 – būtina raštu fiksuoti visus įvykius bei sprendimus ateities sprendimam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B8A-BE47-45D8-92B8-512142BF88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Ideali organiza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lt-LT" sz="3600" spc="-1" strike="noStrike">
                <a:solidFill>
                  <a:srgbClr val="000000"/>
                </a:solidFill>
                <a:latin typeface="Tahoma"/>
              </a:rPr>
              <a:t>Visiems laikantis nustatytų taisyklių ir procedūrų, nelieka vietos asmeniškumams, formuojasi “sveika korporacijos dvasia”, nėra sąlygų intrigoms, paskaloms ir panašiems dalykams. Tokia atmosfera sąlygoja aukštą veiklos efektyvumą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E57-DF52-43C6-80FC-4EF898088B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Weber nuopelnai vadyb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irmas kompleksiškai suformuluotas požiūris į organizacijos formaliąją struktūrą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Biurokratinės – tiksliai veikiančios organizacinės struktūros reikšmės išryškinimas organizacijos veiklos efektyvumu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s struktūros svarbos formalių tikslų siekimui išryškinima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Organizacinė struktūra būtina ir galima bet kokioje organizacijoje, nepriklausomai nuo dydžio ir kompleksiškumo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šryškinta koordinavimo ir kontrolės svarba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954-92F0-48A6-96E8-0011471E04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50640" y="2363760"/>
            <a:ext cx="76359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ūdinti biurokratinio valdymo teorijos prielaid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ibrėžti biurokratijos samprat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ristatyti Max We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pžvelgti jo nuopelnus vadybos mokslu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31F-5178-43C0-A643-B3CAEA4A24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Monopolinių organizacijų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imo ir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y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nės valdymo struktūros sureikšminimas Fayol ir Taylor darbu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Įmonių valdymo ir veiklos organizavimo efektyvumo proble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5EB-440D-40D0-AC9B-344BE9CC34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92120" y="2296800"/>
            <a:ext cx="749160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Tradicinė samprata. Biurokratija – valdymas, panaudojant biurų sistemą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Weber samprata. Biurokratija – valdymas, organizuojant grupinę veiklą, šią veiklą griežtai reglamentuojant taisyklėmis, standartais, instruk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448-474B-4DE2-B2FC-C7807BD72A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Biurokratijos esmė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9160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raudonoji linija”, pagrįsta daugybe neefektyvaus popierinio darbo ir nelanksčių taisyklių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valstybinis aparatas”, susijęs su vietinės ar centrinės valdžios institucijomi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ahoma"/>
              </a:rPr>
              <a:t>Biurokratija – “organizacinė forma”, pagrįsta dominuojančiais elementais – valdžios hierarchija ir taisyklių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D53-F01A-44D1-B2D1-D9767447E9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Max Web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864 – 192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nas 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š vadybos teorijos pionieri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okiečių sociolo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kademik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as –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organizacijos valdymo struktūrizavimas ir valdžios racionalizavi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B01-28C7-4896-9E38-64EE8F6C9C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3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3399"/>
                </a:solidFill>
                <a:latin typeface="Tahoma"/>
              </a:rPr>
              <a:t>Valdžia / Gal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Gal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smens gebėjimai kitą žmogų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Valdž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galia, įteisinta tam tikrais įstatymais ir suteikianti teisę </a:t>
            </a:r>
            <a:r>
              <a:rPr b="0" i="1" lang="lt-LT" sz="3200" spc="-1" strike="noStrike">
                <a:solidFill>
                  <a:srgbClr val="000000"/>
                </a:solidFill>
                <a:latin typeface="Tahoma"/>
              </a:rPr>
              <a:t>priversti 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kitus žmones elgtis tam tikru būd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F4E-8298-4B5E-A8F2-A39347CC31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Gal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ATSILYGIN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BAUD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EKSPERTIN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ATRAUKLU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FORMAL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8D7-0726-4E19-9BFD-5E55ED07C8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44440"/>
            <a:ext cx="7648560" cy="13096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3399"/>
                </a:solidFill>
                <a:latin typeface="Tahoma"/>
              </a:rPr>
              <a:t>Valdžios form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749124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Tradic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 sąlygota tradicijų ir įsitikinimų (monarchija ir pan.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Charizmat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ąlygota pagarbos ir pasitikėjimo asmenybe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cionali – teisin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aldžia, suteikta pareigybės ir apibrėžta taisyklėmis ir procedūromi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2C1-A7F3-4410-9DDE-B1816C6214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1:44Z</dcterms:modified>
  <cp:revision>38</cp:revision>
  <dc:subject/>
  <dc:title>Introduction to Management</dc:title>
</cp:coreProperties>
</file>