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7633-F80C-4AD7-AE84-F39EF990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CCA0-F90B-4341-B213-CA73FA21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B60D-BA63-46A2-A925-6FE352B8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4C61-EF83-47A2-B4F5-CFB2CCA5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790CE-415E-42F7-93C6-445ACB6C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433E4-3E47-41DC-A6B5-995C21BC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F4EB1-5053-4AB1-835B-4DCC2F44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E0131-11A5-4E89-AF62-D075FD32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DD4A3-416B-437A-9174-70FB59B6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DCD62-A610-472A-83E8-7B134D76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6D526-DE3D-4EBC-B920-D27CD9AD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5CE4-DF88-4572-B686-8F05E2C5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0EE75-17C9-423D-87DD-ED3B760F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264D5-927C-4B2F-8276-F43E7EDA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26F84-9EDD-4AF8-80B7-36E66C2E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6A26B-E22F-4195-BD83-B3B4049E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4CB22-7A50-4724-B130-A8EDB234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F9C4-3E98-4A98-B11E-5EB3CB04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F5B5-301F-4629-ACDE-DEB91A3E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DD26-785E-449B-996F-3A1BEC56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1FB2-953E-4B0B-AC6C-1F83CFAB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2736-84E0-4C25-BDB1-261B996C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2F25-9C7A-4411-8100-E8924A8A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0AAE-3462-4870-8384-8E7B9E6B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76D1-2587-44BE-94DB-E32EA19029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34EB-E01E-4CD9-99D2-A52E4835D6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345440" cy="49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Vadybos mokslas Lietuvoje: </a:t>
            </a:r>
            <a:br>
              <a:rPr sz="4400"/>
            </a:b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V. Graičiūno indėlis į klasikinės organizacijos teorijos raidą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DCD4E-77CD-4CA2-8542-305F38D89AD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Organizacijos vidiniai ryšiai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bjektas – organizacijos vidiniai ryšia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Teorija apie valdymo procesą, vadovo darbo turinį ir “valdomumo normą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rganizacijos vidinių ryšių klasifikavi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Tahoma"/>
              </a:rPr>
              <a:t>Tiesioginiai individualūs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ryšiai (a) – tarp vadovo ir pavaldinio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Tahoma"/>
              </a:rPr>
              <a:t>Tiesioginiai grupinia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ryšiai (b) – tarp vadovo ir dviejų ar daugiau pavaldini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ffffff"/>
                </a:solidFill>
                <a:latin typeface="Tahoma"/>
              </a:rPr>
              <a:t>Kryžminiai ryšia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(c) – pavaldinių tarpusavio ryšia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1486-EACF-4B04-A4A4-EAC74CCEC44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Valdomumo nor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Jei pavaldinių skaičius – n, o visų galimų ryšių skaičius – f, ta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=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=n (n – 1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=n (2</a:t>
            </a:r>
            <a:r>
              <a:rPr b="0" lang="en-US" sz="2800" spc="-1" strike="noStrike" baseline="50000">
                <a:solidFill>
                  <a:srgbClr val="ffffff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 2 – 1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=a + b + 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=n (2</a:t>
            </a:r>
            <a:r>
              <a:rPr b="0" lang="en-US" sz="2800" spc="-1" strike="noStrike" baseline="50000">
                <a:solidFill>
                  <a:srgbClr val="ffffff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 2 + (n – 1)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dovas produktyviai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ali valdyt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tiesioginių individualių ryšių (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8 tiesiogin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ų grupinių ryšių (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Optimalus pavaldinių skaičiu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-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54EF-B51F-4C9D-A257-FDE7E283E56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4000" spc="-1" strike="noStrike">
                <a:solidFill>
                  <a:srgbClr val="ffffff"/>
                </a:solidFill>
                <a:latin typeface="Tahoma"/>
              </a:rPr>
              <a:t>Organizacijos vidiniai ryšiai”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lt-LT" sz="4000" spc="-1" strike="noStrike">
                <a:solidFill>
                  <a:srgbClr val="ffffff"/>
                </a:solidFill>
                <a:latin typeface="Tahoma"/>
              </a:rPr>
              <a:t>reikšmė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rganizacijos grupini</a:t>
            </a: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ų ir kryžminių ryšių reikšmės organizacijos valdymui išryškinima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Metodologiniai pagrindai organizacijos ryšiams apskaičiuoti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Metodologiniai principai valdomumo normai nustatyti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Matematinių skaičiavimų taikymas valdymo ryšiams analizuoti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Labiausiai cituotas nacionalinis vadybos darb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969m. </a:t>
            </a: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Niujorke išleistas pakartotinai “Pakartotinos ekonomikos klasikų publikacijos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A9F3-414C-4F2E-8DC9-D551A020334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V. Graičiūno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kslin</a:t>
            </a: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ė veikla Lietuvoje po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935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792972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38m.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Įsteigė Mokslinės vadybos draugij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Tikslas: “tyrinėjimais, diskusijomis, spauda ir kitomis tinkamomis priemonėmis kelti lietuvių ūkinį pajėgumą ir ekonominę gerovę, praktiškai taikant vadybos dėsnius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3830-762B-47D8-8321-6FAD8773B90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Tahoma"/>
              </a:rPr>
              <a:t>Mokslinės vadybos draugijos veikl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2936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dybos dėsnių pripažinimas ir propagavim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Nariai: kariškiai, inžinieriai, ekonomista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traipsniai spaudoj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Aktualių vadybos temų pristatymas. Vien pirmaisiais veiklos metais aptart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 temų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Organizacijos pradai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Sąlygos mokslinei vadybai įvesti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Ganto grafikų pritaikyma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Asmeninio darbo organizacij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Funkcinė sistema organizacijoj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ahoma"/>
              </a:rPr>
              <a:t>Skatinimo problema organizacijoje ir k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Uždaryt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40 meta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7C80-5C92-410B-B7B1-2BB41A23727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V. Graičiūno veikla Lietuvoje po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940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29360" cy="434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40 - 1941m. Techninio skyriaus vir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šininkas Vietinės pramonės 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audies komisari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45m. Pramo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nės skyriaus vedėjas Liaudies komisarų Taryboje, Tyrimų skyriaus viršininkas “Lietstatprojekt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45 – 1948m.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Ėjo 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cento pareigas VDU statybos fakulte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48 – 1951m., atleistas is universiteto, Dirbo “Kotono”, “Silvos” fabriku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51m.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Ištremt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52m.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Nusižudė lageryje Olžease (Kamerovo) srityj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F91F-CDAC-4C28-A3F4-EC5870AE817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V. Graičiūno nuopelnai vadybos moksl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92936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Teorija apie pavaldinių veiklos koordinavimą, analizuojant organizacijos vidinius ryši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Novatoriškas požiūris į matematinių modelių taikymą valdy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aldomumo normos” nustatymo metodinių principų apibrėži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Naujų vadybos mokslo teorijų ir idėjų propagavimas Lietuvoj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aldymo metodų taikymas praktikoje Lietuvos ūkyj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. Graičiūno veikla Lietuvoje žinoma tik nuo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88m.,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išspausdinus jo straipsnį lietuviška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20EE-5BE9-453B-A7FF-D78AB599F70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0280" y="2251080"/>
            <a:ext cx="808344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ibūdinti klasikinės organizacijos (administravimo) teorijos plėtrą Lietu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ristatyti Vytautą Graičiūn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žvelgti jo nuopelnus vadybos mokslu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0D57-2C79-4F3A-8E60-1F0F90D5F76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ffffff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irmasis pasaulinis darbo mokslinio organizavimo kongresas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4, Prah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alyvis iš Lietuvos – Lietuvos universiteto profesorius J. Šimk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traipsnis “Darbo organizacija”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4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Objektas - pagrindinės F. Taylor ir jo pasekėjų teorijos tezė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941-108A-47B0-B8FB-A2834F4FC4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Klasikinės organizacijos (administravimo) teorijų plėtra ik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35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8960" y="2184120"/>
            <a:ext cx="793116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P. Raulinaiti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Knyga “Administracijos principai”,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926m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. Fayol </a:t>
            </a: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teorinės tezės iš veikalo “Bendrasis ir pramoninis valdymas”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916m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Knyga “Darbo organizacijos matmenys”,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1930m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. Taylor teorijos pagrindai</a:t>
            </a:r>
            <a:r>
              <a:rPr b="0" lang="lt-LT" sz="3000" spc="-1" strike="noStrike">
                <a:solidFill>
                  <a:srgbClr val="ffffff"/>
                </a:solidFill>
                <a:latin typeface="Tahoma"/>
              </a:rPr>
              <a:t>, jų pristatymas, polemika, kritika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F360-50E1-40F9-8121-E61F6FAA19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Klasikinės organizacijos (administravimo) teorijų plėtra ik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35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S. Naceviči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traipsnis “Teilorizmas ir fajolizmas žemės ūkyje arba žemės ūkio darbams racionalizuoti etiudas”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33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ktas – klasikini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ganizacijos vadybos princip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aikymas žemės ūkyj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G. Galvanausk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traipsnis “Darbas administracinėse įstaigose”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34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29840" indent="-4298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ktas – </a:t>
            </a: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tarnautojų parinkimo, priėmimo, darbo organizavimo klausima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EE61-A3F4-478E-B3C7-A560979CFF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8077320" cy="1239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ytautas Andrius Grai</a:t>
            </a: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čiūn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8960" y="2184120"/>
            <a:ext cx="793116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98 – 1952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Gimė Čikagoje, lietuvio gydytojo šeimoj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14 – 1917 studijavo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Čikagos universitete, Administracijos ir komercijos fakulte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17 – 1919 tarnavo JAV karo aviacijoj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20 – 1923 studijavo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Čikagos technologijos institute ir įgijo bakalauro diplom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23 – 1925 dirbo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adybos patarėju keliose Čikagos ir Niujorko kompanij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C2D3-596A-4B7D-9476-0EF7C3F315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V. Graičiūno profesinė veikla Lietuvo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792972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6m. Atvyko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į Lietuvą ir dirbo “Metalo” fabriko technikos vedė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Bandė organizuoti fabriko bazėje įkurti “Ford” koncerno automobilių surinkimo įmonę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Negavęs paramos savo idėjoms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7m.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Išvyko iš Lietuvos į Vakarų Europ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C4B2-FD1C-4B6D-A0FE-8F9A9F3EE8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ahoma"/>
              </a:rPr>
              <a:t>V. Graičiūno profesinė ir mokslinė veikla Europo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29360" cy="43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irbo analitiku, konsultantu įvairiose kompanijose Vokietijoje, Olandijoje, Prancūzijoje, Šveicarijo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nalizavo ir sprendė įmonių ekonomines ir organizacines proble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9m. 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Dalyvavo ketvirtame tarptautiniame Vadybos kongrese Paryžiu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traipsnis “Organizacijos vidiniai ryšiai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FEF0-D4BC-4F55-B7B5-2BEEE20708B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4400" spc="-1" strike="noStrike">
                <a:solidFill>
                  <a:srgbClr val="ffffff"/>
                </a:solidFill>
                <a:latin typeface="Tahoma"/>
              </a:rPr>
              <a:t>Organizacijos vidiniai ryšiai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3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arengtas artimai bendradarbiaujant su L. Urwick, Tarptautinio valdymo instituto Ženevoje direktorium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33m. 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Straipsnis išspausdintas Ženevos TVI biuletenyje, anglų kalba “Relationship in organization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37m. Straipsnis 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ausdintas specialiame straipsn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inkinyje “Administracijos mokslo ap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ga”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(Niujorkas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Rinkinyje žymių to meto mokslininkų darbai:  A. Fayol, E. Mayo ir k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4187-EB05-4570-8C10-19C9CB71E16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2:02Z</dcterms:modified>
  <cp:revision>35</cp:revision>
  <dc:subject/>
  <dc:title>Introduction to Management</dc:title>
</cp:coreProperties>
</file>