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D2B84-17B1-4843-8FCB-44600AAB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B9E89-3818-478E-87FD-C7877831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1252-0FAA-4E97-B188-59B5C6C9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208E1-5478-4EBB-9A97-9EA8563D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8EF2-C7BC-4E0E-BD14-6DD2283D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0CC0-6F38-4254-A91F-6202B8F0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3110-E368-4303-AF2F-E0699C14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69D1-C983-4AED-B007-01688423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7A2E-8AF4-4EEA-A50F-FBD6C98C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60C3-923A-43F7-A0A8-D6DEF03F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2BAE-8983-4FE4-A0BD-C08E306F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3D511-54E4-43C9-98D1-120E31A8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9F54-FC83-48ED-B437-78ED746C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6B11-56A9-430C-A3F3-18D2CF58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9A46-11F4-4E1C-8B5D-3F55B49A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1B3F-84C1-482E-B619-B3940502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91B3-9DA2-4003-84A2-72BD42AD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B3A9D-B72C-48A5-877E-BF68BC4C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35B8C-09C3-493D-A1D9-906F5349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CBB2-2DC2-435D-9F63-6D2FCFCC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1199-0645-4506-974B-FB4B0C6C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13443-4BEC-4DF7-AEE7-08472612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F5337-643C-49AE-A8C1-74A5E2B8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1D74-2C17-40F2-A9D1-642BDEFB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B453-0529-440E-A80D-93B585FFE2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469D-A068-4363-AE85-05C7334512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dfdef6"/>
                </a:solidFill>
                <a:latin typeface="Arial"/>
              </a:rPr>
              <a:t>Klasikinės organizacijos teorijos mokykla: H. Fayol vadybos principai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FDB4-6BFA-4F41-B227-738E9813228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Valdymas – bendrųjų valdymo funkcijų cikla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Numat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Organiz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mand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er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ntrol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8DE5B-7CFA-4E9B-ACDB-3C2DF5F60D2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Fayol principų vertinima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9152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Fayol išryškino organizacijos formaliosios, centralizuotos ir biurokratinės struktūros požym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škelta darbuotojų ir įmonės interesų derinimo bei valstybės vaidmens svar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ugriovė mechanistinės organizacijos suvokimą – žmogus tampa svarbia organizacijos dalimi su savo poreikiais ir būtinybe gerai jaustis organizacijo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irmasis suformulavo originalius, nuosekliai išdėstytus organizacijos valdymo principus, kurių dauguma tinka ir šiuolaikinėms organizacij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44F2-0D8A-4843-923D-5CEDAF50B9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Chester Bernar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886-19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ompanijos Bell preziden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Tyrimų objektas – organizacijos ir individualių tikslų suderinamum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Organizacijos priklausomybės nuo asmeninių ir neformalių grupių sieki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8095-F92C-4221-8035-E50375A73C3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Abejingumo zo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ldžios deleg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Kuo daugiau veiklų pakliūva į abejingumo zoną, tuo tolygesnė ir vieningesnė organiza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dovų užduotis – ugdyti darbuotojų moralinius tiks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uotojas – pagrindinis organizacijos strateginis veiksn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rganizacija – kooperatyvi grupėmis dirbančių individų for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FDFD-0405-4ECA-8C84-EA6612F6980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L. Gulic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ffffff"/>
                </a:solidFill>
                <a:latin typeface="Arial"/>
              </a:rPr>
              <a:t>POSDCORB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lanavimas (plann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rganizavimas (organiz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ersonalo formavimas (staff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dovavimas (direc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oordinavimas (coordin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kaitomybė (Repor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Biudžeto sudarymas (budge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207DB-AC2A-4BF2-BDA3-C2272E2F0B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Lyndall F. Urwic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The Elemts of Administrat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947m.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soliduoti valdymo principa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ks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iz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ordina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d</a:t>
            </a: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ž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tsakomyb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Pareigybės apibrėžtu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elegavi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Kontrol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Balans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Tęstinu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26FCE-E309-440F-B053-3D01B5FEE9C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5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E.F.L.Bre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ldymas – socialinis procesa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įmonės operacijoms reguliuo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rganizacinė struktūra – esminis formalusis veiksn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aldymo, priežiūros ir specialistų personalo atsakomybės nustat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akomybės delegavimo apibrėž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akomybės paskirstymo koordin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ukštos moralės palaiky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A881-1795-4E37-A4BA-B80E8A48812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L. Gulick, L.F. Urwick, E.F.L.Brech nuopeln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truktūros – formaliosios organizacijos dalies svarbos akcent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tsakomybės ir kontrolės paskirstymo tarp pavaldinių principo sureikšm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areigų, teisių ir atsakomybės delegavimo kategorijų suformul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truktūros formavimo principų apibrėž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474CE-2F0E-4CAD-A894-AB55AA0EA8A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ibūdinti klasikinės organizacijos (administravimo) teorijos atsiradimo priela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Pristatyti Henri Fay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žvelgti jo nuopelnus vadybos mokslu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žvelgti kitus autor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klasikinės organizacijos teorijos privalumus ir trūku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EC11B-152F-473B-B96E-FC860FD8B39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parti verslo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rinkų atsiradimas ir plėtra         (ypač JA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erslo infrastruktūros plėtra (keliai, geležinkeliai, ryšiai – telegraf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technologijų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D318-5AEF-402B-B4F3-512F12E273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ų mokykl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siformavo JAV ir Europoj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Iniciatoriai – mokslininkai ir organizacijų vadova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Objektas – organizacijos, kaip visumos, veikla ir jos valdy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FEBB-4C65-4075-8CD2-EC269CA6D7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dministravimo teo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Henri Fay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841 - 19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n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cūzų inžinierius – kompanijos vadova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0m. patir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Administration industrelle et generale”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16m. (General and Industrial Management 1949m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 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organizacijos valdymo princip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8C14B-BE6C-4999-B493-0184ACE5C6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Valdymo princip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arbo pasidalij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Valdž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rausm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mandų vienov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rypties vienov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Individualių tikslų pajungimas bendrai gerove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tlygin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3B929-8A26-49D5-A15E-EA51DB583B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Valdymo princip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. Centralizaci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erarchi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. Tvar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. Teisingumas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. Personalo stabilumas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iciatyva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. Esprit de Corps (kolektyvo dvasia)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9C82-E3D9-43B9-8DD6-FE01A048BC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yol nuopeln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36460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tskyrė kategorijas “valdymo veiklos - sritys” ir “valdymo (administravimo) funkcijos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Tyrinėjo organizaciją kaip visum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Išryškino vadovų kvalifikacijos svarbą ir paneigė teiginį, kad vadovais gimstama, o ne tamp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Išryškino organizacijos struktūravimo svarb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192DD-CBA0-4FA0-93B4-8DD72519E2D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Įmonės valdymo srity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Techninė ir technolog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Komerc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Finans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psaug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Buhalterinė veik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Valdymas - administr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4CA3-1B25-4241-A02F-0615AD1A8C1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42Z</dcterms:modified>
  <cp:revision>30</cp:revision>
  <dc:subject/>
  <dc:title>Introduction to Management</dc:title>
</cp:coreProperties>
</file>