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B57-F959-4AE3-99C5-B4B4D83C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546-CE69-4336-9E51-18E91813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6CE-C8F2-4230-A49D-E3C4C9D0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C8D-67C3-4D6C-A1EE-67361A96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303-CD5F-44A1-B433-BAD99160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97FC-EB64-4223-87AE-0D8992C6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2C94-A4EF-4915-86D7-907E5274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1B2-D909-4D0D-9BA6-954F8203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082-BF5C-46FF-BE16-C82BD70C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306D-0AF1-45CC-8FDA-AD41BDE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D61C-E0D6-4B4E-89D7-D0A979F8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A662-E15C-4617-809A-C2E2E9A4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72F-572F-4AF9-A925-D70F04B6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BBB-EE6F-48E1-96B9-B8F81F63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D9C9-A1D9-4D08-8DBF-96602E8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07DB-AE73-4183-A6C7-9F0FFBE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37FE-0EAE-484F-AEDC-5C668042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E0CD-BF97-4824-933A-6DFD77D1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E861-3896-46CA-9A28-4047D5D8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B4A7-276B-469A-BB5C-87FD58AB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398B-D4A0-42C9-9149-1D59717A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DDA0-5E30-4C6A-991F-3A8BBB7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BA75-1FAA-4168-BC0B-AF205ECF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FC5-8ACD-4548-BD89-C0E29C14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D046-2753-4187-802A-F5F1C9F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BAA7-0B8A-4790-BF25-D77DF73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DF637-39BB-4F5C-A8D8-5C9C9D3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A1DE-48FF-4983-A54C-31976CD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4C2C-C389-4555-9D43-0A0B6F56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137D-61DC-4DC1-8ED7-EAFFB442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E666-E33A-4BF0-BFC5-13A4249D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8B31F-164E-4A9A-A8A4-6AED7B68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9613-CCA1-4A56-A013-59DDF051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FEE60-A05A-426E-AEE1-7DA1AEB4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6C18-2C96-49EC-ADC0-D0DCDFDE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8957B-D5B1-4873-9648-8C299F42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D374-ABEF-420A-AA67-C73579B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71552-6A9A-452D-B8FF-B2936BC2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38776-EA80-4312-85CA-C127A3E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CD1EE-FAF2-47F8-95A2-E159863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B7DC-1BE3-4488-AEA9-D7AF481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397D-50B4-4762-9101-835B1ED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40DAD-3BDC-46C7-AF81-E91FB18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3823-A83F-4F78-B754-DAAE6E6C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DBE-154C-40FE-B2D5-24B537E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105-10ED-417A-91F3-B89CE8A5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862-A8C9-4F68-B2EC-7939097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D85-F61B-472F-BB16-CAAF6C1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491-F139-4BCC-9062-7DD6A5C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88BC-CD16-4E7E-9020-3151991F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E05E-28EA-4B6D-9D08-B835C7B8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A6DD-9B50-4FD1-B76A-7B1D153059C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D71-6989-4A9E-9A24-34505FB953F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teorijos raida ir reikšmė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7B8-F3A8-4626-B7C6-56E1CAD56DC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herblig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Judesių analizės standartizavimas: simbolis, operacija, spal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eracijos: tyrimas, suradimas, suvokimas, apibūdinimas, inspekt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idutiniška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žingsnių, lydimų simbolių ir spalvų, operacij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421-FA59-46AE-AB57-BF50328B4F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atavimo techniko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o dia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Standartizuota proceso operacijų fiksavimo metod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rocesų analizės simbolių sistema: Gamyba, Transportavimas, Inspektavimas, Prastovos ir Sandėli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38A-681C-4F47-AAFA-B94FFF75A8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Henry L. Gant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1861-191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aylor bendražyg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ramonės įmonių konsultan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Tyrimo objektas – darbininkų skatinimo sist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Naujovė – užduoties – premijos atlygio sist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180-307F-4D18-9015-0A407E7CF2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Užduoties – premijos atlygio siste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inė motyvacija – darbininko skatinimas, įvykdžius užduot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iem įvykdžius, stengiasi ir ki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Antrinė motyvacija – dvigubas brigadininko skatinimas, įvykdžius užduotį kiekvienam ir visiems darbinink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darbo našumas priklauso nuo vadovų veik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453-817F-43D7-AD21-A766E9957D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Veiklos optimizavimas, skatina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kirtingai nei pirmtakai, sureikšmino darbininkų iniciatyvą ir atsakomybę, atlyginant už ta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šryškino vadovų vaidmenį darbininkų veiklos efektyvumu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Darbininkų veiklos rezultatų viešinimas – svarbi motyvacinė priemonė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E53-DD88-4F52-8217-C601800A58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nto diagra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laiko grafinis planav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rezultatų grafinis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Įrengimų ir medžiagų panaudojimo laike vaizd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rezultatų kontrol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kalendorinio planavimo ištak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5E2-D56F-4519-88E8-6B48049897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7400" y="328680"/>
            <a:ext cx="8685720" cy="5905800"/>
            <a:chOff x="77400" y="328680"/>
            <a:chExt cx="8685720" cy="5905800"/>
          </a:xfrm>
        </p:grpSpPr>
        <p:sp>
          <p:nvSpPr>
            <p:cNvPr id="210" name=""/>
            <p:cNvSpPr/>
            <p:nvPr/>
          </p:nvSpPr>
          <p:spPr>
            <a:xfrm>
              <a:off x="228600" y="1066680"/>
              <a:ext cx="8534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8000" y="1066680"/>
              <a:ext cx="11019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iv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4080" y="1066680"/>
              <a:ext cx="94500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Mon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080" y="1878120"/>
              <a:ext cx="2824200" cy="34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Edit Manuscri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Sample P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raw Ar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Galley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Print Page Proof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Design Co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481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91520" y="1689120"/>
              <a:ext cx="137160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81280" y="1533600"/>
              <a:ext cx="38124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4872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3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1200" y="148896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92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00800" y="1533600"/>
              <a:ext cx="380880" cy="31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1922400"/>
              <a:ext cx="13716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0760" y="1508040"/>
              <a:ext cx="32328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48120" y="2000160"/>
              <a:ext cx="12952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254484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9880" y="2584440"/>
              <a:ext cx="194328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168720"/>
              <a:ext cx="152424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9880" y="3206880"/>
              <a:ext cx="14400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713040"/>
              <a:ext cx="281952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95680" y="3751200"/>
              <a:ext cx="26622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5035680"/>
              <a:ext cx="20574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43600" y="5075280"/>
              <a:ext cx="19432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91520" y="4413240"/>
              <a:ext cx="13716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1440" y="5557680"/>
              <a:ext cx="18198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Arial"/>
                </a:rPr>
                <a:t>Reporting 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45360" y="5430960"/>
              <a:ext cx="216000" cy="142920"/>
            </a:xfrm>
            <a:prstGeom prst="triangle">
              <a:avLst>
                <a:gd name="adj" fmla="val 49977"/>
              </a:avLst>
            </a:prstGeom>
            <a:solidFill>
              <a:srgbClr val="ffff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8040" y="5535720"/>
              <a:ext cx="2133720" cy="69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Actual Progr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66"/>
                  </a:solidFill>
                  <a:latin typeface="Arial"/>
                </a:rPr>
                <a:t>Go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09680" y="5891040"/>
              <a:ext cx="22860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09680" y="5580000"/>
              <a:ext cx="22860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00" y="328680"/>
              <a:ext cx="5959080" cy="75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6666"/>
                  </a:solidFill>
                  <a:latin typeface="Arial"/>
                </a:rPr>
                <a:t>A Sample Gantt Chart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6248520"/>
            <a:ext cx="1981440" cy="457200"/>
            <a:chOff x="609480" y="6248520"/>
            <a:chExt cx="1981440" cy="457200"/>
          </a:xfrm>
        </p:grpSpPr>
        <p:sp>
          <p:nvSpPr>
            <p:cNvPr id="243" name="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09480" y="6248520"/>
              <a:ext cx="135000" cy="13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3B7F-7701-45B2-AFDE-9C717AD91F9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Emers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Dvylika našumo principų “The twelve principles of Efficiency”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kslinio valdymo teorijos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uostatų sistematizavimas ir kompleksiškas pateik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44C-E52C-4D34-9E04-CC4D0B772F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Idealiai ir preciziškai suformuluoti tikslai – racionalaus veiklos valdy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cinių sprendimų pagrįstumas ir optimalu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ptimalus gerų ir techniškai tobulų įrengimų naudojimas – našumo pagrin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Naujausių pasiekimų ir žinių naudojimas visose organizacijos valdymo srity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Darbo drausm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BF1-F9D9-45A3-A10A-1665A32994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Dvylika našumo princip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tlikimo standart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norm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ų kvalifikacinis atitikimas ir teisingas žmonių parink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9. Darbo saugu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eisingas atlygis už darb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rezultatų apskaita ir 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dispečerizavimas – kontrolė ir koordin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43C0-6F8E-48B3-9593-3034274364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3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Apžvelgti mokslinio valdymo teorijos auto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skirtumus tarp skirtingų autorių teorinių apibendrinim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Nustatyti pagrindines mokslinio valdymo teorijos vystymosi tendencij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teorijos privalumus ir trūku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Įvertinti mokslinio valdymo mokyklos indėlį vadybos moks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C65-6B4C-44F9-9429-C9AB27CFA0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Henry Ford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1360" y="19810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irio imigranto sūnu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63 – 194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3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Įkūrė kompaniją “Ford Motor Compan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08m. </a:t>
            </a: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ukonstruotas pirmasis T model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F1DB-D21D-43BB-8785-EFA9033026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Automobilis visi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vajonė – sukurti automobilį prieinamą daugeli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Būdas – didelės gamybos apimtys ir žema ka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Gamybos pajėgų efektyvus panaudoj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chanizavimas ir skaidymas į atskiras užduo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ininkų specializav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866-609E-498E-9171-EB87D058C4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6 Sukonstruoja savo pirmąjį automobilį Kvadraciklą ir važinėjasi juo po Detroito gat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899 Vedantysis inžinierius – konstruktorius ir vienas iš savininkų naujai įkurtoje Detroito automobilių kompanijoje. Kompanija pagamino tik keletą automobili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1901 Bandoma organizuoti Henry Ford Company, bet neišėjus susitarti su galimais investuotojais kompanija neįkuri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4038840" cy="2764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3236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6F4-EEE1-4847-8761-12879A0C34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3 Oficialiai įkuriama Ford Motor Company. Pirmasis Fordo modelis A pateikiamas pirkėjams Detro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08 Fordas pradeda gaminti savo įžymųjį  modelį 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1910 Pradeda veikti Highland Park gamykla Michigano valstij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10176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BA0-9FD2-44D8-A1C6-5AC91DB18F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Gamybos mechanizavim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ybos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organizavimas linijos – konvejerio princip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irmoji modernaus konvejerio dalis – magneto vijos surinkim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13m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nksčia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darbininkas gamindav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-40vnt. per darbo dien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Konvejeri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9 opera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kimo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laikas sutrumpėjo n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20 iki 13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jerio pritaikymas visoms operacij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AEE-1A2D-47BF-9F74-94B4DB10F8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7e7ff"/>
                </a:solidFill>
                <a:latin typeface="Arial"/>
              </a:rPr>
              <a:t>Modelis 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irmasis modelis p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,5 v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0m. Automobilis kas 1 m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5m. T modelis kas 5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3 min.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utomobiliui surink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na 780 USD – 1910-11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50 USD – 1914-15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0 USD – 191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30 041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už šią kainą parduoti automobili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E12-F340-4CA9-8D21-B782C71B89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6 sukuriamas trimotoris lėktu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1927 Baigiamas gaminti modelis T ir atnaujinus konvejerinę liniją  pradedamas gaminti naujas modelis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09880" cy="3029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887640" cy="25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A29-BFD2-4239-A1B5-D44A3EA063D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5280" y="333360"/>
            <a:ext cx="856944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2 sukuriamas pirmasis automobilis su V-8 varikli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1933 sėkmingai numalšinamas streikas kurį organizavo visuotinė automobilių gamintojų darbininkų profsąjun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5267160" cy="357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553-09E8-43CA-A44B-DFEB4CE1167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asinės gamybos stebukla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lt-LT" sz="3200" spc="-1" strike="noStrike">
                <a:solidFill>
                  <a:srgbClr val="ffffff"/>
                </a:solidFill>
                <a:latin typeface="Arial"/>
              </a:rPr>
              <a:t>Masinė gamyba eina masinio vartojimo priekyje ir įgalina, sumažinus kainas, gaminti patogesnius dalykus prieinamesnėmis kainomi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H. For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F5E-283C-4575-98BE-C11656BA72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Racionalus požiūris į darbo organizavimą, tiksliai įvertinant užduotis ir proces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užduočių matavimo informacija įgalino tobulinti darbo metodus, veiklos planavi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metodų tobulinimas leido didinti darbo našumą ir produktyvum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Darbo apmokėjimas susietas su darbo rezultat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793-AD21-4DE9-BC56-F623F17529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b7e7ff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7840" y="1774440"/>
            <a:ext cx="8227800" cy="43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E11C-97F9-44FC-89B2-73286A2129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nuopeln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Vadovų (žem. Lygmens) sureikšminimas ir motyvavi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Motyvavimas taip pat buvo nukreiptas į fizinių darbo sąlygų pagerinimą darbininka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Padėjo pamatus moderniems darbo proceso analizės metodams ir kiekybinėms valdymo technik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91D-B114-4CF1-99A4-4EEFA1A1CF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187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b7e7ff"/>
                </a:solidFill>
                <a:latin typeface="Arial"/>
              </a:rPr>
              <a:t>Mokslinio valdymo mokyklos trūkuma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3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o vaidmens sumažinimas iki primityvaus, rutininio simplifikuotų operacijų atlik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Sąlygojo darbo fragmentaciją ir pilno proceso suvokimo prarad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ininkų motyvacija tapo siaurai pinigin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Darbo proceso ir vietos planavimas tapo išimtinai vadovų užduoti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Prarastas darbo užmokesčio realus vertinimas, nes tapo “moksliškai” apskaičiuotas, priklausomai nuo įkainių ir laik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93C-FEBD-4A36-824A-D095638446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b7e7ff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52B-FEE7-4964-B1A9-C8805C6DBF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6400" y="1844280"/>
            <a:ext cx="82296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5BA-A268-4E9A-A62C-9BF2A477E4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Frank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&amp; </a:t>
            </a: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Lillian Gilbreth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B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841-192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organizavimo tyrinėtoj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lian M. (1878-19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dymo ir psichologijos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ecialist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yrimo objektas – darbininkų nuovargis ir judesi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Žmonių darbo sąlygų gerinimas ir judesių optimizav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C64-8CAC-4B4C-BAF6-A22DF4B08F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Judesių optimizavi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ūrininko darbo efektyvini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Judesių sumaž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iki 4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ienai plytai padė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efektyvumo padidinimas nu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0 iki 2700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ytų per darbo dien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ininko darbo tempas išliko toks 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D67-75DD-410D-B824-F8C96D2AF6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rincipas: One best wa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Kuo mažiau judesių tuo mažiau pavargstama – tuo daugiau padar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Judesių tyrimas ir laiko matavi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Geriausių atlikimo būdų nustaty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8576-B8D7-42EF-89EA-0B679BC575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55600"/>
            <a:ext cx="8354880" cy="1254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b7e7ff"/>
                </a:solidFill>
                <a:latin typeface="Arial"/>
              </a:rPr>
              <a:t>Planavimas / Vykdyma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Taisyklių ir procedūrų nustatymas veiklos atlikimo efektyviausiu bū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šumo didinim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Darbo užmokesčio aug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Planavimo ir vykdymo veiklų atskyr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276-7903-4DD4-BD85-1F19342AF55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17Z</dcterms:modified>
  <cp:revision>26</cp:revision>
  <dc:subject/>
  <dc:title>Introduction to Management</dc:title>
</cp:coreProperties>
</file>