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D48E0-B4F7-46E2-924A-1DA979226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4918E-9829-438A-908E-02043C997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67DF4-DF14-4796-8649-4CF15A3E7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01510-87A1-4BE3-8DBF-09C82A41B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FF6B5-8E59-4A76-BD3B-10F2A70E3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9E5C1-C8C5-421E-BD6B-53B5325A4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B571B-E51F-4D7F-8D05-54D8B1CE2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C696D-37C9-4808-8AC8-001C95EAC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6F493-0721-4790-978E-E1B1EF647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8211D-B949-4C20-9D40-E47D71AD3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1E815-1A02-4CF8-B034-BBAD26F37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3527F-93DD-4AFB-A23C-D1D91CBD7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A7876-3DA9-4B6E-A69B-6C06D6119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5B779-3548-4164-9F8F-23E7C8848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CDC21-DF7F-4763-BBBD-6C0C3FF1D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4D56B-6D93-4D17-BC51-D3378189A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3A246-DBA5-46A5-BD3D-E041B5D4D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6AF5F-A847-4C49-ACF2-F981833AD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B76F8-C49D-4B6D-B0FC-463A9A9B9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FD196-2DA5-4C24-B140-CF72DB9AE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2C650-4221-4CF4-BE51-8986F743A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CC99C-509C-41B7-9042-4F21F8AE0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52E64-D3A9-405A-942B-D1E3B81E2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B4CCD-2779-42D0-8F4F-F2D7D555B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36F27-D401-4551-A4F6-01CACA0DABCF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B64D5-A1C2-4002-868F-A7D2E7B52D8E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b9efee"/>
              </a:buClr>
              <a:buFont typeface="Garamond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ccff66"/>
              </a:buClr>
              <a:buFont typeface="Garamond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26560" y="2349000"/>
            <a:ext cx="6409080" cy="29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5400" spc="-1" strike="noStrike">
                <a:solidFill>
                  <a:srgbClr val="b9efee"/>
                </a:solidFill>
                <a:latin typeface="Garamond"/>
              </a:rPr>
              <a:t>Mokslinio valdymo mokykla: F. Taylor vadybos principai 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3 paskait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3A06B-1C4C-481F-9801-1FD4FE38095C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298440"/>
            <a:ext cx="8078760" cy="102384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000" spc="-1" strike="noStrike">
                <a:solidFill>
                  <a:srgbClr val="b9efee"/>
                </a:solidFill>
                <a:latin typeface="Garamond"/>
              </a:rPr>
              <a:t>Funkcinio valdymo ištakos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4000" y="1412640"/>
            <a:ext cx="793116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ff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ffffff"/>
                </a:solidFill>
                <a:latin typeface="Garamond"/>
              </a:rPr>
              <a:t>Vadybinio darbo pasidalijima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>
              <a:spcBef>
                <a:spcPts val="799"/>
              </a:spcBef>
              <a:buClr>
                <a:srgbClr val="00ff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ffffff"/>
                </a:solidFill>
                <a:latin typeface="Garamond"/>
              </a:rPr>
              <a:t>Vienas tiesioginis vadova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>
              <a:spcBef>
                <a:spcPts val="799"/>
              </a:spcBef>
              <a:buClr>
                <a:srgbClr val="00ff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ffffff"/>
                </a:solidFill>
                <a:latin typeface="Garamond"/>
              </a:rPr>
              <a:t>Aštuoni funkciniai vadovai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>
              <a:spcBef>
                <a:spcPts val="799"/>
              </a:spcBef>
              <a:buClr>
                <a:srgbClr val="00ff99"/>
              </a:buClr>
              <a:buFont typeface="Garamond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4</a:t>
            </a:r>
            <a:r>
              <a:rPr b="1" lang="lt-LT" sz="3200" spc="-1" strike="noStrike">
                <a:solidFill>
                  <a:srgbClr val="ffffff"/>
                </a:solidFill>
                <a:latin typeface="Garamond"/>
              </a:rPr>
              <a:t> administracijos (operacijų maršrutizavimo, planavimo, apskaitos – ekonomikos, normuotojas, gamybinės drausmės prižiūrėtojas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>
              <a:spcBef>
                <a:spcPts val="799"/>
              </a:spcBef>
              <a:buClr>
                <a:srgbClr val="00ff99"/>
              </a:buClr>
              <a:buFont typeface="Garamond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4</a:t>
            </a:r>
            <a:r>
              <a:rPr b="1" lang="lt-LT" sz="3200" spc="-1" strike="noStrike">
                <a:solidFill>
                  <a:srgbClr val="ffffff"/>
                </a:solidFill>
                <a:latin typeface="Garamond"/>
              </a:rPr>
              <a:t> gamybos cecho (brigadininkas, darbų tempo, įrengimų remonto, inspektorius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3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1FAEE-2B78-4268-A8FB-6A45EC93EF93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0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5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0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5" dur="5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0" dur="5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000" spc="-1" strike="noStrike">
                <a:solidFill>
                  <a:srgbClr val="b9efee"/>
                </a:solidFill>
                <a:latin typeface="Garamond"/>
              </a:rPr>
              <a:t>Mokslinio valdymo mokyklos nuopelnai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0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ffffff"/>
                </a:solidFill>
                <a:latin typeface="Garamond"/>
              </a:rPr>
              <a:t>Moksliniai darbo užduočių atlikimo metodai -konvejerinės gamybos linijos pirmtakas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10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ffffff"/>
                </a:solidFill>
                <a:latin typeface="Garamond"/>
              </a:rPr>
              <a:t>Diferencinė darbo užmokesčio sistema – darbininkų motyvavimo metodai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3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8CDB8-59AF-4FDA-A9AB-DAED9AC5BAD8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298080"/>
            <a:ext cx="8078760" cy="108108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b9efee"/>
                </a:solidFill>
                <a:latin typeface="Garamond"/>
              </a:rPr>
              <a:t>Darbo užduočių suskaidymas į operacijas – linijos prielaida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4360" y="1413000"/>
            <a:ext cx="7927920" cy="406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5000"/>
          </a:bodyPr>
          <a:p>
            <a:pPr marL="291600" indent="-291600">
              <a:lnSpc>
                <a:spcPct val="105000"/>
              </a:lnSpc>
              <a:spcBef>
                <a:spcPts val="9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Garamond"/>
              </a:rPr>
              <a:t>Darbininkų judesių analizė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lnSpc>
                <a:spcPct val="105000"/>
              </a:lnSpc>
              <a:spcBef>
                <a:spcPts val="9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Garamond"/>
              </a:rPr>
              <a:t>Užduočių atlikimo laiko matavimas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lnSpc>
                <a:spcPct val="105000"/>
              </a:lnSpc>
              <a:spcBef>
                <a:spcPts val="9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Garamond"/>
              </a:rPr>
              <a:t>Greičiausių ir geriausių darbo operacijų atlikimo metodų projektavima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lnSpc>
                <a:spcPct val="105000"/>
              </a:lnSpc>
              <a:spcBef>
                <a:spcPts val="9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Garamond"/>
              </a:rPr>
              <a:t>Optimalus turimų įrengimų ir medžiagų panaudojima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lnSpc>
                <a:spcPct val="105000"/>
              </a:lnSpc>
              <a:spcBef>
                <a:spcPts val="9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Garamond"/>
              </a:rPr>
              <a:t>Planavimo reikšmės išryškinima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3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A5CC0-259D-415F-862A-C812E0531EE9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7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2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7" dur="5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2" dur="5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7" dur="50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000" spc="-1" strike="noStrike">
                <a:solidFill>
                  <a:srgbClr val="b9efee"/>
                </a:solidFill>
                <a:latin typeface="Garamond"/>
              </a:rPr>
              <a:t>Diferencinė darbo užmokesčio sistema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78960" y="1909800"/>
            <a:ext cx="7931160" cy="418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Garamond"/>
              </a:rPr>
              <a:t>Daugiau mokėti geriau dirbantiem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Garamond"/>
              </a:rPr>
              <a:t>Taikyti “moksliškai pakoreguotą” darbo užmokesčio būdą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Garamond"/>
              </a:rPr>
              <a:t>Sistemos nauda kompanijai ir darbininkam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Garamond"/>
              </a:rPr>
              <a:t>Bazinis atlyginimas už atliktą darbo normą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Garamond"/>
              </a:rPr>
              <a:t>Papildomas užmokestis – priedai efektyviau dirbantiems už viršytas norma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3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EFA1A-49C1-4E36-9188-4CF5F2F7575A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4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9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4" dur="5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9" dur="5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4" dur="500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98440"/>
            <a:ext cx="8078760" cy="102384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000" spc="-1" strike="noStrike">
                <a:solidFill>
                  <a:srgbClr val="b9efee"/>
                </a:solidFill>
                <a:latin typeface="Garamond"/>
              </a:rPr>
              <a:t>Ribotumai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78960" y="1909800"/>
            <a:ext cx="7931160" cy="418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ffffff"/>
                </a:solidFill>
                <a:latin typeface="Garamond"/>
              </a:rPr>
              <a:t>Darbininkų baimė būti dar labiau išnaudojamiems – dirbti sunkiau ir greičiau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99"/>
              </a:spcBef>
              <a:buClr>
                <a:srgbClr val="00ff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ffffff"/>
                </a:solidFill>
                <a:latin typeface="Garamond"/>
              </a:rPr>
              <a:t>Per didelis dėmesys darbo atlikimo laiko mažinimui ir pelningumo didinimui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99"/>
              </a:spcBef>
              <a:buClr>
                <a:srgbClr val="00ff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ffffff"/>
                </a:solidFill>
                <a:latin typeface="Garamond"/>
              </a:rPr>
              <a:t>Tyrimo objektas – gamybinė veikla ir gamybos rezultata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3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2177F-0153-4818-B58C-A30177F63668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1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6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1" dur="5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98440"/>
            <a:ext cx="8078760" cy="102384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000" spc="-1" strike="noStrike">
                <a:solidFill>
                  <a:srgbClr val="b9efee"/>
                </a:solidFill>
                <a:latin typeface="Garamond"/>
              </a:rPr>
              <a:t>Ribotumai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78960" y="1909800"/>
            <a:ext cx="7931160" cy="418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ff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ffffff"/>
                </a:solidFill>
                <a:latin typeface="Garamond"/>
              </a:rPr>
              <a:t>Organizacija analizuojama kaip inžinerinis objektas – autonominių darinių junginy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99"/>
              </a:spcBef>
              <a:buClr>
                <a:srgbClr val="00ff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ffffff"/>
                </a:solidFill>
                <a:latin typeface="Garamond"/>
              </a:rPr>
              <a:t>Žmogus tik vykdytojas, privalantis tiksliai ir laiku atlikti darbo užduoti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99"/>
              </a:spcBef>
              <a:buClr>
                <a:srgbClr val="00ff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ffffff"/>
                </a:solidFill>
                <a:latin typeface="Garamond"/>
              </a:rPr>
              <a:t>Vadovo darbas nukreiptas tik darbininkų darbo organizavimui, kitos vadovo veiklos neanalizuojamo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3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56BB2-447C-4B3B-924B-62D1E432DCEE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8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3" dur="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8" dur="5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b9efee"/>
                </a:solidFill>
                <a:latin typeface="Garamond"/>
              </a:rPr>
              <a:t>Paskaitos tikslai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1720" y="1977840"/>
            <a:ext cx="8080560" cy="408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9000"/>
          </a:bodyPr>
          <a:p>
            <a:pPr marL="305280" indent="-305280">
              <a:lnSpc>
                <a:spcPct val="14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Garamond"/>
              </a:rPr>
              <a:t>Apibūdinti mokslinio valdymo teorijos atsiradimo prielaida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lnSpc>
                <a:spcPct val="14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Garamond"/>
              </a:rPr>
              <a:t>Pristatyti pagrindinį jos atstovą – F. Taylo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lnSpc>
                <a:spcPct val="14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Garamond"/>
              </a:rPr>
              <a:t>Apžvelgti F. Taylor vadybos principus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lnSpc>
                <a:spcPct val="14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Garamond"/>
              </a:rPr>
              <a:t>Įvertinti F. Taylor nuopelnus vadybos mokslui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3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15AFF-5873-4B94-8FC2-9BA88C525632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ransition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800" spc="-1" strike="noStrike">
                <a:solidFill>
                  <a:srgbClr val="b9efee"/>
                </a:solidFill>
                <a:latin typeface="Garamond"/>
              </a:rPr>
              <a:t>Mokslinio valdymo mokykla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699920"/>
            <a:ext cx="7927920" cy="438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lnSpc>
                <a:spcPct val="14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Garamond"/>
              </a:rPr>
              <a:t>Susiformavo JAV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14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Garamond"/>
              </a:rPr>
              <a:t>Iniciatoriai – mokslininkai ir organizacijų vadovai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14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Garamond"/>
              </a:rPr>
              <a:t>Objektas – darbo organizavimas ir darbininkų veiklos produktyvumo didinima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3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AB491-A6EA-419E-BC73-3ED2A01C391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b9efee"/>
                </a:solidFill>
                <a:latin typeface="Brush Script MT"/>
              </a:rPr>
              <a:t>Prielaidos</a:t>
            </a:r>
            <a:r>
              <a:rPr b="1" lang="en-US" sz="4400" spc="-1" strike="noStrike">
                <a:solidFill>
                  <a:srgbClr val="b9efee"/>
                </a:solidFill>
                <a:latin typeface="Brush Script MT"/>
              </a:rPr>
              <a:t>  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Garamond"/>
              </a:rPr>
              <a:t>Industrinė revoliucij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Garamond"/>
              </a:rPr>
              <a:t>Gamybos įmonių augima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Garamond"/>
              </a:rPr>
              <a:t>Darbo organizavimo efektyvumo problemo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Garamond"/>
              </a:rPr>
              <a:t>Našumo ir produktyvumo problemo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Garamond"/>
              </a:rPr>
              <a:t>Kvalifikuotos darbo jėgos trūkuma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Garamond"/>
              </a:rPr>
              <a:t>Darbininkų motyvavimo klausimai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Garamond"/>
              </a:rPr>
              <a:t>Darbo organizavimo mokslinių metodų nebuvima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3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347FD-E737-48BF-B40F-47DF1CCA5EF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ransition>
    <p:checker dir="horz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b9efee"/>
                </a:solidFill>
                <a:latin typeface="Brush Script MT"/>
              </a:rPr>
              <a:t>FREDERICK W. TAYLOR</a:t>
            </a:r>
            <a:r>
              <a:rPr b="1" lang="en-US" sz="4400" spc="-1" strike="noStrike">
                <a:solidFill>
                  <a:srgbClr val="b9efee"/>
                </a:solidFill>
                <a:latin typeface="Brush Script MT"/>
              </a:rPr>
              <a:t> 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9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Garamond"/>
              </a:rPr>
              <a:t>Amerikiečių mokslininka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9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1856 - 1915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9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Garamond"/>
              </a:rPr>
              <a:t>Pirmas bandymas kompleksiškai nagrinėti organizavimo klausimu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9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Garamond"/>
              </a:rPr>
              <a:t>Terminas “Fabriko vadyba” – “Shop management”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9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lt-LT" sz="3600" spc="-1" strike="noStrike">
                <a:solidFill>
                  <a:srgbClr val="ffffff"/>
                </a:solidFill>
                <a:latin typeface="Garamond"/>
              </a:rPr>
              <a:t>Mokslinės vadybos principai” (The Principles of Scientific Management”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3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EA01A-71E8-4428-8B32-7DB8C1BB254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ransition>
    <p:checker dir="horz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298080"/>
            <a:ext cx="8078760" cy="108108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b9efee"/>
                </a:solidFill>
                <a:latin typeface="Garamond"/>
              </a:rPr>
              <a:t>Mokslinio valdymo principai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4000" y="1484280"/>
            <a:ext cx="7931160" cy="468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5000"/>
          </a:bodyPr>
          <a:p>
            <a:pPr marL="291600" indent="-291600">
              <a:lnSpc>
                <a:spcPct val="140000"/>
              </a:lnSpc>
              <a:spcBef>
                <a:spcPts val="10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1. </a:t>
            </a:r>
            <a:r>
              <a:rPr b="0" lang="lt-LT" sz="4000" spc="-1" strike="noStrike">
                <a:solidFill>
                  <a:srgbClr val="ffffff"/>
                </a:solidFill>
                <a:latin typeface="Garamond"/>
              </a:rPr>
              <a:t>Tikro vadybos mokslo sukūrimas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lnSpc>
                <a:spcPct val="140000"/>
              </a:lnSpc>
              <a:spcBef>
                <a:spcPts val="799"/>
              </a:spcBef>
              <a:buClr>
                <a:srgbClr val="00ff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Garamond"/>
              </a:rPr>
              <a:t>Optimalių darbo metodų sukūrima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lnSpc>
                <a:spcPct val="140000"/>
              </a:lnSpc>
              <a:spcBef>
                <a:spcPts val="799"/>
              </a:spcBef>
              <a:buClr>
                <a:srgbClr val="00ff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Garamond"/>
              </a:rPr>
              <a:t>Darbo suskaidymas į užduoti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lnSpc>
                <a:spcPct val="140000"/>
              </a:lnSpc>
              <a:spcBef>
                <a:spcPts val="799"/>
              </a:spcBef>
              <a:buClr>
                <a:srgbClr val="00ff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Garamond"/>
              </a:rPr>
              <a:t>Darbo užduočių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tlikimo b</a:t>
            </a:r>
            <a:r>
              <a:rPr b="0" lang="lt-LT" sz="3200" spc="-1" strike="noStrike">
                <a:solidFill>
                  <a:srgbClr val="ffffff"/>
                </a:solidFill>
                <a:latin typeface="Garamond"/>
              </a:rPr>
              <a:t>ū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</a:t>
            </a:r>
            <a:r>
              <a:rPr b="0" lang="lt-LT" sz="3200" spc="-1" strike="noStrike">
                <a:solidFill>
                  <a:srgbClr val="ffffff"/>
                </a:solidFill>
                <a:latin typeface="Garamond"/>
              </a:rPr>
              <a:t>ų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nustatyma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lnSpc>
                <a:spcPct val="140000"/>
              </a:lnSpc>
              <a:spcBef>
                <a:spcPts val="799"/>
              </a:spcBef>
              <a:buClr>
                <a:srgbClr val="00ff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Garamond"/>
              </a:rPr>
              <a:t>Matematinių skaičiavimų naudojima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lnSpc>
                <a:spcPct val="140000"/>
              </a:lnSpc>
              <a:spcBef>
                <a:spcPts val="799"/>
              </a:spcBef>
              <a:buClr>
                <a:srgbClr val="00ff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Garamond"/>
              </a:rPr>
              <a:t>Darbo našumo didinima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3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805D4-EA7E-4EA4-9086-E2BA5D6A493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" dur="5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" dur="5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298080"/>
            <a:ext cx="8078760" cy="108108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b9efee"/>
                </a:solidFill>
                <a:latin typeface="Garamond"/>
              </a:rPr>
              <a:t>Mokslinio valdymo principai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4000" y="1484280"/>
            <a:ext cx="7931160" cy="468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-329040">
              <a:lnSpc>
                <a:spcPct val="140000"/>
              </a:lnSpc>
              <a:spcBef>
                <a:spcPts val="10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2. </a:t>
            </a:r>
            <a:r>
              <a:rPr b="0" lang="lt-LT" sz="4000" spc="-1" strike="noStrike">
                <a:solidFill>
                  <a:srgbClr val="ffffff"/>
                </a:solidFill>
                <a:latin typeface="Garamond"/>
              </a:rPr>
              <a:t>Darbininkų parinkimas moksliniais pagrindais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140000"/>
              </a:lnSpc>
              <a:spcBef>
                <a:spcPts val="799"/>
              </a:spcBef>
              <a:buClr>
                <a:srgbClr val="00ff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Garamond"/>
              </a:rPr>
              <a:t>Darbuotojų specializacij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140000"/>
              </a:lnSpc>
              <a:spcBef>
                <a:spcPts val="799"/>
              </a:spcBef>
              <a:buClr>
                <a:srgbClr val="00ff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Garamond"/>
              </a:rPr>
              <a:t>Darbininkų atitikimo darbo vietai analizė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140000"/>
              </a:lnSpc>
              <a:spcBef>
                <a:spcPts val="799"/>
              </a:spcBef>
              <a:buClr>
                <a:srgbClr val="00ff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Garamond"/>
              </a:rPr>
              <a:t>Darbo vietų racionalizavima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3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11315-E772-4F07-B1CC-C4664047171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9" dur="5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298080"/>
            <a:ext cx="8078760" cy="108108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b9efee"/>
                </a:solidFill>
                <a:latin typeface="Garamond"/>
              </a:rPr>
              <a:t>Mokslinio valdymo principai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4000" y="1484280"/>
            <a:ext cx="7931160" cy="468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-322200">
              <a:lnSpc>
                <a:spcPct val="140000"/>
              </a:lnSpc>
              <a:spcBef>
                <a:spcPts val="10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3. </a:t>
            </a:r>
            <a:r>
              <a:rPr b="0" lang="lt-LT" sz="4000" spc="-1" strike="noStrike">
                <a:solidFill>
                  <a:srgbClr val="ffffff"/>
                </a:solidFill>
                <a:latin typeface="Garamond"/>
              </a:rPr>
              <a:t>Mokslinis darbininkų lavinimas ir tobulinimas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140000"/>
              </a:lnSpc>
              <a:spcBef>
                <a:spcPts val="799"/>
              </a:spcBef>
              <a:buClr>
                <a:srgbClr val="00ff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Garamond"/>
              </a:rPr>
              <a:t>Darbininkų mokymas darbo vietoj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140000"/>
              </a:lnSpc>
              <a:spcBef>
                <a:spcPts val="799"/>
              </a:spcBef>
              <a:buClr>
                <a:srgbClr val="00ff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Garamond"/>
              </a:rPr>
              <a:t>Darbininko judesių optimizavima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140000"/>
              </a:lnSpc>
              <a:spcBef>
                <a:spcPts val="799"/>
              </a:spcBef>
              <a:buClr>
                <a:srgbClr val="00ff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Garamond"/>
              </a:rPr>
              <a:t>Teisingas apmokėjimas už darbą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140000"/>
              </a:lnSpc>
              <a:spcBef>
                <a:spcPts val="799"/>
              </a:spcBef>
              <a:buClr>
                <a:srgbClr val="00ff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Garamond"/>
              </a:rPr>
              <a:t>Darbo normavima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3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861B6-D07C-4BF9-8448-72BC326C9F94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6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1" dur="5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6" dur="50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98080"/>
            <a:ext cx="8078760" cy="108108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b9efee"/>
                </a:solidFill>
                <a:latin typeface="Garamond"/>
              </a:rPr>
              <a:t>Mokslinio valdymo principai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4000" y="1484280"/>
            <a:ext cx="7931160" cy="468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7000"/>
          </a:bodyPr>
          <a:p>
            <a:pPr marL="298440" indent="-298440">
              <a:lnSpc>
                <a:spcPct val="140000"/>
              </a:lnSpc>
              <a:spcBef>
                <a:spcPts val="10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4. </a:t>
            </a:r>
            <a:r>
              <a:rPr b="0" lang="lt-LT" sz="4000" spc="-1" strike="noStrike">
                <a:solidFill>
                  <a:srgbClr val="ffffff"/>
                </a:solidFill>
                <a:latin typeface="Garamond"/>
              </a:rPr>
              <a:t>Glaudūs ir draugiški ryšiai tarp administracijos ir darbininkų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lnSpc>
                <a:spcPct val="140000"/>
              </a:lnSpc>
              <a:spcBef>
                <a:spcPts val="799"/>
              </a:spcBef>
              <a:buClr>
                <a:srgbClr val="00ff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lt-LT" sz="3200" spc="-1" strike="noStrike">
                <a:solidFill>
                  <a:srgbClr val="ffffff"/>
                </a:solidFill>
                <a:latin typeface="Garamond"/>
              </a:rPr>
              <a:t>Visiška minties revoliucija” – bendras darbo našumo siekima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lnSpc>
                <a:spcPct val="140000"/>
              </a:lnSpc>
              <a:spcBef>
                <a:spcPts val="799"/>
              </a:spcBef>
              <a:buClr>
                <a:srgbClr val="00ff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Garamond"/>
              </a:rPr>
              <a:t>Motyvacinė darbo apmokėjimo sistema – už viršytas normas mokėti priedu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3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3DD2D-9D7E-4564-BA36-71491E0E7962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8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" dur="5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08T18:37:46Z</dcterms:created>
  <dc:creator>Sally Coltrin</dc:creator>
  <dc:description/>
  <dc:language>en-US</dc:language>
  <cp:lastModifiedBy>No name (ISM)</cp:lastModifiedBy>
  <dcterms:modified xsi:type="dcterms:W3CDTF">2005-03-08T13:42:56Z</dcterms:modified>
  <cp:revision>24</cp:revision>
  <dc:subject/>
  <dc:title>Introduction to Management</dc:title>
</cp:coreProperties>
</file>