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677C-01B4-401E-B36E-B76DFCE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8D39-0EDB-4298-8157-5DBD9F8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5F0C-CAEF-40D2-9568-36BC55E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49E7-2D1F-4B14-BAAF-A370C18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F894-8FA8-4EEE-BAB9-751377C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DA0-D4F7-474F-84AD-755349EC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C46-8A38-4701-85C4-D7AF703A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8AE6-8172-4B0C-AE68-2C71020B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960E-E1A9-4E5F-BE21-3E0EA31E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D55-5455-4EB8-B364-B638E2A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27A3-240A-4D2E-9B34-30A21592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84D8-A0AB-4FDB-B658-992D319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E91-2AC0-48E9-9B08-86A3937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16A7-FA2E-4EC6-8BF4-06BB9A7F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BDF1-720D-4EEC-9FEF-B5ECE1EC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FDF8-42ED-4CDC-A825-B172CCA8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AB15-F5CC-48E6-B74B-B9D5B743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BE3B-ED3A-4475-A8F4-97FA3FF8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F8C57-5311-48AC-8179-C7B1090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745A-761C-4A3B-A487-3DD6909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A990-B327-40B1-8594-925ADF74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5C0A-22D7-4922-A0F4-771A5D69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90BE-1374-4307-B66D-9B255EF7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2C0A-7013-4D2B-8007-BDDC118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3AF5-D6BF-4468-ABB1-60C7E0F63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EC11-1477-48D9-9B16-8C96FC5C7E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dfdef6"/>
                </a:solidFill>
                <a:latin typeface="Arial"/>
              </a:rPr>
              <a:t>Klasikinės organizacijų valdymo teorijo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13C9-04C3-4AB5-A5DB-54A7E28B1A8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dėjos - pagrįstos patirtim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atirtis apribota daugiausiai gamybinių organizacijų veik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patikrintos ir nepagrįstos prielaid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Prielaidos pagrįstos vertybiniu vertinimu ir moralinėmis nuostatomis, bet ne moksliniais tyrim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Neformalių santykių organizacijose neįvertin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ffffff"/>
                </a:solidFill>
                <a:latin typeface="Arial"/>
              </a:rPr>
              <a:t>Svarbu tik formalūs org. ryšiai, taigi darbuotojų dalyvavimas neanalizuoja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155D-AC4A-41D2-9D91-A34B2409A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trūk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Nenumatytos ir neapibrėžtos pasekmė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s veiklos formalizavimo poveikis darbuotojų veiklos efektyvumui ir racional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Mašinistinė organiz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Žmogus tik priedas prie mašinų (įrengim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Statinės sąly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ffffff"/>
                </a:solidFill>
                <a:latin typeface="Arial"/>
              </a:rPr>
              <a:t>Neįvertinta aplinkos sąlygų ka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6947-EE04-4398-9ACC-182B42322F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Objektyvi klasikinių vadybos teorijų kūrimo aplink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Darbininkai buvo mažai kvalifikuoti, karjeros samprata buvo nesuvoki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Pagrindiniai darbininkų poreikiai koncentravosi fiziologinių lygmeny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Technologijos keitėsi gana sparčiai ir efektyvus jų panaudojimas buvo svarbiau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dybos teorinė mintis tik rutuliojosi, taigi autorių požiūris buvo nenuoseklus ir sia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0955-EBEB-42B7-B664-3FB89EF2AC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ių vadybos teorijų privaluma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valdymą pažvelgta, kaip į mokslinių tyrimų objekt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Valdymo veikla atskirta nuo darbinės veik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Išryškinta valdymo veiklos įtaka organizacijos veiklos rezultatyvum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Suformuluoti organizacijos ir darbinės veiklos valdymo princip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Į organizaciją pažvelgta, kaip sudėtingą, formalizuotą struktūr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DF5-2169-4C00-91B3-2C45F7399C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Paskaitos tiksl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1720" y="1981080"/>
            <a:ext cx="808056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ibūdinti klasikinių teorijų atsiradimo priela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es vadybos teorij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Apžvelgti klasikinių teorijų autori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Įvertinti klasikinių vadybos teorijų privalumus ir trūku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12C8-F712-4724-819C-19D67AED17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Prielaido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dustrinė revoliu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parti verslo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rinkų atsiradimas ir plėtra         (ypač JA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Verslo infrastruktūros plėtra (keliai, geležinkeliai, ryšiai – telegraf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Naujų technologijų plėt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BE52-642D-423D-9820-CA75EFE51D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Brush Script MT"/>
              </a:rPr>
              <a:t>Valdymo metodų poreikis</a:t>
            </a:r>
            <a:r>
              <a:rPr b="0" lang="en-US" sz="4400" spc="-1" strike="noStrike">
                <a:solidFill>
                  <a:srgbClr val="dfdef6"/>
                </a:solidFill>
                <a:latin typeface="Brush Script MT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Būtinybė naujų valdymo metodų,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integruojančių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technologijas, medžiagas ir darbo jėg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Poreikis spręsti prekių ir paslaugų gamyb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produktyvumo</a:t>
            </a: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Siekis didinti organizacinės veiklos </a:t>
            </a:r>
            <a:r>
              <a:rPr b="0" i="1" lang="lt-LT" sz="3600" spc="-1" strike="noStrike">
                <a:solidFill>
                  <a:srgbClr val="ffffff"/>
                </a:solidFill>
                <a:latin typeface="Arial"/>
              </a:rPr>
              <a:t>efektyvum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8891-38F0-4517-AA2E-D23C876D8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Klasikinių vadybos teorijų vystymo krypty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Mokslinio valdymo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0B9A-9DE1-4B35-92B8-F879E10E09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dfdef6"/>
                </a:solidFill>
                <a:latin typeface="Arial"/>
              </a:rPr>
              <a:t>Mokslinio valdymo mokykla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701360"/>
            <a:ext cx="792972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Susiformavo JA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Iniciatoriai – mokslininkai ir organizacijų vadov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Objektas – darbo organizavimas ir darbininkų veiklos produktyvumo didini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B78B-AA22-47A7-B568-A51667086B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dfdef6"/>
                </a:solidFill>
                <a:latin typeface="Arial"/>
              </a:rPr>
              <a:t>Mokslinio valdymo mokyklos atstova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92936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ederick W. Tay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Fran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Lillian Gilbre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Gan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Henry 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B237-52C6-4FF9-99CD-1A6E805638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ų mokykl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iformavo JAV ir Europo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Iniciatoriai – mokslininkai ir organizacijų vadova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ff"/>
                </a:solidFill>
                <a:latin typeface="Arial"/>
              </a:rPr>
              <a:t>Objektas – organizacijos, kaip visumos, veikla ir jos valdym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3F9B-19E1-4640-A904-D7D7CEC579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dfdef6"/>
                </a:solidFill>
                <a:latin typeface="Arial"/>
              </a:rPr>
              <a:t>Klasikinės organizacijos (administravimo) teorijo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1120" y="1910880"/>
            <a:ext cx="792936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Administravi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Henri Fay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Chester Bern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Gulick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L. Urw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Arial"/>
              </a:rPr>
              <a:t>Idealaus biurokratinio valdymo teo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Arial"/>
              </a:rPr>
              <a:t>Max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0DEC-9A3E-47FE-8774-AE6A040ED9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7:27Z</dcterms:modified>
  <cp:revision>22</cp:revision>
  <dc:subject/>
  <dc:title>Introduction to Management</dc:title>
</cp:coreProperties>
</file>