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WHOOSH.WAV" ContentType="audio/x-wav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76E4-102A-4800-B0E8-2FC015C9D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2D89-092D-4E33-AEE7-828D9D040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FA23-0F2D-4540-90A4-A1881BCD7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69E4-A8F7-4C1E-ADBA-42C7DEBD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F5E0-BCC5-424A-941A-D7B6FDC30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1354-05C5-46A9-8ABF-0E5E20DB2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874F-00D5-4451-A8E3-1784DA88D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5A7D-92FE-44CD-88BB-AB97C3D5D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3D30-B1F0-44A9-B993-0FB14C96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962B-BE5C-44E4-9A45-544C3C28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010E-F6B9-4179-9D3C-EEDF0B80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5816-080B-4B68-B059-39E4647D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5B8E-749F-4E72-BE56-9619AAB2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0C75-DCCD-4738-A9C5-6CF627CE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B60E7-8861-4F7F-9802-FC66779A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1B8A-B5F3-4622-B472-19233ACF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5659-9ED4-40C3-998C-1EFB6F28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E1D2-5BB4-4F72-ABEA-8B4723604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429F-7E62-4ACE-A515-4CA7EDA1E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8B1B-94F5-4F40-B03C-AD37F9F3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FD2D-15BA-4FF9-9E8A-AD8902CC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0D04-A540-4772-8E82-AB400FC0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D5DB-0B4F-4336-8EFB-423F2CBF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3D52-D2EF-4C62-A6AC-E46749FF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6B9D-7460-44B6-B8F9-7C46E7B4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CB2A-C3DA-4861-ABB1-506867DE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E3D6-2E41-41D2-B319-6FA9510FB4F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EF41-2335-496D-A5E8-41E44F45902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slideLayout" Target="../slideLayouts/slideLayout5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26560" y="2349000"/>
            <a:ext cx="6409080" cy="29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400" spc="-1" strike="noStrike">
                <a:solidFill>
                  <a:srgbClr val="ffffcc"/>
                </a:solidFill>
                <a:latin typeface="Tahoma"/>
              </a:rPr>
              <a:t>Vadybos mokslo ištakos: ankstyvieji strategai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D73E-9F63-4CF1-83E7-80438039514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Tahoma"/>
              </a:rPr>
              <a:t>Ma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</a:t>
            </a:r>
            <a:r>
              <a:rPr b="0" lang="lt-LT" sz="4400" spc="-1" strike="noStrike">
                <a:solidFill>
                  <a:srgbClr val="ffffcc"/>
                </a:solidFill>
                <a:latin typeface="Tahoma"/>
              </a:rPr>
              <a:t>iavelis,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531m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33520" y="1909800"/>
            <a:ext cx="8229600" cy="418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Pokalbiai” (Discours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Valstybės (respublikos) valdymo principai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Valstybė stabili, jei jos nariai turi teisę reikšti skirtingas nuomones bei spręsti jos vidaus konflikt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Respublika gyvuos ilgai, jei ja rūpinsis daugelis ir daugelis trokš ją išlaiky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Silpnas vadovas gali sekti stipriu, bet ne kitu silpnu, ir išlaikyti autoritet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Vadovas, siekiantis keisti valstybę, turėtų išlaikyti bent senųjų papročių šešėl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073E-279A-413A-B0B1-EC732828085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Tahoma"/>
              </a:rPr>
              <a:t>Industrinė revoliucij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3520" y="1909800"/>
            <a:ext cx="8229600" cy="418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Garo variklio sukūri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Naujų gamybos priemonių ir būdų atsiradi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Gamybos produktyvumo augi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Gamybos kaštų kriti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Masto ekonomijos reikšmė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Organizacijų augimas – monopolizac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Infrastruktūros plėtra – geležinkelių, sausumos ir vandens kelių plėt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Rinkų augi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Organizacijų valdymo proble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9895-C83A-4563-8DBF-544A397830F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cc"/>
                </a:solidFill>
                <a:latin typeface="Tahoma"/>
              </a:rPr>
              <a:t>Pirmieji industrinės eros vadybos teoretika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9600" cy="41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ffffff"/>
                </a:solidFill>
                <a:latin typeface="Tahoma"/>
              </a:rPr>
              <a:t>Robert Owen (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1771-1858)</a:t>
            </a:r>
            <a:r>
              <a:rPr b="1" lang="lt-LT" sz="2600" spc="-1" strike="noStrike">
                <a:solidFill>
                  <a:srgbClr val="ffffff"/>
                </a:solidFill>
                <a:latin typeface="Tahoma"/>
              </a:rPr>
              <a:t>, škota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Žmogiškųjų išteklių reikšmės išryškini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Motyvavimo premijuojant, bet ne baudžian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Motyvavimo technikų kūri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Siekė “radikalaus” darbo sąlygų pagerinim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ffffff"/>
                </a:solidFill>
                <a:latin typeface="Tahoma"/>
              </a:rPr>
              <a:t>minimalaus amžiaus vaikui – darbininkui nustatymo – nuo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1" lang="lt-LT" sz="2000" spc="-1" strike="noStrike">
                <a:solidFill>
                  <a:srgbClr val="ffffff"/>
                </a:solidFill>
                <a:latin typeface="Tahoma"/>
              </a:rPr>
              <a:t> m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ffffff"/>
                </a:solidFill>
                <a:latin typeface="Tahoma"/>
              </a:rPr>
              <a:t>maksimalios darbo dienos vaikui nustatymo –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0,5 </a:t>
            </a:r>
            <a:r>
              <a:rPr b="1" lang="lt-LT" sz="2000" spc="-1" strike="noStrike">
                <a:solidFill>
                  <a:srgbClr val="ffffff"/>
                </a:solidFill>
                <a:latin typeface="Tahoma"/>
              </a:rPr>
              <a:t>val. dirbant tik dien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ffffff"/>
                </a:solidFill>
                <a:latin typeface="Tahoma"/>
              </a:rPr>
              <a:t>privalomų maitinimosi pertraukų įvedim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Žmogiškųjų išteklių valdymo idėjos tapo pagrindu Bihevioristinės mokyklos teorijų plėtra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2A3F-D912-48C6-A88F-867C6D11FE0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4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4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cc"/>
                </a:solidFill>
                <a:latin typeface="Tahoma"/>
              </a:rPr>
              <a:t>Pirmieji industrinės eros vadybos teoretika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ffffff"/>
                </a:solidFill>
                <a:latin typeface="Tahoma"/>
              </a:rPr>
              <a:t>Charles Babbage (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1792-1871)</a:t>
            </a:r>
            <a:r>
              <a:rPr b="1" lang="lt-LT" sz="2600" spc="-1" strike="noStrike">
                <a:solidFill>
                  <a:srgbClr val="ffffff"/>
                </a:solidFill>
                <a:latin typeface="Tahoma"/>
              </a:rPr>
              <a:t>, angla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Matematinių valdymo principų kūri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Mašinų ir gamintojų ekonomikoje” (On the Economy of Machinery and Manufactur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Matematikos taikyma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ahoma"/>
              </a:rPr>
              <a:t>medžiagų ir gamybos priemonių neefektyvaus naudojimo problemoms spręsti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ahoma"/>
              </a:rPr>
              <a:t>pelno paskirstymui ir darbuotojų skatinimui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Analitinio variklio” idėjos iškėlimas (šiuolaikinio PC veikimo idėjo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a3c145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ahoma"/>
              </a:rPr>
              <a:t>Matematinio valdymo idėjos tapo pagrindu Kiekybinės valdymo teorijos plėtra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519B-2B67-49BD-B35E-0595FE90A0E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4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ffffcc"/>
                </a:solidFill>
                <a:latin typeface="Tahoma"/>
              </a:rPr>
              <a:t>Pirmųjų vadybos teorinių minčių ribotuma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Owen ir Babbage idėjos buvo per daug “radikalios” savo laikmečiui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Iki pat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9</a:t>
            </a: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a. pab. Įmonių savininkams ir vadovams medžiagų ir žmogiškųjų išteklių valdymo problemos nebuvo aktualios ir suvoktos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Rinkos sparčiai augo, o konkurencija – silpna, kad būtų išryškėjęs efektyvaus ir efektingo valdymo poreikis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Tahoma"/>
              </a:rPr>
              <a:t>Tik išryškėjęs kaštų mažinimo ir veiklos efektyvumo poreikis, paskatino vadybos teoretikų aktyvumą ir klasikinės vadybos teorijų kūrimą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7556-1101-44D1-B6DC-DB42AE4994B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Tahoma"/>
              </a:rPr>
              <a:t>Paskaitos tiksla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79440" y="1977840"/>
            <a:ext cx="8385120" cy="40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pibrėžti teorijos samprat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ptarti ankstyvąsias vadybos mokslo mintis ir teorij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pžvelgti ankstyvuosius strategus ir teoretik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FB79-89D2-4885-8625-2276D21C9BF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Bauhaus 93"/>
              </a:rPr>
              <a:t>Kodėl reikia studijuoti vadybos teorijos istoriją</a:t>
            </a:r>
            <a:r>
              <a:rPr b="0" lang="en-US" sz="4400" spc="-1" strike="noStrike">
                <a:solidFill>
                  <a:srgbClr val="ffffcc"/>
                </a:solidFill>
                <a:latin typeface="Bauhaus 93"/>
              </a:rPr>
              <a:t>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2971800" y="3048120"/>
            <a:ext cx="3025800" cy="3252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A102-E973-4A0A-B8BD-9E3EA3D901D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Brush Script MT"/>
              </a:rPr>
              <a:t>Teorija</a:t>
            </a:r>
            <a:r>
              <a:rPr b="0" lang="en-US" sz="4400" spc="-1" strike="noStrike">
                <a:solidFill>
                  <a:srgbClr val="ffffcc"/>
                </a:solidFill>
                <a:latin typeface="Brush Script MT"/>
              </a:rPr>
              <a:t> -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Nuosekliai išdėstytų teiginių visu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Paaiškina ryšius tarp tiriamų fakt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Pateikia pagrindą ateitiems įvykiams prognozuo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Suteikia žinias – “nematomas galias” teorijų panaudojimu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ahoma"/>
              </a:rPr>
              <a:t>Apibrėžia būdus, leidžiančius pažinti ir suprasti pasaul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796A-F757-473C-A7C4-00CB7242D1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Brush Script MT"/>
              </a:rPr>
              <a:t>Teorija</a:t>
            </a:r>
            <a:r>
              <a:rPr b="0" lang="en-US" sz="4400" spc="-1" strike="noStrike">
                <a:solidFill>
                  <a:srgbClr val="ffffcc"/>
                </a:solidFill>
                <a:latin typeface="Brush Script MT"/>
              </a:rPr>
              <a:t> -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Tahoma"/>
              </a:rPr>
              <a:t>Suteikia stabilumo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-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patirties suvokimu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svarbos kriterijų nustatymu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Tahoma"/>
              </a:rPr>
              <a:t>Įgalina veiksmingai bendrauti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-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vienodai suvokiant sampra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analizuojant reiškinius ir situacij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Tahoma"/>
              </a:rPr>
              <a:t>Motyvuoja nuolat mokytis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-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siekiant pažinti pasaul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sistemiškai analizuoti skirtingas sfe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EEC1-440E-4FA4-AFFA-CAAC820F922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>
    <p:checker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Tahoma"/>
              </a:rPr>
              <a:t>Ankstyvosios valdymo prielaido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1909800"/>
            <a:ext cx="8229600" cy="418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Pirmosios formaliosios organizacijos – graikų ir romėnų armijos bei Romos katalikų bažnyč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Pirmieji stambūs “projektai” – karai, statybos objektai ir p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Pirmieji autoriai, analizavę galimybes, kaip organizacijas padaryti geriau veikiančia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3CBF-ACC2-4D05-88D8-5F13D3323F0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6856560" y="1766880"/>
            <a:ext cx="866520" cy="115560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4189320" y="1843200"/>
            <a:ext cx="866880" cy="11556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3"/>
          <a:stretch/>
        </p:blipFill>
        <p:spPr>
          <a:xfrm>
            <a:off x="1446120" y="1766880"/>
            <a:ext cx="866880" cy="1155600"/>
          </a:xfrm>
          <a:prstGeom prst="rect">
            <a:avLst/>
          </a:prstGeom>
          <a:ln w="0">
            <a:noFill/>
          </a:ln>
        </p:spPr>
      </p:pic>
      <p:grpSp>
        <p:nvGrpSpPr>
          <p:cNvPr id="406" name=""/>
          <p:cNvGrpSpPr/>
          <p:nvPr/>
        </p:nvGrpSpPr>
        <p:grpSpPr>
          <a:xfrm>
            <a:off x="684360" y="2452680"/>
            <a:ext cx="7800840" cy="3670200"/>
            <a:chOff x="684360" y="2452680"/>
            <a:chExt cx="7800840" cy="3670200"/>
          </a:xfrm>
        </p:grpSpPr>
        <p:grpSp>
          <p:nvGrpSpPr>
            <p:cNvPr id="407" name=""/>
            <p:cNvGrpSpPr/>
            <p:nvPr/>
          </p:nvGrpSpPr>
          <p:grpSpPr>
            <a:xfrm>
              <a:off x="6018120" y="3672000"/>
              <a:ext cx="2467080" cy="2450880"/>
              <a:chOff x="6018120" y="3672000"/>
              <a:chExt cx="2467080" cy="2450880"/>
            </a:xfrm>
          </p:grpSpPr>
          <p:pic>
            <p:nvPicPr>
              <p:cNvPr id="40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018120" y="3672000"/>
                <a:ext cx="2467080" cy="245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9" name=""/>
              <p:cNvSpPr/>
              <p:nvPr/>
            </p:nvSpPr>
            <p:spPr>
              <a:xfrm>
                <a:off x="6111720" y="3780000"/>
                <a:ext cx="2254320" cy="226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Mašinų 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naudojimas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Masinė 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gamyba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3351240" y="3672000"/>
              <a:ext cx="2467080" cy="2450880"/>
              <a:chOff x="3351240" y="3672000"/>
              <a:chExt cx="2467080" cy="2450880"/>
            </a:xfrm>
          </p:grpSpPr>
          <p:pic>
            <p:nvPicPr>
              <p:cNvPr id="41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351240" y="3672000"/>
                <a:ext cx="2467080" cy="245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2" name=""/>
              <p:cNvSpPr/>
              <p:nvPr/>
            </p:nvSpPr>
            <p:spPr>
              <a:xfrm>
                <a:off x="3444840" y="3780000"/>
                <a:ext cx="2254320" cy="226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Tautų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turtas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Verslų 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plėtra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684360" y="3672000"/>
              <a:ext cx="2466720" cy="2450880"/>
              <a:chOff x="684360" y="3672000"/>
              <a:chExt cx="2466720" cy="2450880"/>
            </a:xfrm>
          </p:grpSpPr>
          <p:pic>
            <p:nvPicPr>
              <p:cNvPr id="41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84360" y="3672000"/>
                <a:ext cx="2466720" cy="245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5" name=""/>
              <p:cNvSpPr/>
              <p:nvPr/>
            </p:nvSpPr>
            <p:spPr>
              <a:xfrm>
                <a:off x="777960" y="3780000"/>
                <a:ext cx="2254320" cy="226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Egipto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piramidės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Didžioji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2800" spc="-1" strike="noStrike">
                    <a:solidFill>
                      <a:srgbClr val="ffffff"/>
                    </a:solidFill>
                    <a:latin typeface="Arial"/>
                  </a:rPr>
                  <a:t>Kinų siena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684360" y="2452680"/>
              <a:ext cx="2466720" cy="1308240"/>
              <a:chOff x="684360" y="2452680"/>
              <a:chExt cx="2466720" cy="1308240"/>
            </a:xfrm>
          </p:grpSpPr>
          <p:pic>
            <p:nvPicPr>
              <p:cNvPr id="4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84360" y="2452680"/>
                <a:ext cx="2466720" cy="130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>
                <a:off x="777960" y="2560680"/>
                <a:ext cx="2254320" cy="11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3200" spc="-1" strike="noStrike">
                    <a:solidFill>
                      <a:srgbClr val="ffffff"/>
                    </a:solidFill>
                    <a:latin typeface="Arial"/>
                  </a:rPr>
                  <a:t>Ankstyvieji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32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pavyzdžiai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3351240" y="2452680"/>
              <a:ext cx="2467080" cy="1308240"/>
              <a:chOff x="3351240" y="2452680"/>
              <a:chExt cx="2467080" cy="1308240"/>
            </a:xfrm>
          </p:grpSpPr>
          <p:pic>
            <p:nvPicPr>
              <p:cNvPr id="42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351240" y="2452680"/>
                <a:ext cx="2467080" cy="130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1" name=""/>
              <p:cNvSpPr/>
              <p:nvPr/>
            </p:nvSpPr>
            <p:spPr>
              <a:xfrm>
                <a:off x="3444840" y="2560680"/>
                <a:ext cx="2254320" cy="11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Adam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Smith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6018120" y="2452680"/>
              <a:ext cx="2467080" cy="1308240"/>
              <a:chOff x="6018120" y="2452680"/>
              <a:chExt cx="2467080" cy="1308240"/>
            </a:xfrm>
          </p:grpSpPr>
          <p:pic>
            <p:nvPicPr>
              <p:cNvPr id="42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018120" y="2452680"/>
                <a:ext cx="2467080" cy="130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"/>
              <p:cNvSpPr/>
              <p:nvPr/>
            </p:nvSpPr>
            <p:spPr>
              <a:xfrm>
                <a:off x="6111720" y="2560680"/>
                <a:ext cx="2254320" cy="11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3200" spc="-1" strike="noStrike">
                    <a:solidFill>
                      <a:srgbClr val="ffffff"/>
                    </a:solidFill>
                    <a:latin typeface="Arial"/>
                  </a:rPr>
                  <a:t>Industrinė 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lt-LT" sz="32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revoliucij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5" name=""/>
          <p:cNvGrpSpPr/>
          <p:nvPr/>
        </p:nvGrpSpPr>
        <p:grpSpPr>
          <a:xfrm>
            <a:off x="684360" y="547560"/>
            <a:ext cx="7800840" cy="1765440"/>
            <a:chOff x="684360" y="547560"/>
            <a:chExt cx="7800840" cy="1765440"/>
          </a:xfrm>
        </p:grpSpPr>
        <p:pic>
          <p:nvPicPr>
            <p:cNvPr id="426" name="" descr=""/>
            <p:cNvPicPr/>
            <p:nvPr/>
          </p:nvPicPr>
          <p:blipFill>
            <a:blip r:embed="rId10"/>
            <a:stretch/>
          </p:blipFill>
          <p:spPr>
            <a:xfrm>
              <a:off x="684360" y="547560"/>
              <a:ext cx="780084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777960" y="655560"/>
              <a:ext cx="75880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4400" spc="-1" strike="noStrike">
                  <a:solidFill>
                    <a:srgbClr val="ffffff"/>
                  </a:solidFill>
                  <a:latin typeface="Arial"/>
                </a:rPr>
                <a:t>Istorinis pagrindas vadybos teorijoms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28" name="" descr=""/>
          <p:cNvPicPr/>
          <p:nvPr/>
        </p:nvPicPr>
        <p:blipFill>
          <a:blip r:embed="rId11"/>
          <a:stretch/>
        </p:blipFill>
        <p:spPr>
          <a:xfrm>
            <a:off x="609480" y="6248520"/>
            <a:ext cx="135000" cy="13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243C-7B9A-49F0-A39C-519983C99366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Tahoma"/>
              </a:rPr>
              <a:t>Sun Tzu, m.e.pr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Kinų filosof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Karo menas” (The Art of the War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Valdymas – karo strategij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Kai priešas puola, mes traukiamė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Kai priešas sustoja, mes neduodam ramybė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Kai priešas mūšio stengiasi išvengti, mes puola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4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Kai priešas traukiasi, mes persekiojame</a:t>
            </a:r>
            <a:r>
              <a:rPr b="0" lang="lt-LT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D7AA-1DA9-474B-AF37-916333B8D8A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cc"/>
                </a:solidFill>
                <a:latin typeface="Tahoma"/>
              </a:rPr>
              <a:t>Karinės armijos valdymo principa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Įsakymų grandis – vertikali valdžios ir atsakomybės lin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Valdžios delegavimas –sprendimų priėmimo ir įgyvendinimo grandinė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Valdymo personalas – karininkai, užtikrinantys valdymo veiklos pasidalijim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ahoma"/>
              </a:rPr>
              <a:t>Sprendimų vieningumas – kiekvienas individas neturi daugiau negu vieną vadov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 paska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0F37-F663-45A7-AEC5-4E59845D2E5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TR, 2005 Nerijus Pačėsa,Dr</a:t>
            </a: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8T18:37:46Z</dcterms:created>
  <dc:creator>Sally Coltrin</dc:creator>
  <dc:description/>
  <dc:language>en-US</dc:language>
  <cp:lastModifiedBy>No name (ISM)</cp:lastModifiedBy>
  <dcterms:modified xsi:type="dcterms:W3CDTF">2005-02-02T06:25:45Z</dcterms:modified>
  <cp:revision>21</cp:revision>
  <dc:subject/>
  <dc:title>Introduction to Management</dc:title>
</cp:coreProperties>
</file>