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FC92-B05B-4C61-A94B-F6E6ADCE6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Po duomenų abstrakcijos ir paveldėjimo – polimorfizmas yra trečia iš svarbiausių objektinio programavimo sąvok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Virtualias funkcijas galima suprasti tik iš programos struktūros požiūrio taško, bet negalima rasti jų ekvivalento procedūrinėse programavimo kalb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Bus išspausdinta „Instrument::play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41D1-B25D-4AEE-8279-4E2CF84FB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D891-5D02-4748-8259-B26789E99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555D-ECC1-4F61-A8BB-37B7C6E15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B152-10ED-46EB-B31A-E1E18DE7D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67CF-CE1F-4DF9-A95C-02E6CEBEE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8F18-9C58-4694-8FC6-F8B2F83D9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F020-1ED7-49CC-A258-B9CE191D6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189A-8804-4ABA-87A8-CC2993ED8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7E6C-B4E9-4600-8224-931A2F719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96FA-5E1C-401D-9B09-02679C62E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C4F2-3046-4BDD-BC70-A18C2FC60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A652-D023-44D1-AC54-CCB4D0FE4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98F-AA1E-432C-89DD-EA6EAD010226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Polimorfizmas ir virtualios funkcijo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os klasės vadinamos „grynai abstrakčios klasės“ – pure abstract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okių klasių objektų konstruoti neg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#include &lt;iostream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Inline pure virtual definitions illegal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! virtual void sleep() const = 0 {}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eat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Pet::speak()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&lt;&lt; endl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8000"/>
                </a:solidFill>
                <a:latin typeface="Verdana"/>
              </a:rPr>
              <a:t>// Use the common Pet code: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peak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speak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eat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Pet::eat()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 simba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speak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imba.eat()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tos 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36003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p yra, kuomet perduodami objektai, o ne nuorodos į objektu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Reikėtų išlaikyti reikalavimą, kad kodas, kuris dirba su bazinės klasės objektu, taip pat dirbtų ir su paveldėtos klasės objekt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ų „pjaustymas“ – 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3809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#include &lt;string&gt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pname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Pet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) : pname(name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name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This is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pname; 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Dog :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 {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favoriteActivity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Dog(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name,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string&amp; activity) : Pet(name), favoriteActivity(activity) {}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string description()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3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Pet::name() + </a:t>
            </a:r>
            <a:r>
              <a:rPr b="0" lang="lt-LT" sz="1300" spc="-1" strike="noStrike">
                <a:solidFill>
                  <a:srgbClr val="008080"/>
                </a:solidFill>
                <a:latin typeface="Verdana"/>
              </a:rPr>
              <a:t>" likes to "</a:t>
            </a: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 + favoriteActivity; }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2000" y="134100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describe(Pet p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Slices the objec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cout &lt;&lt; p.description() &lt;&lt; endl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Pet p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Alfred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og d(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Fluffy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lt-LT" sz="1500" spc="-1" strike="noStrike">
                <a:solidFill>
                  <a:srgbClr val="008080"/>
                </a:solidFill>
                <a:latin typeface="Verdana"/>
              </a:rPr>
              <a:t>"sleep"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p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describe(d)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88000" y="4581360"/>
            <a:ext cx="388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kon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 destruktoriuj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čiamos kaip lokalios funkcij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5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pcasting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rocedūrų „susiejimo“ sąvo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Early-bi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ynamic-binding – kviečiamos funkcijos adresas nustatomas vykdymo metu pagal tikrąjį objekto tip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++ realizuojamas virtualiomis funkcijom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rtualios funkcij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Eflat 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 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Instrument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Redefine interface function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irgi virtuali!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une(Instrument&amp; i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.play(middleC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main(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Wind flut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tune(flute); </a:t>
            </a:r>
            <a:r>
              <a:rPr b="0" lang="lt-LT" sz="1500" spc="-1" strike="noStrike">
                <a:solidFill>
                  <a:srgbClr val="008000"/>
                </a:solidFill>
                <a:latin typeface="Verdana"/>
              </a:rPr>
              <a:t>// Upcast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/:~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TABL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ai klasei, kurioje yra virtualių funkcijų, sukuriama virtualių funkcijų lentelė (VTAB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onkrečios klasės metodų adresai įrašomi į tos klasės V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iekvienos klasės duomenų struktūroje sukuriamas papildomas nematomas laukas VPT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rtualios funkcijos kvietimas realizuojamas kaip (*VPTR[N])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šininis k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vieti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i.adjust(1); // kur adjust – virtuali funk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Generuojam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ush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mov bx, word ptr [si]   </a:t>
            </a:r>
            <a:r>
              <a:rPr b="0" lang="lt-LT" sz="2000" spc="-1" strike="noStrike">
                <a:solidFill>
                  <a:srgbClr val="808080"/>
                </a:solidFill>
                <a:latin typeface="Verdana"/>
              </a:rPr>
              <a:t>; nes vptr yra objekto pradžio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call word ptr [bx+4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add sp, 4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iliatoriaus optimiza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iostrea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#include &lt;string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virtual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string speak()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{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Bark!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;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main() {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Dog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* p1 = &amp;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&amp; p2 = ralph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Pet p3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Late binding for both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1-&gt;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1-&gt;speak() &lt;&lt;endl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2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2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 Early binding (probably):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cout &lt;&lt;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80"/>
                </a:solidFill>
                <a:latin typeface="Arial Unicode MS"/>
              </a:rPr>
              <a:t>"p3.speak() = "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&lt;&lt; p3.speak() &lt;&lt; endl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 Unicode MS"/>
              </a:rPr>
              <a:t>}</a:t>
            </a:r>
            <a:r>
              <a:rPr b="0" lang="lt-LT" sz="1600" spc="-1" strike="noStrike">
                <a:solidFill>
                  <a:srgbClr val="009900"/>
                </a:solidFill>
                <a:latin typeface="Arial Unicode MS"/>
              </a:rPr>
              <a:t> </a:t>
            </a:r>
            <a:r>
              <a:rPr b="0" lang="lt-LT" sz="1600" spc="-1" strike="noStrike">
                <a:solidFill>
                  <a:srgbClr val="008000"/>
                </a:solidFill>
                <a:latin typeface="Arial Unicode MS"/>
              </a:rPr>
              <a:t>///:~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8240" y="1300320"/>
            <a:ext cx="4938840" cy="5516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bstrakčios bazinės klas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#include &lt;iostream&gt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enum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note { middleC, Csharp, Cflat 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Pure virtual functions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 0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= 0;  </a:t>
            </a:r>
            <a:r>
              <a:rPr b="0" lang="lt-LT" sz="1400" spc="-1" strike="noStrike">
                <a:solidFill>
                  <a:srgbClr val="008000"/>
                </a:solidFill>
                <a:latin typeface="Verdana"/>
              </a:rPr>
              <a:t>// &lt;- šitas galės modifikuoti objektą, todėl ne con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Wind :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strument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play(note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cout &lt;&lt;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::play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&lt;&lt; endl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* what(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8080"/>
                </a:solidFill>
                <a:latin typeface="Verdana"/>
              </a:rPr>
              <a:t>"Wind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voi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djust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12:41:29Z</dcterms:modified>
  <cp:revision>46</cp:revision>
  <dc:subject/>
  <dc:title>PowerPoint Presentation</dc:title>
</cp:coreProperties>
</file>