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654F-78A7-4DCF-ACBC-5FD6E137E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E207-D787-4BB5-A19B-A046174D1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A501-7A97-41AE-8D72-8187524C6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4253-BC1B-43E8-944F-CB8AB0731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7BC0-E9FE-446E-BC44-68F3FB02D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068C-B279-4267-A511-8B48F20BF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CCC8-511E-4410-91ED-037698AC8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1DA7-3C67-4BC5-A4F1-5C9B170CB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07E7-D3F5-4EE1-86D1-94C11E35E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B77C-6D5C-4009-8DAD-1623FE8F4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DF36-A32E-462C-85ED-BA1BCF64D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A08D-0512-4B97-9CC7-01BF61118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6AA1-3DB9-4FE9-96F2-6E518B87B2B2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Operatorių perkrov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Laikini grąžinami kintamiej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Skirtumas tarp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left.i + right.i);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tmp(left.i + right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tmp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apibrėž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u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( ) [ ] –&gt; –&gt;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Privalo būti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= –= /= *= ^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amp;= |= %= &gt;&gt;= &lt;&lt;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Kaip klasės metod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Visi kiti binarini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ip 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riend 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kcijo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2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ių perkro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askirtis – palengvinti kodo skaitomum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 kas kita, kaip globali funkci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krauti operatorius galima tik vartotojo apibrėžtiems tip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skaič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globali funkcija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vienas parametr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du parametr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Jei apibrėžiamas kaip klasės metodas, ta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Unariniai operatoriai – be parametrų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Binariniai operatoriai – vienas paramet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intak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Arial Unicode MS"/>
              </a:rPr>
              <a:t>//: C12:OperatorOverloadingSyntax.cp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#include &lt;iostream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using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namespace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std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public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i) : i(ii) {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(i + rv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&amp;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+=(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Integer&amp; rv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Arial Unicode MS"/>
              </a:rPr>
              <a:t>"operator+="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&lt;&lt; endl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 += rv.i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Arial Unicode MS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Integer ii(1), jj(2), kk(3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kk += ii + jj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 Unicode MS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globali funk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frien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; return incremented value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Integer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a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; return the value before incre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Integer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Integer&amp; a,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Integer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Integer before(a.i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a.i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ariantas – metod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unsigned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ha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re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++Byte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Postfix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++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cout &lt;&lt; </a:t>
            </a:r>
            <a:r>
              <a:rPr b="0" lang="lt-LT" sz="1400" spc="-1" strike="noStrike">
                <a:solidFill>
                  <a:srgbClr val="004488"/>
                </a:solidFill>
                <a:latin typeface="Verdana"/>
              </a:rPr>
              <a:t>"Byte++\n"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 before(b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++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efore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perator=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yte&amp;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9900"/>
                </a:solidFill>
                <a:latin typeface="Verdana"/>
              </a:rPr>
              <a:t>// Handle self-assignment: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== &amp;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b 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*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this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a=b=c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Kaip šiame pavyzdyje būtų su priskyrimu (a=b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O kaip būtų su (++a).funk();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Binarinis opera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operator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&gt;=(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yte&amp; right)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{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lt-LT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 b &gt;= right.b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4-01T03:13:52Z</dcterms:modified>
  <cp:revision>43</cp:revision>
  <dc:subject/>
  <dc:title>PowerPoint Presentation</dc:title>
</cp:coreProperties>
</file>