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E1A8-D6E7-4A24-9D4E-5A1668E78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82D4-AAFE-46B6-B9DF-22CBA6AC0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E1BF-C5CC-4EBC-B1CC-E1EA59084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7D23-C057-45B9-8500-93C733C79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B799-8091-4BF1-9437-29D46C0A3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C05B-C9BB-4B36-B0ED-5852B5356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FB3F-AFA0-47F4-B16D-F8E4704D9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588D-0C99-4F95-BF7C-C778D761D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9D72-23BD-4649-88B6-D8C2994DB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B27C-0F3D-4782-BFD7-88C32095F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27EA-E02A-48B2-9968-1F9B229F5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1D8A1-F4CB-4370-91BA-7CB5861D5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B5E3-7822-4709-A5F1-958557C8BF79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25365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36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684360" y="1989000"/>
          <a:ext cx="2319120" cy="10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989000"/>
                    <a:ext cx="231912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84360" y="3284640"/>
          <a:ext cx="5337000" cy="287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284640"/>
                    <a:ext cx="5337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443640" y="5013360"/>
          <a:ext cx="2403360" cy="15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3640" y="5013360"/>
                    <a:ext cx="240336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ų perdavimas į konstruktorių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orint išvengti konstruktoriuje kopijavimo pabičiui, reikia apibrėžti konstruktorių su byref paramet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55640" y="0"/>
          <a:ext cx="5484960" cy="70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0"/>
                    <a:ext cx="5484960" cy="70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1341360"/>
          <a:ext cx="5413320" cy="16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413320" cy="16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84360" y="5157720"/>
          <a:ext cx="415260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157720"/>
                    <a:ext cx="41526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1 skyri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989000"/>
          <a:ext cx="84596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84596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o masyvo plėt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1341360"/>
          <a:ext cx="803880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8038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Nuorodos ir 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341360"/>
          <a:ext cx="5873760" cy="37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873760" cy="37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funkcijų parametruos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341360"/>
          <a:ext cx="559908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9908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nstantinės nuorod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341360"/>
          <a:ext cx="252540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252540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uorodos į rodyklę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norime keisti ne objektą, o pačios rodyklės reikšmę funkcijoj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42920" y="2349360"/>
          <a:ext cx="176076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349360"/>
                    <a:ext cx="176076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71640" y="2708280"/>
          <a:ext cx="16905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708280"/>
                    <a:ext cx="1690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71640" y="3789360"/>
          <a:ext cx="4205160" cy="250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789360"/>
                    <a:ext cx="420516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pijavimo konstruktoriu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3-04T14:09:33Z</dcterms:modified>
  <cp:revision>37</cp:revision>
  <dc:subject/>
  <dc:title>PowerPoint Presentation</dc:title>
</cp:coreProperties>
</file>