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A2AA-4CF5-43A2-9B39-EBAC7CA7A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FC45-7E78-4F1B-B261-A22B1238E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7F76-CF56-49A9-8784-3A675343B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0AAE-2B24-4B49-9662-B533524B7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40E4A-B5AB-46F6-B063-A871E90E1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108C-9C38-40FE-BD62-EEB86B4A7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B340-A448-47C2-A7BC-2CC51B01C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E406-071E-45F4-B689-A6C8D8376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C6B6-81D5-41AA-AA99-E6CCE62E4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F093-1605-4BFC-B580-DEA732EA6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2260-EF40-4408-86A6-614C5AE09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562B-DEE0-4FAC-B32D-58292C60F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79D1-5643-42D4-9F43-0715DCE0B57F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Dinaminis objektų kūr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4360" y="1341360"/>
          <a:ext cx="443376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43376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 (2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4360" y="1341360"/>
          <a:ext cx="514332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14332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ompozicija (3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4360" y="1341360"/>
          <a:ext cx="4638600" cy="39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63860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eldėj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4360" y="1333440"/>
          <a:ext cx="442908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33440"/>
                    <a:ext cx="442908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idinių objektų inicializav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4360" y="1341360"/>
          <a:ext cx="4592520" cy="2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592520" cy="2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84360" y="2276640"/>
          <a:ext cx="5748120" cy="20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276640"/>
                    <a:ext cx="5748120" cy="20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84360" y="2997360"/>
          <a:ext cx="5599080" cy="313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997360"/>
                    <a:ext cx="55990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Inicializavimo tvar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 tvarka kaip deklaruo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1916280"/>
          <a:ext cx="373716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37371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826920" y="2708280"/>
          <a:ext cx="396432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708280"/>
                    <a:ext cx="3964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71640" y="3645000"/>
          <a:ext cx="2444760" cy="29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645000"/>
                    <a:ext cx="24447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13 ir 14 skyri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o kūr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ai kuriamas objekt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1. Išskiriama atmin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tatinėje atminty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Stek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Dinaminėje atmintyje (</a:t>
            </a:r>
            <a:r>
              <a:rPr b="0" i="1" lang="lt-LT" sz="2000" spc="-1" strike="noStrike">
                <a:solidFill>
                  <a:srgbClr val="000000"/>
                </a:solidFill>
                <a:latin typeface="Verdana"/>
              </a:rPr>
              <a:t>heap</a:t>
            </a: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2. Kviečiamas konstruktori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s sukūr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Be konstruktoriaus reikėtų daryti tai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Tačiau gali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71640" y="1989000"/>
          <a:ext cx="4376520" cy="3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9000"/>
                    <a:ext cx="437652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920880" y="2421000"/>
          <a:ext cx="2251080" cy="33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880" y="2421000"/>
                    <a:ext cx="225108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971640" y="4581360"/>
          <a:ext cx="3459240" cy="2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581360"/>
                    <a:ext cx="345924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tlaisvin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Dinaminėje atmintyje sukurtą objektą atlaisvina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lt-LT" sz="16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1" lang="lt-LT" sz="1600" spc="-1" strike="noStrike">
                <a:solidFill>
                  <a:srgbClr val="000000"/>
                </a:solidFill>
                <a:latin typeface="Courier New"/>
              </a:rPr>
              <a:t> f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vyzdy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341360"/>
          <a:ext cx="5564160" cy="48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56416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Dinaminių objektų 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55640" y="1557360"/>
          <a:ext cx="3405240" cy="2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340524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804960" y="2205000"/>
          <a:ext cx="293688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4960" y="2205000"/>
                    <a:ext cx="29368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55640" y="3068640"/>
          <a:ext cx="43419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068640"/>
                    <a:ext cx="43419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55640" y="4149720"/>
          <a:ext cx="1496880" cy="27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4149720"/>
                    <a:ext cx="149688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55640" y="4508640"/>
          <a:ext cx="1851120" cy="25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4508640"/>
                    <a:ext cx="1851120" cy="25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gražinimas cons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Neleidžiame keisti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 reikšmės (bet ne </a:t>
            </a:r>
            <a:r>
              <a:rPr b="0" lang="lt-LT" sz="2400" spc="-1" strike="noStrike">
                <a:solidFill>
                  <a:srgbClr val="000000"/>
                </a:solidFill>
                <a:latin typeface="Courier New"/>
              </a:rPr>
              <a:t>*q</a:t>
            </a: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!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4360" y="2133720"/>
          <a:ext cx="2695320" cy="2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269532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ut_of_memory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341360"/>
          <a:ext cx="5933880" cy="49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593388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ompozicija ir paveldėjima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25T14:03:44Z</dcterms:modified>
  <cp:revision>34</cp:revision>
  <dc:subject/>
  <dc:title>PowerPoint Presentation</dc:title>
</cp:coreProperties>
</file>