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A64D-3807-40BC-BE93-C39700FC87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daug griežtesnis tipų tikrinimas nei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C++ enum nėra sutapatinamas su int, todė negalima rašyti shape++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Masyvo pirmo elemento adresas yra tas pats kaip masyvo adre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Negalima perduoti masyvo pagal reikšmę – visada perduodamas pirmo elemento ad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Galima lygiai taip pat naudoti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Tačiau + ir – operatoriai leidžia prie rodyklės pridėti tik sveiką skaičių (ir neleidžia kitos rodyklė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A6A6-F4E9-4AEF-9347-C165C0A4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101F-E0E0-47FE-BBF8-3E2B4248F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696A-3314-4184-BCCA-D8039E928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9F35-D5E2-4444-BF1E-1725BB9A9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F696-099E-425B-BA9E-37C89F78F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6583-6973-446E-8816-727BD8375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99EC-7F63-4182-8808-8A68D21EF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EF13-D1C4-4763-80D6-BCE621AFE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A608-9D9A-4798-960E-E9F75BBA6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5EE9-575B-479D-9B96-07B818AB5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3370-55F5-41D8-B97D-0B3160718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907D-B820-4F60-8AE5-ABA64949B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D31-5AE5-4469-B018-928424FA5AD3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masyv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919320" cy="571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609800" cy="42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Klasės ir objekt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(turinys)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lasės Point apibrėžimo pavyzdys (struct ir cla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Matomumas su private,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Konstruktorius, destruktori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Suskaidymas į hpp ir cpp failus, #ifdef apskliaudi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Namų darb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Verdana"/>
              </a:rPr>
              <a:t>Perskaityti TICPP iki 6 skyriaus (imtina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enum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72000" cy="414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367164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union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530600" cy="2054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0200" y="3381480"/>
            <a:ext cx="44402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4479840" cy="205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474012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asyvai ir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925720" cy="2427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4360" y="3700440"/>
            <a:ext cx="409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2979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12841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Adresų aritmetik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052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2234880" cy="6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unkci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180324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2920" cy="28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84360" y="2781360"/>
          <a:ext cx="1342800" cy="19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781360"/>
                    <a:ext cx="134280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udėtingos išraišk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1 yra rodyklė į funkciją, kuri turi vieną int parametrą ir grąžina rodyklę į 10 void* masyv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325680" cy="25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4476600" cy="287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4592520" cy="51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84360" y="5661000"/>
            <a:ext cx="2749320" cy="273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292428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2 yra rodyklė į funkciją, kuri turi 3 parametrus ir grąžina rodyklę į funkciją, kuri turi int parametrą ir grąžina 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4508640"/>
            <a:ext cx="77724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p3 yra rodyklė į funkciją, kuri neturi parametrų ir grąžina rodyklę į 10 elementų masyvą rodyklių į funkcijas be parametrų ir grąžinančių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87700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Verdana"/>
              </a:rPr>
              <a:t>f4 yra funkcija, kuri grąžina rodyklę į 10 elementų masyvą rodyklių į funkcijų, grąžinančių 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21T11:40:50Z</dcterms:modified>
  <cp:revision>33</cp:revision>
  <dc:subject/>
  <dc:title>PowerPoint Presentation</dc:title>
</cp:coreProperties>
</file>