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95D4-4756-4988-82C2-25A4C3AAA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0571-6D0A-47B7-AC2C-CD6B234CF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9A1A-FCCD-4C89-8FB4-694EE4FEB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4DDE-9905-45A8-A5D5-4541384D2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8454-08EA-43C3-BAA7-2527F80DA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34100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24640"/>
            <a:ext cx="2502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13AA-68EA-4289-B95E-C524CC9B5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43E0-1F68-4E16-A1BA-5A3AB039E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AB20-DB46-42A7-BC1C-8969C5385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29160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E650-B04D-48B9-AD45-9F6260C24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0605-7FB7-42E9-B721-CD4EB95D0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2464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89AC-B41F-4C53-8617-DD0FBE7AD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41000"/>
            <a:ext cx="37926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24640"/>
            <a:ext cx="77724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0B75-6036-4969-A2B3-BD7D49354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1800"/>
              </a:spcBef>
              <a:buClr>
                <a:srgbClr val="c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0" rIns="72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160"/>
            <a:ext cx="68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7d7c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9963-50DA-40BE-820E-7DB695CC9117}" type="slidenum">
              <a:rPr b="0" lang="en-US" sz="1400" spc="-1" strike="noStrike">
                <a:solidFill>
                  <a:srgbClr val="d7d7c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-3240" y="6200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21828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240" y="623556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240" y="6254640"/>
            <a:ext cx="9144000" cy="0"/>
          </a:xfrm>
          <a:prstGeom prst="line">
            <a:avLst/>
          </a:prstGeom>
          <a:ln w="6480">
            <a:solidFill>
              <a:srgbClr val="c8c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3880"/>
            <a:ext cx="9144000" cy="228600"/>
          </a:xfrm>
          <a:prstGeom prst="rect">
            <a:avLst/>
          </a:prstGeom>
          <a:solidFill>
            <a:srgbClr val="d7d7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1001"/>
              </a:spcBef>
              <a:buClr>
                <a:srgbClr val="c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Objektinis programavimas C++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404040"/>
                </a:solidFill>
                <a:latin typeface="Verdana"/>
              </a:rPr>
              <a:t>C++ pagrindai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42920" y="1484280"/>
          <a:ext cx="61689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168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042920" y="2097000"/>
          <a:ext cx="239868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2097000"/>
                    <a:ext cx="23986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82520" y="2708280"/>
          <a:ext cx="330048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708280"/>
                    <a:ext cx="330048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074600" y="3357720"/>
          <a:ext cx="191304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4600" y="3357720"/>
                    <a:ext cx="19130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07920" y="4629240"/>
          <a:ext cx="2886120" cy="79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7920" y="4629240"/>
                    <a:ext cx="28861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127160" y="5649840"/>
          <a:ext cx="2486160" cy="300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27160" y="5649840"/>
                    <a:ext cx="248616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reikšm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413000"/>
          <a:ext cx="4641840" cy="42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4641840" cy="42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77080" y="4869000"/>
          <a:ext cx="141444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869000"/>
                    <a:ext cx="1414440" cy="117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adres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00000" y="1293840"/>
          <a:ext cx="48564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93840"/>
                    <a:ext cx="4856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227640" y="4508640"/>
          <a:ext cx="222912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508640"/>
                    <a:ext cx="222912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Parametras C++ nuorod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95240" y="1293840"/>
          <a:ext cx="60706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293840"/>
                    <a:ext cx="60706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691320" y="4437000"/>
          <a:ext cx="226044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4437000"/>
                    <a:ext cx="2260440" cy="1689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Modifikatori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17480" y="1309680"/>
          <a:ext cx="6696000" cy="54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09680"/>
                    <a:ext cx="6696000" cy="54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oid*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68160" y="1301760"/>
          <a:ext cx="426096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01760"/>
                    <a:ext cx="426096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96880" y="4653000"/>
          <a:ext cx="5726160" cy="19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880" y="4653000"/>
                    <a:ext cx="572616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galiojimo rib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4360" y="1341360"/>
          <a:ext cx="462276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6227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typedef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4360" y="1341360"/>
          <a:ext cx="4584600" cy="2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45846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11280" y="2060640"/>
          <a:ext cx="174312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060640"/>
                    <a:ext cx="17431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11280" y="2997360"/>
          <a:ext cx="317160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97360"/>
                    <a:ext cx="317160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uktūro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1341360"/>
          <a:ext cx="6661080" cy="49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66108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 save referuojanti struktūra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341360"/>
          <a:ext cx="645948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645948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Rodyklė į struktūrą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1280" y="1308240"/>
          <a:ext cx="6985080" cy="54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08240"/>
                    <a:ext cx="6985080" cy="54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C++ iostream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447920"/>
          <a:ext cx="663552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47920"/>
                    <a:ext cx="6635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Įvedi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19280" y="1628640"/>
          <a:ext cx="5845320" cy="38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84532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string klasė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55640" y="1628640"/>
          <a:ext cx="74026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74026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ų skaitymas ir rašyma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1700280"/>
          <a:ext cx="7646760" cy="35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64676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Failo skaitymas eilutėmi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844640"/>
          <a:ext cx="652788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52788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Vektorius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63400" y="1317600"/>
          <a:ext cx="743112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1317600"/>
                    <a:ext cx="74311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c00000"/>
                </a:solidFill>
                <a:latin typeface="Verdana"/>
              </a:rPr>
              <a:t>Kintamųjų adresai</a:t>
            </a:r>
            <a:endParaRPr b="0" lang="en-US" sz="2800" spc="-1" strike="noStrike">
              <a:solidFill>
                <a:srgbClr val="c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1285920"/>
          <a:ext cx="665784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85920"/>
                    <a:ext cx="665784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61040" y="3716280"/>
          <a:ext cx="2982960" cy="222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3716280"/>
                    <a:ext cx="2982960" cy="222588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0:44:31Z</dcterms:created>
  <dc:creator>Andrius Adamonis</dc:creator>
  <dc:description/>
  <dc:language>en-US</dc:language>
  <cp:lastModifiedBy>Andrius Adamonis</cp:lastModifiedBy>
  <dcterms:modified xsi:type="dcterms:W3CDTF">2005-02-11T15:06:45Z</dcterms:modified>
  <cp:revision>31</cp:revision>
  <dc:subject/>
  <dc:title>PowerPoint Presentation</dc:title>
</cp:coreProperties>
</file>