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0FE-AB25-49CA-85DD-418A0EE0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F71-A93E-4935-B36D-52980824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EDC-40B1-4FF6-B7A4-E2A99047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B80-547D-4533-AEFC-3A2C6B19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A23-203C-4858-9D93-AC4B6EE6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796-D366-4E43-ACB8-CD894910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6A4-102D-4022-9124-78A7FEE7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C75-802D-4D4E-8F35-4D9D4570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6C8-BC28-4D5F-B842-6652CC6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68C-520D-468A-9397-5BD3217E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2D6-B0A8-4187-8624-D2B96656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544-7403-4CF1-AA2B-4CAEB0F3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6CED-2BD0-4980-B150-A9EF689FC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tp://ftp.isi.edu/in-notes/rfc2616.tx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MISSION CONTROL PROTOC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 RFC 7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faqs.org/rfcs/rfc793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e174298_left_right1" descr="Left-right"/>
          <p:cNvPicPr/>
          <p:nvPr/>
        </p:nvPicPr>
        <p:blipFill>
          <a:blip r:embed="rId1"/>
          <a:stretch/>
        </p:blipFill>
        <p:spPr>
          <a:xfrm>
            <a:off x="6553080" y="30492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DC1-8C08-4F52-AC9D-E7F28C60C2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tank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nt leisti daugeliui procesų viename hoste naudotis TCP komunikacijos įrankiais vienu metu,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ę porto adre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iekviename h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or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, sujungtas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ho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dresu (iš internetinio komunikacijų lygmens) sudar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areikšmiškai apibrėžia kiekvieną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ketas vienu metu gali būti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981-FF40-42CF-905E-4BFFE7944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inicializuoja ir palaiko kiekvienam duomenų srautui tam tikr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vio inform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k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ų dydž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š pradedant procesams komunikuoti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kur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ą (inicializacija būvio kiekvienoje pusė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ms baigus komunikacijas, susijungimas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aro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resursai atlaisvinami kit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dangi susijungimai sudaro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ikimo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erpėj, susijungimai pradedami rankų paspaudimu, naudojant eilės numerius – siekiama išvengti klaidingų inicializ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C8C-3D0A-4EE7-9E60-DDD9243DFC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vartotojai opcijomis gali nurodyti saugą ir pirmumą susijusį su komunikac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šios reikšmės nenurodomos, naudojamos reikšmės pagal nutylėj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B39-AA08-4FDB-AF57-AD4750490C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ų mode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ces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erduoda duomen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viesd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CP ir perduodam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duomenų buf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argum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pakuoja duomenis iš šių buferių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ir kvie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terne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į perdavimui kiekvieno segmento gavėj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lpina duomenis iš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uferį ir informuoja vartoto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segmentus įtrau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ntro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, kur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am, eilišk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persiuntimui už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 užtikrin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ąsają su lokaliu tink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D2D-6B35-47F9-B42D-9F835C9355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ai ho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erac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stemos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reipiasi į jį kaip į failų sist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kvies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i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peracinės sistemos funkcijas, pavyzdžiui kurios valdo duomenų struktū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aktiškai sąsają su tinklu kontroli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renginio drai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siogiai nesikreipia į įrenginio draiverį, jis kviečia interne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otokolą, kuris kviečia įrenginio draiv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074-69AB-4952-AF56-BB51E1BDED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Patikima komun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davimai tampa patikimais naudojant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septualiai kiekvienas baitas turi savo eilės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ojo baito segmente eilės numeris yra perduodamas kartu su segmentu ir yra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 turi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 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e rodo eilės numerį sekančio laukiamo duomenų baito atbulinėje perdavimo krypt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A17-65A6-4ABE-8C61-0DF19BCB12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kartotinas persiunt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1" i="1" lang="lt-LT" sz="2800" spc="-1" strike="noStrike">
                <a:solidFill>
                  <a:srgbClr val="000000"/>
                </a:solidFill>
                <a:latin typeface="Arial Unicode MS"/>
              </a:rPr>
              <a:t>perduoda segmentą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, kartu jo kopija įrašoma į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pakartotino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perdavimo eilę ir startuojamas laikrod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Gavus šio persiuntimo patvirtinimą, segmentas yra išmet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Jei patvirtinimas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negaunamas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ir praeina užduotas laiko intervalas, segmento siuntimas pakart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2C5-72A1-42C1-B5F9-BBF5F388F3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ienareikšmiškai apibūdina susijungimą tarp dviejų galinių taš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ok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as gali dalyvau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ų su skirtingais išoriniais soke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as gali būti naudojamas duomenų perdavimu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biem krypt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CP gali surišti procesą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t kuri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u. Tačiau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rai-žino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oketus TCP susieja tik su atitinkamais procesais(šie “valdo” tam tikrus port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erai-žinomi soketai yra įprastas mechanizmas išankstiniam susiejimui soketo adreso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andartin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i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491-655A-4E64-8491-553B9AC081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var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kreipini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argument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kalus portas, išorinis soke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grąž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ump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lokalų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vartotojas gali naudotis sekančiuose veiksm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a apie susijungimą(tam tikra duomenų struktūra) laiko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blo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Control Block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kaliu susijungimo vardu gali būt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rod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šiuo susijungi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4D7-3862-4B92-AA04-24D61385B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yvus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OPEN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kreipinys apsprendžia ar susijungimas bu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ktyvus ar pasyv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asyvi OPEN užklausa – procesas nor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riim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ateinančias susijungimo užklausas, 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 inicijuo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susijungimą (žada teikti servis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cesas, prašantis pasyvaus OPEN priims susijungimo užklausas iš kito h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Šiuo atveju išorin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oket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nurodomas visa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uli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kas rodo nenusakytą soke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nusaky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išoriniai soketai yra leidžiami tik pasyviem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56D-8D26-40BB-9C74-F74F15654E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tokolas skiriamas užtikrint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tikim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ndravimą tarp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ų komunikaciniuose tinklu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yra į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usijungim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orientuotas protokolas, suprojektuotas taikymu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sluoksninėje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rotokolų hierarchijoje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tarptinklini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laiky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užtikrina tarp-procesinį bendravimą tarp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poros proces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besisukančių tam tikruose hostuose, kurie yra skirtingi, bet komunikaciniais tinklais surišti komp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9F5-24F3-4F89-9753-58EC240AF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gali išduoti pasyvų OPEN ir laukti atitinkam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ų OPEN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einančių iš kitų procesų, jiems atsiradus TCP informuoja juos apie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sidary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 procesai, kurie išdav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us OPE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s kitam tuo pačiu metu, bus teisingai sujung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u atveju susijungimas galimas su bet kuriuo išoriniu soketu, kuris yra nurodęs šį lokalų soketą, antru atveju susijungimas gal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k su tam tikru sok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778-0D77-4973-BA2A-E43C7583CC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procedū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o procedūroje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 vėliavėl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r jos metu vyksta apsikeitimas trimis praneši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ijų pus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nkų paspaudimo proced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einan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gmento su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ėliavėle su laukianči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įėj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einančio segmen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as sutampa su laukia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sakytas tiksliai arba bet koks), susijung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icijuoja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sukuriamas po to 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 numeriai yra susinchronizuojami abiem kryp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753-22AE-4BA4-9A09-18DE489A56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Duomenys perduodami susijungimu –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baitų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ka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Jei siunčiamus duomenis reika tuoj pat perduoti gavėjui,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f-joje naudojama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ė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iunčiantis TCP gal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rinkt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š vartotojo ateinančius duomenis,(iš buferio, esančio vartotojo/TCP sąsajoj),  dalinti juos segmentais ir siųsti juos savo nuožiūra, arba atėjus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ei. Push nesiriša si segmento riba, push tik skelbia , kad reikia išsiųsti visus neišsiųstus duomen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14D-054B-4A6F-9A63-0BB20673B2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naudoja interneto protokolo serviso tipas lauką bei saugos opcijas nusakydamas pirmenybę bei saugą atžvilgiu susijung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e visi TCP moduliai funkcionuoja saugioje daugelio lygių aplinkoje (galimas ir vienas saugos lyg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moduliai, kurie operuoja daugelio lygių saugos aplinkoje, turi tiksliai atžymėti išeinančius segmentus pirmumo, saugos indik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okie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CP modul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ai turi teikti aukštesnio lygio protokolams nusakyti norimą saugos lygį, pirmumo lygį susijungimo atžvilg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243-1332-4D21-928C-ED7A25469B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galvu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s lauk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ma38" descr="Artwork for comma38"/>
          <p:cNvPicPr/>
          <p:nvPr/>
        </p:nvPicPr>
        <p:blipFill>
          <a:blip r:embed="rId1"/>
          <a:stretch/>
        </p:blipFill>
        <p:spPr>
          <a:xfrm>
            <a:off x="838080" y="1670040"/>
            <a:ext cx="7239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425-2234-4CEF-B193-D30C38231F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pirmo duomenų baito šiame segmente  numer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įjung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ėliavėlė, tai eilės numeris rodo pradinę eilės numerio reikšmę.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itial sequence numb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irmas duomenų baitas turės eilės N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virtinimo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įjungt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trolės bitai šis laukas rodo, koks laukiamas sekantis eilės NR iš siuntėjo pus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susijungimas sudarytas, jis visad yra siunči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poslink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 žodžių suda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vutę. Rodo duomenų pradž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zervuo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Rezervuota vėlesnėm reikmėm. Turi būti nul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F90-C271-4183-A929-C8371BE150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olės bitai (6 bita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URG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CK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atvirtinimo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PSH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ush f-jos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RST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erkrauti(reset) jungtį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Y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inchronizuoti eilės numeriu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I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ebėra duomenų iš siuntė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FB5-B013-41A6-9345-155E311DD8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ngas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į baitų kiekį pradedant nuo rodomu patvirtinimo eilės Nr šio segmento siuntėjas nusiteikęs priim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 su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galvutės bei duomenų kontrolinė su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gaunasi nelyginis baitų kiekis , jis papildomas nuliais iki lyginio kiekio kontrolinės sumos skaičiavimui, šis papildinys nėra perduodamas, o kontrolinės sumos laukas skaičiuojant yra keičiamas nul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Tai poslinkio reikšmė, atskaitant nuo segmento eilės NR, rodanti į svarbius duomenis. Būtina URG vėliavėl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p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 užimti erdvę TCP galvutės gale. Visos opcijos įtraukiamos į kontrolinę sumą. Jos užima keletą baitų, baigiasi  nulių lauku – “header 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6A0-DF05-4B76-BE4D-EBD343E62D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TCP persiunčiamas baitas turi eilės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baitas turi būti patvir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 baito patvirtinimas žymi, kad yra patvirtintas visų baitų įskaitant ir X gav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ukas skirtas eilės numeriams yra baigtinis.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 -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 Visa aritmetika susijusi su eilės numeriais vykdom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A4E-46B4-4C42-BAE6-C21C69CE27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ikrinimai, susiję su eilės numeria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 yra surištas su išsiųstų bet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virti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itų eilės num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jau patvirt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ų segmento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eilės numeriai – segmentas šalinamas iš pakartotino perdavimo ei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įeinantis segmentas turi eilės numerius, kur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ukt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 ar segmentas tilps į priėmimo lang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priėmimo langas lygus 0, gali priimti tik ACK segmentus ir siųsti duomenis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s ir 0 langas, tačiau turi apdoroti ateinan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S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gmen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90B-B4DA-4867-8E34-1063684BB2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gz-darbas-protokolai_html_m7dde9bf8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2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OSI modelis ir TCP/IP protokolų pak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871-3E59-4AAA-AB72-4B1FA51098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pa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nt naują susijungimą yra panaudojamas ISN generatorius, kuris generuoja naują ISN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torius yra surištas s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b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laikrodžiu, kurio reikšmė kinta k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klas kartojasi k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5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Max segmento gyvavimo laikas paprastai būna &lt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Skaitoma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N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nikal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susijungimas turi siuntimo eilės NR ir priėmimo eilės NR. Siunt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 yra parenkamas, o priėmimo pradinis eilės Nr sužinomas užmezgant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371-ED97-44C9-B723-7C630CD340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ijungimo sukūrimui ir jo inicializacijai du TCP turi susinchronizuoti savus IS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atliekama pasikeičiant susijungimo įkūrim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e perduodami su sinchronizacijos bitu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itinkamai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gi reikalingas mechanizmas ISN parinkimui bei ISN reikšmių apsikeitimui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C94-49DE-4CD8-A292-EFD88AE388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nchronizacijo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nchronizacija reikalauja, kad kiekviena pus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siųs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avo ISN  ir gautų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š kitos pusės.  Kiekviena pusė privalo gauti kitos pusės ISN ir patvirtinti jo g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 --&gt;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&lt;--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&lt;--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--&gt;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jų pusių rankų paspaudimas yra būtinas, kadangi ISN nėra surišti su globaliniu laikrodžiu ir kiekvienas TCP gali rinkt ISN pagal savo sch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91B-1D76-4EC6-84D8-DEC2C65C63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ylaus(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) laiko koncep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ai, kurie nusimuša ir nelieka informacijos apie paskutinius perduotus eilės numerius kiekviena aktyvia jungtimi, turi palaukti tam tikrą laiko intervalą neišduodami jokių TCP segmentų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ifetime (M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pie2 m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uri užtikrinti tai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kurs segmento su tokiu eilės numeriu kaip ir esančio tink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time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 tai, kad kažkurie seni duomenys nebūtų priimami kaip nauji ir nauji nebūtų priimami kaip senų dublik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132-2B1E-4140-A205-6987F72BF2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 pusių rankų paspaudimo procedūra yra naudojama sujungimo sudary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iai ją inicijuoja vienas TCP ir atsako kitas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ocedūra taip pat veikia ir jei du TCP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enu me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nicijuoja šią procedūr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 gauna SYN be ACK (jis praneštų apie SYN gavim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EDF-C564-42EB-8E2A-2CC353CFDF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azinė susijungimo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--&gt; SYN-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&lt;--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=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&lt;-- SYN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&gt;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3E3-CA7E-47F0-A31E-69156551DE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 --&gt; &lt;SEQ=100&gt;&lt;CTL=SYN&gt;           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&lt;-- &lt;SEQ=300&gt;&lt;CTL=SYN&gt;              &lt;-- SYN-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CTL=SYN&gt;              --&gt; SYN-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--&gt; &lt;SEQ=100&gt;&lt;ACK=301&gt;&lt;CTL=SYN,ACK&gt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 &lt;-- &lt;SEQ=300&gt;&lt;ACK=101&gt;&lt;CTL=SYN,ACK&gt; &lt;--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          ... &lt;SEQ=101&gt;&lt;ACK=301&gt;&lt;CTL=ACK&gt;     --&g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3C6-9CAA-43AB-94E2-6575124628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statymas po dubliuojančio SY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LOSED                                    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100&gt;&lt;CTL=SYN&gt;      ..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plicate) ... &lt;SEQ=90&gt;&lt;CTL=SYN&gt;         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&lt;-- &lt;SEQ=300&gt;&lt;ACK=91&gt;&lt;CTL=SYN,ACK&gt;  &lt;--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91&gt;&lt;CTL=RST&gt;               -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626-6B45-4856-914A-7F56DCD0A8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... &lt;SEQ=100&gt;&lt;CTL=SYN&gt;               --&gt;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   &lt;-- &lt;SEQ=400&gt;&lt;ACK=101&gt;&lt;CTL=SYN,ACK&gt;  &lt;-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ESTABLISHED --&gt;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Q=101&gt;&lt;ACK=401&gt;&lt;CTL=ACK&gt;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815-0EE5-4F87-9B61-F7D47A5BF0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siau atviri 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iau atvir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jei vienas iš TCP uždarė ar nutraukė susijungimą savam gale be pranešimo kitam TCP arba jei abu tampa desinchronizuoti dėl atminties problem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e susijungimai yra priverčiami restartuoti jei tik bandoma persiųsti duomenis kažkuria kryptim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usiau atviri susijungimai skaitomi retais ir atstatymo procedura yra lengvai įtrauki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8C6-01EE-4ABF-99ED-E6CC696B54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protokolas informaciją siunčia bei priima įvairaus dydži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protokolas TCP protokolui užtikrina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būd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išsiunt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gav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virš TCP galvutės įdėdamas IP datagramos galvut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galvutėje nurodomas šaltinio bei paskirties punkt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IP adres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 IP rūpinasi paketų fragmentacija, jų perdavimu komunikaciniais tinkl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1C2-F780-4C41-A2F7-623F7B30F0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300,receive 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LOSED     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(!!)     &lt;--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&lt;--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ort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SYN-SENT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usiau atviras susijung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FB2-ADA7-4D0F-9DE2-F87B1D2DB9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nd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receiv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??)    &lt;--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=10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&lt;-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    --&gt; (ABORT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ktyvi pusė iššaukia pusiau atviro susijungimo nutrauk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A16-2FB9-4ECF-A96E-E516A59EFC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už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i trys atve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icijuoja susijungimo nutraukimą perdu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struk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icij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tol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ųs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trolės signa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artotojai vienu metu vykd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9AC-DC6E-4EFB-9167-ECB3B4E0DA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vartotojas inicijuoja uždar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tvej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konstruojamas ir įdedamas į išeinančių segmentų eil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vartotojo nebepriimamos funk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uris įeina 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ėmimai yra leidžiami šiame būvyje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si prieš tai einantys segmentai ir segmentas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išsiųsti pakol bus sulauktas patvirti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imą(FIN-WAIT-2) ir at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ės patvirtint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š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ę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jo gavimą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ne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ol jo vartotojas irgi neuždarys  susijungimo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F38-8C75-4B70-8F18-CE76F168A97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:  TCP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gauna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 tink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eina iš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į gavę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tvirtinti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jį ir pranešti vartotojui, kad susijungimas yra uždar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s turi atsaky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kuri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likusių duomenų persiun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aukia sav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virtinimo ir naikina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laukiama, tai po laiko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sijungimas nutraukiamas ir informuojamas vartoto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206-FBE3-4504-9B7A-EF7FEF49C0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: 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bu vartotojai vienu metu uždaro jungtį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alaik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 abiejuose susijungimo galuose iššaukia pasikeit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visi segmentai (susikaupę prieš FIN) yra išsiunčiami ir patvirtinami, kiekvien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atvirtinti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susijungimo nutraukimą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kurį jis yra gav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, gavę patvirtinančiu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traukia susijungim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B28-E13E-4492-95DF-DDD02A4D99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--&gt;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FIN-WAIT-2  &lt;-- &lt;SEQ=300&gt;&lt;ACK=101&gt;&lt;CTL=ACK&gt;      &lt;--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WAIT   &lt;-- &lt;SEQ=300&gt;&lt;ACK=101&gt;&lt;CTL=FIN,ACK&gt;  &lt;-- LAST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IME-WAIT   --&gt; &lt;SEQ=101&gt;&lt;ACK=301&gt;&lt;CTL=ACK&gt;      --&gt;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D30-AEA0-4C48-95BF-7DCF2A30CA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... FIN-WA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0&gt;&lt;ACK=100&gt;&lt;CTL=FIN,ACK&gt;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ACK=300&gt;&lt;CTL=FIN,ACK&gt;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LOSING     --&gt; &lt;SEQ=101&gt;&lt;ACK=301&gt;&lt;CTL=ACK&gt;      ... C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1&gt;&lt;ACK=101&gt;&lt;CTL=ACK&gt;    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1&gt;&lt;ACK=301&gt;&lt;CTL=ACK&gt;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IME-WAIT                                            TIM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MSL)                                            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43E-04B6-424B-A7D7-6B9B4C8377B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ango vald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surišta su tuo momentu laisva buferio sritimi naudojama šiam susijung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gaunama daugiau duomenų nei gali būti priimta, duomenys naikin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reikalingi pakartotini persiuntimai, apkraunamas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ant per mažus lango dydžius gaunamas per ilgas duomenų persiunti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DEE-7A7A-4DDB-BE5E-F7096706B9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aus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ftp://ftp.isi.edu/in-notes/rfc2616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skirtis, naudojama terminolog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acija (klientas, proxy, gateway, tunnel origin), pagrindinės taisyk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rametrai: versija, resursų identifikatorius, datos, laiko formatai, simbolių rinkinys, turinio kodavimas, persiuntimo kodavimas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tokolo parametrai:(Media Types,Product Tokens, Quality Values, Language Tags,    Entity Tags, Range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13A-293F-4E9F-8A31-53FC52D2428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ąsa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vienos pusė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sają su vartoto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 aplikaciniu procesu, iš kitos pusės su žemesnio lygio protokolu – IP protoko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aplikacijų ir TCP užtikrin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eip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panašiais į tuos , kuriuos operacinė sistema teikia aplikaciniams procesams manipuliavim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u fai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Jungties atidarymas, uždarymas, duomenų siuntimas, priėmim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TCP ir žemesnio sluoksnio: skaitoma, kad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echaniz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remdamiesi šie du sluoksniai gal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perd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 viens ki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B8A-6A07-43BB-9B5C-7971BEEC3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 pranešima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ssage Types, Message Headers, Message Body, Message Length, General Header Field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a ir atsaky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quest, Request-Line, Method, Request-URI, The Resource Identified by a Request,Request Header Fields, Response, Status-Line, Status Code and Reason Phrase, Response Header Fie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 Definitions, OPTIONS, GET, HEAD, POST, PUT, DELETE TRACE,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ūvio kod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 Status Code Definitions, Informational 1xx, Successful 2xx Redirection 3xx), Server Error 5x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 cach’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aching in HTT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8DB-C3BD-4177-AA36-7A9C230A0E3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kslas yra užtikr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g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rand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p poros komunikuojančių proces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serviso palaikymo užtikrinimui mažiau patikimoje Interneto komunikacijų terpė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alingi šie mechaniz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perd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o kontrol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tankinimo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mumo ir saug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5A5-316D-4FA8-AE7C-2E4B4CE653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erd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rau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oktetų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i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ryptim, suskirstydamas srau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artais nori būti tikri,  kad visi TCP perduoti duomenys buvo perduoti. Tam naudojam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f-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sitikinimui, kad duomenys, kurie yra perduoti TCP iš tikrųjų yra perduoti gavėjui, vartotojas nurodo veiksmą “pus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BBB-8688-4853-A371-AFE298A67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tikimu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y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gad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arasti, dubliuoti ar nusiųsti ne ta tvar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m persiunčiam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ait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teik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me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iš gavėjo reikalaujamas patvirtinimas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ACK nėra gaunamas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laiko intervale, duomenų persiunti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kartoj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imas dar negarantuoja kad duomenys pristatyti galiniam vartotojui, o tik tai, kad priimantis TCP apsiima šią atsakomyb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o taške eilės numeriai naudojami priėm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išku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laikyti, nes duomenys gali būti gaunami ne ta tvarka, be to gali atsiras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blika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ugadinimui išvengti naudojam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s tikrinamos priėmus segmentą ir sugadinti segmentai yra naikinam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467-72E8-4451-BEB2-E53882832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kontrol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riemonę kuri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vald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siųstą informacijos kiek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ACK yra grąžinamas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dydis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"window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indikuoja t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eilės numerių interva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s gali būti priimtas po paskutinio priėm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ro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os siuntėjas gali pasiųsti prieš gaudamas sekantį lei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715-73CC-4B29-9578-37A282CAD6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10:04Z</dcterms:created>
  <dc:creator>Kristina</dc:creator>
  <dc:description/>
  <dc:language>en-US</dc:language>
  <cp:lastModifiedBy>Kristina</cp:lastModifiedBy>
  <dcterms:modified xsi:type="dcterms:W3CDTF">2004-10-06T08:15:24Z</dcterms:modified>
  <cp:revision>58</cp:revision>
  <dc:subject/>
  <dc:title>TCP</dc:title>
</cp:coreProperties>
</file>