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wmf" ContentType="image/x-wmf"/>
  <Override PartName="/ppt/media/image5.png" ContentType="image/png"/>
  <Override PartName="/ppt/media/image2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14.jpeg" ContentType="image/jpeg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2D8A-98BA-4B7F-9E01-8364FB5481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4926-041E-46EE-A7EB-0E1AB7E126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1184-11DA-4FC0-AA55-5636183D8E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C34E-E049-4FB3-BD6E-20922E59B7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A9D9-0853-4DED-BD8A-5F6B07E80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9644-E570-4AB2-B80A-48613F8A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4CB5-A69B-454A-9F26-06DC482A3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962C-D0F8-485E-BE16-DD4E4B611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E64D-F1CE-4784-8E02-CD69E241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33E8-4D24-4B04-8DDD-61E768B2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A433-9AD7-472D-8C8B-F2094EAA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B6C0-5957-4616-8FB1-B5B86602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BA37-333D-45BD-8E6B-6D52A2D2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FB74-201F-48D9-9D6C-C5FAC437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902C-1D89-4A5F-9A03-5EB41686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FB8D-0614-4BD9-BB7F-00A19245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5D81-2482-426A-9B99-D5B67EF344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ocks.permeo.com/index.asp" TargetMode="External"/><Relationship Id="rId2" Type="http://schemas.openxmlformats.org/officeDocument/2006/relationships/hyperlink" Target="http://www.socks.permeo.com/Search.asp" TargetMode="External"/><Relationship Id="rId3" Type="http://schemas.openxmlformats.org/officeDocument/2006/relationships/hyperlink" Target="http://www.socks.permeo.com/Search.asp" TargetMode="External"/><Relationship Id="rId4" Type="http://schemas.openxmlformats.org/officeDocument/2006/relationships/hyperlink" Target="http://www.socks.permeo.com/Search.asp" TargetMode="External"/><Relationship Id="rId5" Type="http://schemas.openxmlformats.org/officeDocument/2006/relationships/hyperlink" Target="http://www.socks.permeo.com/SiteIndex.asp" TargetMode="External"/><Relationship Id="rId6" Type="http://schemas.openxmlformats.org/officeDocument/2006/relationships/hyperlink" Target="http://www.socks.permeo.com/SiteIndex.asp" TargetMode="External"/><Relationship Id="rId7" Type="http://schemas.openxmlformats.org/officeDocument/2006/relationships/hyperlink" Target="http://www.socks.permeo.com/SiteIndex.asp" TargetMode="External"/><Relationship Id="rId8" Type="http://schemas.openxmlformats.org/officeDocument/2006/relationships/hyperlink" Target="http://www.socks.permeo.com/index.asp" TargetMode="External"/><Relationship Id="rId9" Type="http://schemas.openxmlformats.org/officeDocument/2006/relationships/image" Target="../media/image2.png"/><Relationship Id="rId10" Type="http://schemas.openxmlformats.org/officeDocument/2006/relationships/hyperlink" Target="http://www.socks.permeo.com/Search.asp" TargetMode="External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hyperlink" Target="http://www.socks.permeo.com/SiteIndex.asp" TargetMode="External"/><Relationship Id="rId14" Type="http://schemas.openxmlformats.org/officeDocument/2006/relationships/image" Target="../media/image5.png"/><Relationship Id="rId15" Type="http://schemas.openxmlformats.org/officeDocument/2006/relationships/image" Target="../media/image4.png"/><Relationship Id="rId16" Type="http://schemas.openxmlformats.org/officeDocument/2006/relationships/hyperlink" Target="http://www.socks.permeo.com/AboutSOCKS/SOCKSOverview.asp" TargetMode="External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image" Target="../media/image9.png"/><Relationship Id="rId2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81480" y="25905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9 paska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ile292993_uploadPricol" descr="ta gadas"/>
          <p:cNvPicPr/>
          <p:nvPr/>
        </p:nvPicPr>
        <p:blipFill>
          <a:blip r:embed="rId1"/>
          <a:stretch/>
        </p:blipFill>
        <p:spPr>
          <a:xfrm>
            <a:off x="1066680" y="914400"/>
            <a:ext cx="4000680" cy="37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7B5E-C8A9-48DA-81E6-EE2A53FEC5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"/>
              </a:rPr>
              <a:t>circuit-level gate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circuit-level gateway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 - tai vienas iš aplikacinio proxy modeli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3333cc"/>
                </a:solidFill>
                <a:latin typeface="geneva"/>
              </a:rPr>
              <a:t>Šiame modelyje</a:t>
            </a:r>
            <a:r>
              <a:rPr b="0" lang="en-GB" sz="2800" spc="-1" strike="noStrike">
                <a:solidFill>
                  <a:srgbClr val="3333cc"/>
                </a:solidFill>
                <a:latin typeface="geneva"/>
              </a:rPr>
              <a:t> </a:t>
            </a:r>
            <a:r>
              <a:rPr b="0" lang="lt-LT" sz="2800" spc="-1" strike="noStrike">
                <a:solidFill>
                  <a:srgbClr val="3333cc"/>
                </a:solidFill>
                <a:latin typeface="geneva"/>
              </a:rPr>
              <a:t>ugniasienė valdo</a:t>
            </a:r>
            <a:r>
              <a:rPr b="0" lang="en-GB" sz="2800" spc="-1" strike="noStrike">
                <a:solidFill>
                  <a:srgbClr val="3333cc"/>
                </a:solidFill>
                <a:latin typeface="geneva"/>
              </a:rPr>
              <a:t> TCP (</a:t>
            </a:r>
            <a:r>
              <a:rPr b="0" lang="lt-LT" sz="2800" spc="-1" strike="noStrike">
                <a:solidFill>
                  <a:srgbClr val="3333cc"/>
                </a:solidFill>
                <a:latin typeface="geneva"/>
              </a:rPr>
              <a:t>ir naujesnėse versijose -</a:t>
            </a:r>
            <a:r>
              <a:rPr b="0" lang="en-GB" sz="2800" spc="-1" strike="noStrike">
                <a:solidFill>
                  <a:srgbClr val="3333cc"/>
                </a:solidFill>
                <a:latin typeface="geneva"/>
              </a:rPr>
              <a:t> UDP) </a:t>
            </a:r>
            <a:r>
              <a:rPr b="0" lang="lt-LT" sz="2800" spc="-1" strike="noStrike">
                <a:solidFill>
                  <a:srgbClr val="3333cc"/>
                </a:solidFill>
                <a:latin typeface="geneva"/>
              </a:rPr>
              <a:t>susijungimus tarp patikimo ir nepatikimo tinklų atlikusi galinių taškų a</a:t>
            </a:r>
            <a:r>
              <a:rPr b="0" lang="en-GB" sz="2800" spc="-1" strike="noStrike">
                <a:solidFill>
                  <a:srgbClr val="3333cc"/>
                </a:solidFill>
                <a:latin typeface="geneva"/>
              </a:rPr>
              <a:t>utenti</a:t>
            </a:r>
            <a:r>
              <a:rPr b="0" lang="lt-LT" sz="2800" spc="-1" strike="noStrike">
                <a:solidFill>
                  <a:srgbClr val="3333cc"/>
                </a:solidFill>
                <a:latin typeface="geneva"/>
              </a:rPr>
              <a:t>fikavimą</a:t>
            </a:r>
            <a:r>
              <a:rPr b="0" lang="en-GB" sz="2800" spc="-1" strike="noStrike">
                <a:solidFill>
                  <a:srgbClr val="3333cc"/>
                </a:solidFill>
                <a:latin typeface="genev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Šie proxy nenusileidžia iki a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pl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jų lygio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informa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cijos kaip aplikacinio lygio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proxy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ugniasienės, taigi nereikia atskiro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proxy proces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o kiekvienai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pl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jai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Geriausiai žinoma tokio tipo proxy, tai proxy, realizuojanti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SOCKS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 protokol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FA4C-B53C-4453-9B9E-B9DC36634E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OCKS protoko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protokolas skirtas darbui kliento-serverio rež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erveris veikia ugniasienėje kaip proxy-serveris, sudarantis proxy-sujungimus kiaurai ugniasien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4versija palaiko sujungimus, paremtus TCP,</a:t>
            </a:r>
            <a:br>
              <a:rPr sz="2800"/>
            </a:b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5 versija palaiko UDP ir autentifikacij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OCS atveju klientai turi turėti atitinkamus kodus darbui su šiuo protoko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E1F5-648A-4DD2-8EE4-4D6231C711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O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CK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ydarytas iš dviejų komponenčių: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OCKS serve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o i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OCK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en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CKS serve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s yra įdiegiamas aplikacijų lygyje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OCK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en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s – tarpiniame lygyje tarp aplikacinio ir transport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grindinė paskirtis – leisti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hos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iš vienos pusė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OCKS serve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o pasiekti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hos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itoj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OCK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rve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o pusėj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-25560" y="-9744120"/>
            <a:ext cx="8516880" cy="1282680"/>
            <a:chOff x="-25560" y="-9744120"/>
            <a:chExt cx="8516880" cy="1282680"/>
          </a:xfrm>
        </p:grpSpPr>
        <p:sp>
          <p:nvSpPr>
            <p:cNvPr id="72" name=""/>
            <p:cNvSpPr/>
            <p:nvPr/>
          </p:nvSpPr>
          <p:spPr>
            <a:xfrm>
              <a:off x="-25560" y="-9744120"/>
              <a:ext cx="6808680" cy="12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GB" sz="4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6783120" y="-9744120"/>
              <a:ext cx="1708200" cy="1282680"/>
              <a:chOff x="6783120" y="-9744120"/>
              <a:chExt cx="1708200" cy="1282680"/>
            </a:xfrm>
          </p:grpSpPr>
          <p:sp>
            <p:nvSpPr>
              <p:cNvPr id="74" name=""/>
              <p:cNvSpPr/>
              <p:nvPr/>
            </p:nvSpPr>
            <p:spPr>
              <a:xfrm>
                <a:off x="7011720" y="-9744120"/>
                <a:ext cx="147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2"/>
                  </a:rPr>
                  <a:t>  </a:t>
                </a:r>
                <a:r>
                  <a:rPr b="0" lang="en-GB" sz="13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         </a:t>
                </a:r>
                <a:r>
                  <a:rPr b="0" lang="en-GB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3"/>
                  </a:rPr>
                  <a:t> </a:t>
                </a:r>
                <a:r>
                  <a:rPr b="0" lang="en-GB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4"/>
                  </a:rPr>
                  <a:t>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783120" y="-9286920"/>
                <a:ext cx="1708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r>
                  <a:rPr b="0" lang="en-GB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5"/>
                  </a:rPr>
                  <a:t>  </a:t>
                </a:r>
                <a:r>
                  <a:rPr b="0" lang="en-GB" sz="13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  </a:t>
                </a:r>
                <a:r>
                  <a:rPr b="0" lang="en-GB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6"/>
                  </a:rPr>
                  <a:t> </a:t>
                </a:r>
                <a:r>
                  <a:rPr b="0" lang="en-GB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7"/>
                  </a:rPr>
                  <a:t>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"/>
          <p:cNvSpPr/>
          <p:nvPr/>
        </p:nvSpPr>
        <p:spPr>
          <a:xfrm>
            <a:off x="-25560" y="-8464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-25560" y="15781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logo" descr="SOCKS5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42920" y="-9462960"/>
            <a:ext cx="4606920" cy="753840"/>
          </a:xfrm>
          <a:prstGeom prst="rect">
            <a:avLst/>
          </a:prstGeom>
          <a:ln w="0">
            <a:noFill/>
          </a:ln>
        </p:spPr>
      </p:pic>
      <p:pic>
        <p:nvPicPr>
          <p:cNvPr id="79" name="Search_a" descr="Search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262640" y="-9698040"/>
            <a:ext cx="628920" cy="217440"/>
          </a:xfrm>
          <a:prstGeom prst="rect">
            <a:avLst/>
          </a:prstGeom>
          <a:ln w="0">
            <a:noFill/>
          </a:ln>
        </p:spPr>
      </p:pic>
      <p:pic>
        <p:nvPicPr>
          <p:cNvPr id="80" name="arrow_green_small" descr=""/>
          <p:cNvPicPr/>
          <p:nvPr/>
        </p:nvPicPr>
        <p:blipFill>
          <a:blip r:embed="rId12"/>
          <a:stretch/>
        </p:blipFill>
        <p:spPr>
          <a:xfrm>
            <a:off x="7989840" y="-9698040"/>
            <a:ext cx="399960" cy="149400"/>
          </a:xfrm>
          <a:prstGeom prst="rect">
            <a:avLst/>
          </a:prstGeom>
          <a:ln w="0">
            <a:noFill/>
          </a:ln>
        </p:spPr>
      </p:pic>
      <p:pic>
        <p:nvPicPr>
          <p:cNvPr id="81" name="SiteIndex_a" descr="Site Index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034040" y="-8875800"/>
            <a:ext cx="846360" cy="217440"/>
          </a:xfrm>
          <a:prstGeom prst="rect">
            <a:avLst/>
          </a:prstGeom>
          <a:ln w="0">
            <a:noFill/>
          </a:ln>
        </p:spPr>
      </p:pic>
      <p:pic>
        <p:nvPicPr>
          <p:cNvPr id="82" name="arrow_green_small" descr=""/>
          <p:cNvPicPr/>
          <p:nvPr/>
        </p:nvPicPr>
        <p:blipFill>
          <a:blip r:embed="rId15"/>
          <a:stretch/>
        </p:blipFill>
        <p:spPr>
          <a:xfrm>
            <a:off x="7989840" y="-8875800"/>
            <a:ext cx="399960" cy="149400"/>
          </a:xfrm>
          <a:prstGeom prst="rect">
            <a:avLst/>
          </a:prstGeom>
          <a:ln w="0">
            <a:noFill/>
          </a:ln>
        </p:spPr>
      </p:pic>
      <p:pic>
        <p:nvPicPr>
          <p:cNvPr id="83" name="dot3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-27000" y="-7596360"/>
            <a:ext cx="79560" cy="92160"/>
          </a:xfrm>
          <a:prstGeom prst="rect">
            <a:avLst/>
          </a:prstGeom>
          <a:ln w="0">
            <a:noFill/>
          </a:ln>
        </p:spPr>
      </p:pic>
      <p:pic>
        <p:nvPicPr>
          <p:cNvPr id="84" name="image003" descr=""/>
          <p:cNvPicPr/>
          <p:nvPr/>
        </p:nvPicPr>
        <p:blipFill>
          <a:blip r:embed="rId18"/>
          <a:stretch/>
        </p:blipFill>
        <p:spPr>
          <a:xfrm>
            <a:off x="5181480" y="2362320"/>
            <a:ext cx="3429000" cy="2022480"/>
          </a:xfrm>
          <a:prstGeom prst="rect">
            <a:avLst/>
          </a:prstGeom>
          <a:ln w="0">
            <a:noFill/>
          </a:ln>
        </p:spPr>
      </p:pic>
      <p:pic>
        <p:nvPicPr>
          <p:cNvPr id="85" name="5952" descr=""/>
          <p:cNvPicPr/>
          <p:nvPr/>
        </p:nvPicPr>
        <p:blipFill>
          <a:blip r:embed="rId19"/>
          <a:stretch/>
        </p:blipFill>
        <p:spPr>
          <a:xfrm>
            <a:off x="3602160" y="6480000"/>
            <a:ext cx="21960" cy="103320"/>
          </a:xfrm>
          <a:prstGeom prst="rect">
            <a:avLst/>
          </a:prstGeom>
          <a:ln w="0">
            <a:noFill/>
          </a:ln>
        </p:spPr>
      </p:pic>
      <p:pic>
        <p:nvPicPr>
          <p:cNvPr id="86" name="image004" descr=""/>
          <p:cNvPicPr/>
          <p:nvPr/>
        </p:nvPicPr>
        <p:blipFill>
          <a:blip r:embed="rId20"/>
          <a:stretch/>
        </p:blipFill>
        <p:spPr>
          <a:xfrm>
            <a:off x="1871640" y="7932600"/>
            <a:ext cx="4789440" cy="632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76F1-A00C-42A8-B538-564F543B68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lientinė pus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lientinėje pusėje standartiniai tinkliniai kreipiniai keičiami į atitinkamus kreipinius, naudojamu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S vers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o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inės tinklinės f-jos-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s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onnect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sockname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getsockname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bind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ccept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n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listen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elec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E296-CB9C-49BE-9CC4-FBDDB6322B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OCS veikimo princip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lientinė programa siunčia SOCS serveriui užklausą susijungimui su tam tikru IP adres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OCS serveris tikrina taisykles – ar ryšys leist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taip, SOCS bando užmegzti ryšį su nutolusiu server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 ryšys užmezgamas, klientui pranešama, pradedamas pasikeitimas duomenim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0E02-C185-4009-A715-CC868BC0EB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sijungimo užklau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ą siunčia klientinė programa, siekdama užmegzti ryš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mandoje nurodoma:</a:t>
            </a:r>
            <a:br>
              <a:rPr sz="2800"/>
            </a:b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ersijos NR, SOCS komandos kodas, paskirties punkto IP adresas bei porto N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sibaigus susijungimo bandymui (sėkmingai arba ne) serveris gražina klientui paketą, kuriame yra :</a:t>
            </a:r>
            <a:br>
              <a:rPr sz="2800"/>
            </a:b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ersijos NR bei SOCKS rezultato ko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9A8F-6697-4DCB-A92F-D02B3AB780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OCKS V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OCKSv4 proto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s vykdo tri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fun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cija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Susijungimo užklausa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oxy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grandinės sudarymą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pli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uomenų perdavim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OCKSv5 proto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e pridėta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utent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fikacijos palaikymas ir galimybė sukurti proxy-serverį ne tik TCP bet ir UDP atvejui, o taip pat domeno adresų palaikymas ir IPv6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iekviena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CP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 UDP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mun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niam 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lui, kurį įkuri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OCKS proto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s, jis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erduoda vartotoj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nform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ciją iš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OCKS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ent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SOCKS server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ui vartotojo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utent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fikacija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utent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fikuoja vartotoją ir kanalą i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arant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oja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CP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UDP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lų vientisumą ( integrity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Dauguma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une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avimui skirtų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proto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ų atskiria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utent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fikacijo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proce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mun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cinio kanalo įkūrim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kadangi yra sunku garantuoti kanalų vientisumą ir vartotojų autentifikaciją kai yra sukuriama daug kanal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0518-5783-4142-8368-9DAB485C36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OCS proxy-serveris – tai kanaliniai vartai, kuriais galima pasinaudoti užmezgant ryšį s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ikacini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ervis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komųjų programų darbui per ugniasienę užtikrinti Windows tipo sistemose naudojama bibliotek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ocsCa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ibliotekinės funkcijos tarnauja tam, kad galėtų perim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WinSoc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lientines užklausas tinkliniams servisams ir perduoti jas SOCKS serveri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E77E-BD95-41FF-9A37-58A730AFC5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"/>
              </a:rPr>
              <a:t>SOCKS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SOCKS 5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reikalauja modifikacijų arba aplikacijų pusėje arba klientų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TCP/IP st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e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uose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Dauguma įprastų naršyklių plačiausiai naudojamose platformose turi savyje įdėtą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SOCKS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palaikymą, ir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modif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uoti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proto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ol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ų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st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ekai yra taip pat prieinami tiek įvairioms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Unix,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 įvairioms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Windows,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bei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Macintosh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 sistemoms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Nežiūrint to reikalingos žymios administracinės pastangos įdiegiant šio tipo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(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circuit-level gateway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) tarptinklinę sąsają didelio tinklo atvej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897C-E4B8-4F15-8A92-4788B7B95A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N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pl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cinės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proxy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ugniasienės ir tarptinkliniai vartai (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circuit-level gateways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) dažnai skaidriai vykdo tinklinių adresų transliaciją -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Network Address Translation (NAT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Tinklinė sąsaja, kuri sujungia vidinį tinklą su nepatikimu išoriniu tinklu yra viskas, ką šis nepatikimas tinklas m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ket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iniai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filtr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ai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ir būvį analizuojančios ugniasienės paprastai nevykdo IP adresų bei porto numeriųtransliacijos, nors aišku niekas nedraudžia įdiegti šią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NAT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galimybę atskir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21F1-88C7-4AB3-A80D-C94F63D404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gniasien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Ugniasienes galima </a:t>
            </a:r>
            <a:r>
              <a:rPr b="0" lang="lt-LT" sz="2800" spc="-1" strike="noStrike">
                <a:solidFill>
                  <a:srgbClr val="000000"/>
                </a:solidFill>
                <a:latin typeface="Georgia"/>
              </a:rPr>
              <a:t>suskirstyti į tris skirtingus lygi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paket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inio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l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ygio ugniasienes, kurios neseka, kas su kuo kalbas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Būvį palaikančios ugniasienės, kurios seka praeinančius paketu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Proxy- ugniasienės, kurios taip pat gali įvertinti srautą, susiedamos  jį su prieš tai priimtu sra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Proxy 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ugniasienės surištos su aukštesnio lygio protokolais kaip pavyzdžiui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e-mail 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r HTML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, palaikomais žemo lygio protokolų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Taigi: ugniasienės skiriasi tuo, ar jos vertina istoriją, bei tuo, kokio lygio protokolu jos naudoja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EC89-42E8-4A07-9F3D-5DE9ACA223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klinių adresų transliacij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–Tinklinių adresų transliacija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i dažnai naudojama proxy-serverio funkcij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 programa vykdydama užklausą lokalaus tinklo klientų vardu, naudoja savo IP adresą (arba IP adresų diapazoną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zistuoja keli NAT realizacijos būda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 statinis bei dinamin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413B-B71E-44A1-B448-16D021E7FA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NAT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792468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šplečiam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IP adr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 erdvė panaudoja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priv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či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adr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r juo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transl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uojant 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ešai registruotu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adr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Priv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či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adr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erdvė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10.0.0.0 - 10.255.255.255 (10.0.0.0/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172.16.0.0  - 172.31.255.255 (172.16.0.0/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192.168.0.0 - 192.168.255.255 (192.168.0.0/16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571A-1179-4412-9B45-EC8D75B09D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NA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irmą kartą aprašy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RFC 1631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doku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 –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ech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 nusakanti, kaip perrašyt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IP adr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, esančius galvutėse ir aplikacinių duomenų srautuose pagal numatytą politiką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emiamasi srauto šaltinio bei paskirties tašk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IP adr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AF33-BB57-4993-A379-7E8C46E43F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resų priskyri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tatic address assignment), kliento adresas lokaliame tinkle surišamas su fiksuotu IP adresu – kuris naudojamas išorėj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1AAC-6310-433E-B072-0714349B2E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NAT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vyzd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6423120" cy="364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955B-CC37-4FB4-8B2A-1E69EA85645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990720" cy="760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990720" cy="760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066680" y="4876920"/>
            <a:ext cx="990720" cy="760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025880" y="3048120"/>
            <a:ext cx="81756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8001000" y="1143000"/>
            <a:ext cx="476280" cy="838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981080" y="2362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3581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5257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3733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23623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800600" y="2286000"/>
            <a:ext cx="1371600" cy="129528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29400" y="1523880"/>
            <a:ext cx="1371600" cy="45720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3581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4952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3733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3623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0120" y="1981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205632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427920"/>
            <a:ext cx="2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487584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31233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Tahoma"/>
              </a:rPr>
              <a:t>N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34290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04.x.1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1981080"/>
            <a:ext cx="90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819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NA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 išeinantis srau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FE33-6BFD-4A55-88FB-15E130334DC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Soketo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resų transliacija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(šakutė) – tai kombinacija, sudaryta iš IP adreso ir porto numerio, kuri yra naudojama pažymint galinius TCP arba UDP sujungimo tašku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kiant išplėsti galimų išorinių jungčių skaičių ir kartu nedidinti NAT serveriui priskirtų adresų skaičiaus yra naudojama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soketų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resų transliacij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76EE-69FA-42B9-9C65-6DC39EDD50F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842440" y="198108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990720" cy="760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990720" cy="76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1066680" y="4876920"/>
          <a:ext cx="990720" cy="76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876920"/>
                    <a:ext cx="99072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4025880" y="3048120"/>
            <a:ext cx="817560" cy="1143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8001000" y="1143000"/>
            <a:ext cx="476280" cy="838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981080" y="2362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71800" y="3581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5257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81080" y="3733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3623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800600" y="2286000"/>
            <a:ext cx="1371600" cy="129528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629400" y="1523880"/>
            <a:ext cx="1371600" cy="45720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3581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4952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3733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23623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0120" y="1981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19803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3427920"/>
            <a:ext cx="2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487584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43400" y="31233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Tahoma"/>
              </a:rPr>
              <a:t>N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35053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04.1.1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563868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Connection request to port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0</a:t>
            </a: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 from ‘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‘ to &lt;web server&gt; source 10.0.0.4, port 102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666880" y="4038480"/>
            <a:ext cx="1371600" cy="1447920"/>
          </a:xfrm>
          <a:prstGeom prst="line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2209680"/>
            <a:ext cx="17528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66"/>
                </a:solidFill>
                <a:latin typeface="Tahoma"/>
              </a:rPr>
              <a:t>10.0.0.4, port 10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66"/>
                </a:solidFill>
                <a:latin typeface="Tahoma"/>
              </a:rPr>
              <a:t>mapp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66"/>
                </a:solidFill>
                <a:latin typeface="Tahoma"/>
              </a:rPr>
              <a:t>204.1.1.10, port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3809880"/>
            <a:ext cx="304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Connection request from ‘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’ forwarded to &lt;web server&gt;  source 204.1.1.10, port 20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28954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Request received and accept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15000" y="2057400"/>
            <a:ext cx="1828800" cy="1447920"/>
          </a:xfrm>
          <a:prstGeom prst="line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81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en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o užklaus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724280" y="4800600"/>
          <a:ext cx="4114800" cy="1025640"/>
        </p:xfrm>
        <a:graphic>
          <a:graphicData uri="http://schemas.openxmlformats.org/drawingml/2006/table">
            <a:tbl>
              <a:tblPr/>
              <a:tblGrid>
                <a:gridCol w="914400"/>
                <a:gridCol w="1143000"/>
                <a:gridCol w="1067040"/>
                <a:gridCol w="990360"/>
              </a:tblGrid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ide 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ide 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 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 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.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.1.1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.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.1.1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22C8-9207-4F64-A6A8-9A34E41CB3E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842440" y="198108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990720" cy="760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990720" cy="76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"/>
          <p:cNvGraphicFramePr/>
          <p:nvPr/>
        </p:nvGraphicFramePr>
        <p:xfrm>
          <a:off x="1066680" y="4876920"/>
          <a:ext cx="990720" cy="76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876920"/>
                    <a:ext cx="99072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4025880" y="3048120"/>
            <a:ext cx="817560" cy="1143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8001000" y="1143000"/>
            <a:ext cx="476280" cy="838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981080" y="2362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3581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5257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3733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23623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800600" y="2286000"/>
            <a:ext cx="1371600" cy="129528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629400" y="1523880"/>
            <a:ext cx="1371600" cy="45720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3581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4952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05120" y="3733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23623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0120" y="1981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19803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3427920"/>
            <a:ext cx="2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487584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3400" y="31233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Tahoma"/>
              </a:rPr>
              <a:t>N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7120" y="236232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Response sent to  204.1.1.10, port 20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81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going Web Client Through NA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724280" y="4800600"/>
          <a:ext cx="4114800" cy="1025640"/>
        </p:xfrm>
        <a:graphic>
          <a:graphicData uri="http://schemas.openxmlformats.org/drawingml/2006/table">
            <a:tbl>
              <a:tblPr/>
              <a:tblGrid>
                <a:gridCol w="914400"/>
                <a:gridCol w="1143000"/>
                <a:gridCol w="1067040"/>
                <a:gridCol w="990360"/>
              </a:tblGrid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ide 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ide 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 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 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.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.1.1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.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.1.1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 flipH="1">
            <a:off x="4952880" y="2743200"/>
            <a:ext cx="23623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426708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Translate   204.1.1.10, port 2000 to 10.0.0.4 port 10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133360" y="4800600"/>
            <a:ext cx="19047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2038-B5FB-4FDF-9D5B-D2BD3509847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minio adreso priskyrimo princip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inamic address assignment) , išskiria IP adresą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imui išoriniame tinkle, j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lientas daro užklausą , einančią per proxy-serverį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baigus ryšio seansu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a praėjus tam tikram laikui adresas yra gražinamas į laisvų adresų sąrašą, ir gali būti suteiktas kitam kompiuteriu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45720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Dinaminis adreso išskyri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BD6D-1210-4C91-94BC-C15F61BFB23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rox</a:t>
            </a: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ketinio filtro atveju, galimi </a:t>
            </a:r>
            <a:r>
              <a:rPr b="1" lang="lt-LT" sz="2400" spc="-1" strike="noStrike">
                <a:solidFill>
                  <a:srgbClr val="3333cc"/>
                </a:solidFill>
                <a:latin typeface="Times New Roman"/>
              </a:rPr>
              <a:t>tiesiogini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usijungimai tarp kliento ir serve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oxy </a:t>
            </a:r>
            <a:r>
              <a:rPr b="1" lang="lt-LT" sz="2400" spc="-1" strike="noStrike">
                <a:solidFill>
                  <a:srgbClr val="ff3399"/>
                </a:solidFill>
                <a:latin typeface="Times New Roman"/>
              </a:rPr>
              <a:t>išard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šiuos tiesioginius susijungimus. Serveriui proxy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etenduoj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bū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lient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klientui proxy pretenduoja bū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erveri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okių tiesioginių komunikacijų tarp serverio ir kl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e to proxy turi priėjimą prie visų aplikacijos duomenų: proxy gali patikrinti, ar srautas tarp kliento ir serverio yra legal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v.,  web proxy gali patikrinti ar leistina GET komanda prieš persiunčiant ją į server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ealiai ne visi proxy iš tikrųjų giliai analizuoja aplikacinį protokolą – tai gana sudėtinga – apsiribojama tinklinio lygio tikrinim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D6FF-5A05-444F-80E1-6268BA4F2D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609480" y="838080"/>
            <a:ext cx="8001000" cy="5334120"/>
            <a:chOff x="609480" y="838080"/>
            <a:chExt cx="8001000" cy="5334120"/>
          </a:xfrm>
        </p:grpSpPr>
        <p:sp>
          <p:nvSpPr>
            <p:cNvPr id="200" name=""/>
            <p:cNvSpPr/>
            <p:nvPr/>
          </p:nvSpPr>
          <p:spPr>
            <a:xfrm>
              <a:off x="5886720" y="2837880"/>
              <a:ext cx="15321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40.176.123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9480" y="838080"/>
              <a:ext cx="1702080" cy="66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rbo stotis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9480" y="2393640"/>
              <a:ext cx="1702080" cy="66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rbo stotis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9480" y="3727080"/>
              <a:ext cx="1702080" cy="66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rbo stotis 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9480" y="4838400"/>
              <a:ext cx="1702080" cy="66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rbo stotis 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14000" y="838080"/>
              <a:ext cx="1872360" cy="533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AT server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0.176.123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0.176.123.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0.176.123.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248600" y="2171160"/>
              <a:ext cx="1361880" cy="1778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ternet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11560" y="1282320"/>
              <a:ext cx="1702440" cy="66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11560" y="2837880"/>
              <a:ext cx="170244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311560" y="4171680"/>
              <a:ext cx="170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2311560" y="5060520"/>
              <a:ext cx="170244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86720" y="2393640"/>
              <a:ext cx="136188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5886720" y="3282480"/>
              <a:ext cx="136188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5886720" y="3726720"/>
              <a:ext cx="170208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52120" y="2393640"/>
              <a:ext cx="11916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.10.10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52120" y="3504960"/>
              <a:ext cx="11916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.10.10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52120" y="5283000"/>
              <a:ext cx="11916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.10.10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57000" y="1726920"/>
              <a:ext cx="15318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40.176.123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26920" y="4615920"/>
              <a:ext cx="15321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40.176.123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81840" y="838080"/>
              <a:ext cx="11916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.10.10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BE9F-700D-4936-AD8C-3B00CC46AC6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dinio tinklo adresų aibės padidin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ų transliacijos privalumas yra tame, kad adresų transliacija leidžia žymiai išplėsti vidinio tinklo adresų aib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ant adresų transliacijai leidžiama imti adresus iš specialaus diapazono, nustatyto IANA organizacijo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Adresų vektorizacija leidžia perskirstyti apkrovą tarp kelių server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e kliento atžvilgiu atrodo kaip vienas serveris, kuriam būdingas vienas IP adresas ir vienas domeno vard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0FBD-4EF9-49EA-858B-77563A61379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gniasienės ir N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NAT gali būti realizuojama ir atskiruose tam skirtuose įrenginiu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ai kurie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NAT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įrenginių gamintojai aprašo šiuos įrenginius kaip ugniasienes, bet tai nėra teisin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NAT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vykdo vidinių adresų uždengimą nuo išorės, tačia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ji neatlieka srauto kontrolė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Nevykdo autentifikaci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Negali apsaugoti nuo paketų su pakeistais “spoofed” adres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385A-BDD0-4FB5-99F9-45A11EDC911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geneva"/>
              </a:rPr>
              <a:t>H</a:t>
            </a:r>
            <a:r>
              <a:rPr b="1" lang="lt-LT" sz="4400" spc="-1" strike="noStrike">
                <a:solidFill>
                  <a:srgbClr val="000000"/>
                </a:solidFill>
                <a:latin typeface="geneva"/>
              </a:rPr>
              <a:t>ibridiniai įrengin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omercinėse ugniasienėse dažnai naudojamos kelios apsaugos technologij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Pavyzdžiui,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Check Point's Firewall-1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turi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NAT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galimybes,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Network Associates' Gauntlet,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pl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jų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proxy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ugniasienė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taiko taip vadinamą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adapt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yvią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proxy technolog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iją, kai ypatingas dėmesys yra skiriamas pirmiems praeinantiems srauto paketams, po to įsimenant būv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B23E-BC68-4785-A2A1-4270ABE7E06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geneva"/>
              </a:rPr>
              <a:t>H</a:t>
            </a:r>
            <a:r>
              <a:rPr b="1" lang="lt-LT" sz="4400" spc="-1" strike="noStrike">
                <a:solidFill>
                  <a:srgbClr val="000000"/>
                </a:solidFill>
                <a:latin typeface="geneva"/>
              </a:rPr>
              <a:t>ibridiniai įrengin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adangi ugniaisenės randasi ant ribos tarp patikimo ir nepatikimo tinklo, tai pagimdo tendenciją </a:t>
            </a:r>
            <a:r>
              <a:rPr b="0" i="1" lang="lt-LT" sz="2800" spc="-1" strike="noStrike">
                <a:solidFill>
                  <a:srgbClr val="000000"/>
                </a:solidFill>
                <a:latin typeface="geneva"/>
              </a:rPr>
              <a:t>į jas įtraukti ir kitus servisus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Pavyzdžiui, pastebima tendencija </a:t>
            </a:r>
            <a:r>
              <a:rPr b="1" i="1" lang="lt-LT" sz="2800" spc="-1" strike="noStrike">
                <a:solidFill>
                  <a:srgbClr val="000000"/>
                </a:solidFill>
                <a:latin typeface="geneva"/>
              </a:rPr>
              <a:t>VPN</a:t>
            </a:r>
            <a:r>
              <a:rPr b="0" i="1" lang="lt-LT" sz="2800" spc="-1" strike="noStrike">
                <a:solidFill>
                  <a:srgbClr val="000000"/>
                </a:solidFill>
                <a:latin typeface="geneva"/>
              </a:rPr>
              <a:t> užbaigti ties ugniasiene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, nes priešingu atveju reikalingas dešifravimas-šifravimas siekiant patikrinti praeinantį sraut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Saugos tikrinimai, kuriais nustatoma, koks būtent srautas praeina atlieka panašius veiksmus, kurie </a:t>
            </a:r>
            <a:r>
              <a:rPr b="0" i="1" lang="lt-LT" sz="2800" spc="-1" strike="noStrike">
                <a:solidFill>
                  <a:srgbClr val="000000"/>
                </a:solidFill>
                <a:latin typeface="geneva"/>
              </a:rPr>
              <a:t>vykdomi valdant srauto dydžius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, todėl bandoma ir šiuos veiksmus priskirti ugniasiene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EA3E-F93E-4C47-AA2D-1B615C150C6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geneva"/>
              </a:rPr>
              <a:t>As the Internet has come to be a critical role in most everyone's networking strategy, protection from undesirable Internet inhabitants is a necessity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”</a:t>
            </a:r>
            <a:r>
              <a:rPr b="1" lang="en-GB" sz="2400" spc="-1" strike="noStrike">
                <a:solidFill>
                  <a:srgbClr val="000000"/>
                </a:solidFill>
                <a:latin typeface="geneva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Proxy ugniasienės iš esmės tai </a:t>
            </a:r>
            <a:r>
              <a:rPr b="1" lang="lt-LT" sz="2000" spc="-1" strike="noStrike">
                <a:solidFill>
                  <a:srgbClr val="000000"/>
                </a:solidFill>
                <a:latin typeface="geneva"/>
              </a:rPr>
              <a:t>programinės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 įrangos paketas, nors kartais tai ir nėra atžymima kaip programinės įran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Taigi ugniasienė </a:t>
            </a:r>
            <a:r>
              <a:rPr b="0" lang="lt-LT" sz="2000" spc="-1" strike="noStrike">
                <a:solidFill>
                  <a:srgbClr val="ff3399"/>
                </a:solidFill>
                <a:latin typeface="geneva"/>
              </a:rPr>
              <a:t>nėra saugesnė, nei operacinė sistema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, ant kurios ji sukas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Dauguma ugniasienių yra realizuotos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ff3399"/>
                </a:solidFill>
                <a:latin typeface="geneva"/>
              </a:rPr>
              <a:t>Unix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r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ba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ff3399"/>
                </a:solidFill>
                <a:latin typeface="geneva"/>
              </a:rPr>
              <a:t>Windows 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NT/2000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 sistemų terpėje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nors pažeidžiamumai sutinkami visuose šių operacinių sistemų variantuo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Kai kurie ugniasienių gamintojai pritaiko operacines sistemas, dažniausiai Unix ir instaliuoja savą ugniasienių programinę įrangą. Tai pateikiama kaip aparatūriškai realizuota ugniasienė (</a:t>
            </a:r>
            <a:r>
              <a:rPr b="0" lang="en-GB" sz="2000" spc="-1" strike="noStrike">
                <a:solidFill>
                  <a:srgbClr val="ff3399"/>
                </a:solidFill>
                <a:latin typeface="geneva"/>
              </a:rPr>
              <a:t>firewall appliances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) ir skaitoma, kad slėpimas detalių apie op. sist. suteikia papildomą saugos lygį. Šių įrenginių branduolys dažnai pritaikomas tik ugniasienės funkcionavimui, jis nėra skirtas kitiems uždaviniams vykdy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A1F0-B129-4297-8BD2-50F62101D98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gniasienių vertini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Apie 90-tųjų vidury, pradėjus tyrinėt, testuot ir lygint ugniasienes, jų darbo vertinimai buvo siejami su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funkcionavimo greičiais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, kadangi ugniasienės daugumoje buvo realizuojamos naudojant maršrutizatori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Tačiau sieti ugnaisienės funkcionavimo efektyvumą su funkcionavimo greičiu nėra gerai, nes didelis greitis gali kaip tik indikuoti ugniasienės spragas saugos požiūri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Patikrinti saugos požiūriu yra pakankamai sunku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, dažnai praktiškai neįmanoma įrodyti, kad visi pažeidžiamumai yra eliminuo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Saugos skenavimo įrankiai, kurie vertina visas žinomas  atakas gali būti panaudoti bandant praeiti pro ugniasienę, tačiau tai dar neįrodo, kad ugniasienė nėra nepažeidži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5BF6-5ECC-46FE-82D9-BC19959DE1D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neva"/>
              </a:rPr>
              <a:t>Ne tik technolog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Nors ugniasienės architektūros supratimas ir supratimas apie galimus pažeidimus yra svarbus saugant organizacijos tinklą,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saugos tinkama politika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yra dar svarbesnis mom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Saugos politikos įvedimas reikalauja suprasti duomenų svarbą, biznio procesą, įvairias atsakomybės formas ir kitas netechnines det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IT ir saugos specialistai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gali padėti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užduodant tinkamus klausimus, tačiau paprastai ne jie taria paskutinį žodį, nusakant organizacijos politiką.  Kai organizacijos vadovybė nusako fundamentalias saugos politikos gaires, techniniai specialistai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gali pritaikyti praktines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procedūras šių gairių realizacij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4B79-15F7-49EF-B13A-0B6D4859E29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gniasienė ir jos konfigū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Papildomai reikia atkreipti dėmesį į tai, kad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blogai sukonfigūruota ugniasienė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yra dar labiau pavojingiau, nei jos nebuvimas iš vi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Tradi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cinės ugniasienės būdavo konfigūruojamos naudojant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scriptus bei komandinės eilutės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sąsaj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Tai reikalavo tam tikro vartotojų apmokymo, b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Pastangų iš vartotojų pusės, kad visos “deny” bei “accept” eilutės su atitinkamais IP adresais bei portų numeriais išsilietų į tinklo saugos užtvar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Modernios ugniasienės turi tą privalumą, kad jų konfigūravimui galima pasinaudoti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“žyniais” (wizards) bei grafiniu palaikymu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, kas palengvina jų konfigūravi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22CF-4F0F-4C8A-94CE-5E3E88B7369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gniasienės palaiky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Svarbus momentas yra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ugniasienių valdymas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Didelėse organizacijose užsklanda atakoms išsilieja į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didelį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ugniasienių tinklą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. Kai kuriose iš šių ugniasienių norima palaikyti tą pačią saugos politik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Kai kurios organizacijos naudoja vidines ugniasienes apsaugai nuo potencialių vidinių atakų. Šių ugniasienių konfigūravimas gali ryškiai skirtis nuo išorinį išėjimą saugančių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Konfigūracijos valdymo lankstumas bei nuoseklumas yra svarbus ir vidinių ugniasienių požiūriu.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6BA2-D410-4224-B6A9-94B9F7556D9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eorgia"/>
              </a:rPr>
              <a:t>Proxy ne tik sugeba atskirti tinkl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eorgia"/>
              </a:rPr>
              <a:t>Jos panaudojimas yra </a:t>
            </a:r>
            <a:r>
              <a:rPr b="1" lang="lv-LV" sz="2800" spc="-1" strike="noStrike">
                <a:solidFill>
                  <a:srgbClr val="3333cc"/>
                </a:solidFill>
                <a:latin typeface="Times New Roman"/>
              </a:rPr>
              <a:t>viliojantis</a:t>
            </a:r>
            <a:r>
              <a:rPr b="0" lang="lv-LV" sz="2800" spc="-1" strike="noStrike">
                <a:solidFill>
                  <a:srgbClr val="000000"/>
                </a:solidFill>
                <a:latin typeface="Georgia"/>
              </a:rPr>
              <a:t>, nes ji </a:t>
            </a:r>
            <a:r>
              <a:rPr b="0" lang="lt-LT" sz="2800" spc="-1" strike="noStrike">
                <a:solidFill>
                  <a:srgbClr val="000000"/>
                </a:solidFill>
                <a:latin typeface="Georgia"/>
              </a:rPr>
              <a:t>žiūri į paketą iš aplikacinio protokolo aukštum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orgia"/>
              </a:rPr>
              <a:t>Proxy gali tikrinti specifiškesnę informaciją nei paketiniai filtrai, pav, gali pasakyti ar </a:t>
            </a:r>
            <a:r>
              <a:rPr b="1" lang="lt-LT" sz="2800" spc="-1" strike="noStrike">
                <a:solidFill>
                  <a:srgbClr val="3333cc"/>
                </a:solidFill>
                <a:latin typeface="Times New Roman"/>
              </a:rPr>
              <a:t>email turi tekstą ar word’o dokumentą, ar web puslapis naudoja Java ar ne</a:t>
            </a:r>
            <a:r>
              <a:rPr b="0" lang="lt-LT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orgia"/>
              </a:rPr>
              <a:t>Sudaromos taisyklės žymiai specifiškesnės, kadangi jomis galima nusakyti, </a:t>
            </a:r>
            <a:r>
              <a:rPr b="1" lang="lt-LT" sz="2800" spc="-1" strike="noStrike">
                <a:solidFill>
                  <a:srgbClr val="3333cc"/>
                </a:solidFill>
                <a:latin typeface="Times New Roman"/>
              </a:rPr>
              <a:t>ką ugniasienė turi matyti</a:t>
            </a:r>
            <a:r>
              <a:rPr b="0" lang="lt-LT" sz="2800" spc="-1" strike="noStrike">
                <a:solidFill>
                  <a:srgbClr val="000000"/>
                </a:solidFill>
                <a:latin typeface="Georgia"/>
              </a:rPr>
              <a:t> pagal aplikacinio lygio protokol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6BEB-8B41-4A25-9F7A-DA4AF317B4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Log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Ugniasienių daromi “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log” įrašai gali padėti šiais atvejais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Leidžia užbėgti už akių atako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Leidžia patyrinėti, kodėl ataka buvo galima ir nustatyti reikalavimus ateičia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Aplikacijų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proxy ugniasienės gali duoti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detaliausią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informaciją apie srautą, gali pateikti detaliausius log įraš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Log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ai dažnai tarnauja paleidžiant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aliarmo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signalus, kad pav, kažkam pavyko DoS tipo ataką surengti jūsų 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 e-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omer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cijai skirtame servery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Log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ai pateikia reikšmingus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įrodymus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po sėkmingos ar nesėkmingos ugniasienės veiklos, jie gali būti panaudojami atsekant atakuotojus, juos apkaltinant, kai jie yra pagauti ir įtikinant juos, kad jūsų tinklas deda pastangas atakų išvengimu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493E-B7A2-411C-85D8-95FCD04566B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gniasienės nėra 100</a:t>
            </a:r>
            <a:r>
              <a:rPr b="0" lang="lv-LV" sz="4400" spc="-1" strike="noStrike">
                <a:solidFill>
                  <a:srgbClr val="000000"/>
                </a:solidFill>
                <a:latin typeface="Times New Roman"/>
              </a:rPr>
              <a:t>%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iemonė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Negalima tikėtis, kad ugniasienės </a:t>
            </a:r>
            <a:r>
              <a:rPr b="1" lang="lt-LT" sz="2000" spc="-1" strike="noStrike">
                <a:solidFill>
                  <a:srgbClr val="000000"/>
                </a:solidFill>
                <a:latin typeface="geneva"/>
              </a:rPr>
              <a:t>darys tai, kas neįmanoma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Jei jūsų tinkle yra paliktos “užpakalinės durys” (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back doors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), kaip kad pav., mašinos su galimybe jungtis prie Interneto per </a:t>
            </a:r>
            <a:r>
              <a:rPr b="1" lang="lt-LT" sz="2000" spc="-1" strike="noStrike">
                <a:solidFill>
                  <a:srgbClr val="000000"/>
                </a:solidFill>
                <a:latin typeface="geneva"/>
              </a:rPr>
              <a:t>modemą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, ar namų mašinos su </a:t>
            </a:r>
            <a:r>
              <a:rPr b="1" lang="lt-LT" sz="2000" spc="-1" strike="noStrike">
                <a:solidFill>
                  <a:srgbClr val="000000"/>
                </a:solidFill>
                <a:latin typeface="geneva"/>
              </a:rPr>
              <a:t>kabeliniu ryšiu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, tai jokia ugniasienė neapsaugos šių keli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Sėkmingas ugniasienės darbas yra surištas su tuo, kad ji bus </a:t>
            </a:r>
            <a:r>
              <a:rPr b="1" lang="lt-LT" sz="2000" spc="-1" strike="noStrike">
                <a:solidFill>
                  <a:srgbClr val="000000"/>
                </a:solidFill>
                <a:latin typeface="geneva"/>
              </a:rPr>
              <a:t>vieninteliame taške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, kuriame susisiekia patikimas ir nepatikimas tink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Ugniasienės negelbsti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nuo vidinių priešų. Ugniasienėmis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negalima pakeisti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prieinamumo prie serverių, failų sistemų, duomenų bazių kontrolės. Ugniasienės dažniausiai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nesaugo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prieš virusus, nors moderniose ugniasienėse ši savybė yra įded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Gerai sukonfigūruotos ir prižiūrimos ugniasienės neleis atakuotojams sujaukti jūsų tinkl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FE5F-39E8-4282-8436-AADE864020F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oble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xy aplikacijų lygio protokolas turi daug privalum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ų ugniasienių trūkumas yra </a:t>
            </a:r>
            <a:r>
              <a:rPr b="0" lang="lt-LT" sz="2800" spc="-1" strike="noStrike">
                <a:solidFill>
                  <a:srgbClr val="ff3399"/>
                </a:solidFill>
                <a:latin typeface="Times New Roman"/>
              </a:rPr>
              <a:t>greit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Kadangi srautas turi būti tiriamas aplikacijų lygyje, šio tipo ugniasienės yra lėtesnės nei paketiniai filtr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3399"/>
                </a:solidFill>
                <a:latin typeface="Times New Roman"/>
              </a:rPr>
              <a:t>Užtikrinant saugą pralošiamas greit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ą problemą bando spręsti adaptyvios proxy ugniasienė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95E6-F8E4-4302-9DEA-218B46BFA80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daptyvios pro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gniasienės su būvio fiksavimu yra paketinio filtravimo praplėti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daptyvių proxy (dinaminių proxy) architektūra remiasi standartinių proxy architektū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mbinuojami privalumai tiek proxy tiek paketinio filtravim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ap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o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roxy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gniasienės dirba analizuodamos susijungimo pradžią aplikacijų lygyje, kaip tai daro standartiniai prox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i ugniasienė turi pakankamai informacijos išsiaiškinimui srauto (pagal taisykles)sekantys paketai praleidžiami juos filtruojant tinkliniame lygyje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13C7-E771-4B10-8FAF-C02AE1041DD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daptyvios pro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Saugos požiūriu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pačios saugiausio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ugniasienės yra standartinės aplikacijų lygio ugniasienė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Tai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nėra praktiškiausia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pasirinkimas : greitis, palaikymo problemos, nauja aplikacija – naujas 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Adaptyvios proxy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jungia ir paketinio filtravimo ir proxy privalum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dapt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yvių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xy 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spektyva išmokyti ugniasienes “</a:t>
            </a:r>
            <a:r>
              <a:rPr b="1" lang="lt-LT" sz="2400" spc="-1" strike="noStrike">
                <a:solidFill>
                  <a:srgbClr val="000000"/>
                </a:solidFill>
                <a:latin typeface="Verdana"/>
              </a:rPr>
              <a:t>adaptuotis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” tiriant srautą pagal vartotojų nusakytas taisykles, nemažinant saugumo ir greičio.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69CF-FEEA-4E48-8519-7EFCF36CC96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daptyvūs pro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Pavyzdžiui, kai saugos reikalavimai aukšti, pradinis saugos tyrimas turi būti vykdomas aplikacijų lygyje, išnaudojant tai, kad tradiciniai aplikacijų proxy gali duoti max saug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Kai sesijos detalės tampa aiškios proxy, sekantys paketai yra praleidžiami greičiau praleidžiant juos per tinklinio lygio tikrinim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etwork Associates </a:t>
            </a: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tvirtina, kad tokie rūpestingi tikrinimai srauto pradinių paketų realizuojami naujoje ugniasienių technologijoje </a:t>
            </a:r>
            <a:r>
              <a:rPr b="1" lang="lt-LT" sz="2000" spc="-1" strike="noStrike">
                <a:solidFill>
                  <a:srgbClr val="000000"/>
                </a:solidFill>
                <a:latin typeface="Verdana"/>
              </a:rPr>
              <a:t>gali iki 10 kartų pagreitinti funkcionavimo greitį be žalos sauga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33AA-355B-4209-9C13-E54778BD434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Cisco PIX ugniasien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audoda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y serverį, vartotojas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gauna priėjimą prie tinkl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k praėjęs per procesą, kuri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kuria sesijos būv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uo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totoją ir atliek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izacij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čiau šis saugos laipsnis kainuoja funkcionavimo požiūriu.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xy-serveriai dirba 7 OSI modelio lygyje. Operavimas šiame lygyje yra imlus sąnaudų atžvilgiu, taigi proxy-serveria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ja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aug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ikl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tai kodėl net galingos šiuolaikinės UNIX mašinos, tokios kaip SPARC 10, kurios palaiko proxy-serverį, gali palaikyti tik ribotą sesijų kiekį vienu met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243F-D040-4C0F-B25D-09E878B693B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Cisco PIX ugniasien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co PIX ugniasienėse gaunamas žymus funkcionavimo pranašumas dėka naujos savybės, pavadintos “kirtimu kiaurai proxy”(cut –through proxy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vybė reiškia tai, kad pradžioje vartotojas tiriamas aplikacijų lygyje, taip kaip įprasta proxy serveriuose. Bet po to kai vartotojas autentifikuojamas ( o tam naudojama TACACS arba RADIUS sistemos) ir elgimosi politika yra patikrinama, PIX ugniasienė atlieka pakeitimą ir visas srautas teka tiesiai tarp dviejų partnerių kol išlaikomas sesijos būv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DAB5-910D-4662-9B97-13CD5C172E7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Cisco PIX ugniasien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uoja “būvio” informacija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ormacija apie būvį įrašoma į atitinkamą lentelę (stateful session flow table). Lentelėje įrašomi tokie duomeny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altinio ir paskirties adresai, portų NR, TCP eilės NR, TCP vėliavėlės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kur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ktą, susij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ę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 jungti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udojama hash funk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 išorės į privatų tinklą Cisco PIX ugniasienė leidžia kreiptis tik iš tam tikrų, specifinių serverių, ir tik į tam tikrus vidinius serveri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co PIX ugniasienės gali palaikyti iki 16 tūkst. TCP jungčių vienu me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813D-B46D-424F-8774-11F5D0A441D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šv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ip ir kitos technologijos ugniasienių technologij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ystosi ir keičias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irtumai tarp skirtingų filtravimo būdų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is labiau nykst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nes pardavėjai bando taikyti geriausias šių būdų savybes viename produk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sirenkant bei įdiegiant ugniasienes pasirinktą sprendimą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eikia pagrįsti organizacijos poreikia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saugos politika, technine analize, finansiniais resurs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andien galimi įvairūs ugniasienių sprendimai, realizuo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tiek programiškai, tiek aparatūrišk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Jie skiriasi galimybėmis. Išanalizavimui reikia laiko. Paaukotas laikas vėliau gali išsilieti į “sėkmę ar nesėkmę” saugant tinkl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6746-403E-4F06-8D75-AEE3B2A5FE4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etalizacijos lyg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Kadangi šie proxy operuoja aplikacijų lygyje, tai paketų analizė </a:t>
            </a:r>
            <a:r>
              <a:rPr b="0" i="1" lang="lt-LT" sz="2600" spc="-1" strike="noStrike">
                <a:solidFill>
                  <a:srgbClr val="000000"/>
                </a:solidFill>
                <a:latin typeface="geneva"/>
              </a:rPr>
              <a:t>gali būt pasiekiama tokio </a:t>
            </a:r>
            <a:r>
              <a:rPr b="1" i="1" lang="lt-LT" sz="2600" spc="-1" strike="noStrike">
                <a:solidFill>
                  <a:srgbClr val="000000"/>
                </a:solidFill>
                <a:latin typeface="geneva"/>
              </a:rPr>
              <a:t>gylio</a:t>
            </a:r>
            <a:r>
              <a:rPr b="0" i="1" lang="lt-LT" sz="2600" spc="-1" strike="noStrike">
                <a:solidFill>
                  <a:srgbClr val="000000"/>
                </a:solidFill>
                <a:latin typeface="geneva"/>
              </a:rPr>
              <a:t>, </a:t>
            </a:r>
            <a:r>
              <a:rPr b="1" i="1" lang="lt-LT" sz="2600" spc="-1" strike="noStrike">
                <a:solidFill>
                  <a:srgbClr val="000000"/>
                </a:solidFill>
                <a:latin typeface="geneva"/>
              </a:rPr>
              <a:t>kokio tik norim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Visa tai suvedama į </a:t>
            </a:r>
            <a:r>
              <a:rPr b="1" i="1" lang="lt-LT" sz="2600" spc="-1" strike="noStrike">
                <a:solidFill>
                  <a:srgbClr val="000000"/>
                </a:solidFill>
                <a:latin typeface="geneva"/>
              </a:rPr>
              <a:t>atitinkamas taisykles</a:t>
            </a: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Pav, gali būt sudaromi </a:t>
            </a:r>
            <a:r>
              <a:rPr b="1" i="1" lang="lt-LT" sz="2600" spc="-1" strike="noStrike">
                <a:solidFill>
                  <a:srgbClr val="000000"/>
                </a:solidFill>
                <a:latin typeface="geneva"/>
              </a:rPr>
              <a:t>sarašai blokuojamų </a:t>
            </a:r>
            <a:r>
              <a:rPr b="1" i="1" lang="en-GB" sz="2600" spc="-1" strike="noStrike">
                <a:solidFill>
                  <a:srgbClr val="000000"/>
                </a:solidFill>
                <a:latin typeface="geneva"/>
              </a:rPr>
              <a:t> URL</a:t>
            </a: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 iš tam tikros tinklo dalies, </a:t>
            </a:r>
            <a:r>
              <a:rPr b="1" i="1" lang="lt-LT" sz="2600" spc="-1" strike="noStrike">
                <a:solidFill>
                  <a:srgbClr val="000000"/>
                </a:solidFill>
                <a:latin typeface="geneva"/>
              </a:rPr>
              <a:t>FTP klientams apribojama PUT komanda bet leidžiama komanda GET</a:t>
            </a: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Papildoma aplikacijų lygio kontrolės priemonė yra galimybė vykdyti vartotojų </a:t>
            </a:r>
            <a:r>
              <a:rPr b="1" lang="lt-LT" sz="2600" spc="-1" strike="noStrike">
                <a:solidFill>
                  <a:srgbClr val="000000"/>
                </a:solidFill>
                <a:latin typeface="geneva"/>
              </a:rPr>
              <a:t>autentifikavimą</a:t>
            </a: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 prieš juos sujungiant su servisu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Papildomas privalumas yra ir </a:t>
            </a:r>
            <a:r>
              <a:rPr b="1" lang="lt-LT" sz="2600" spc="-1" strike="noStrike">
                <a:solidFill>
                  <a:srgbClr val="000000"/>
                </a:solidFill>
                <a:latin typeface="geneva"/>
              </a:rPr>
              <a:t>detalių log</a:t>
            </a: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 įrašų kaupim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0D00-5F87-43FA-A5F8-260C190275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671480" y="2149560"/>
            <a:ext cx="5802480" cy="2500200"/>
            <a:chOff x="1671480" y="2149560"/>
            <a:chExt cx="5802480" cy="2500200"/>
          </a:xfrm>
        </p:grpSpPr>
        <p:sp>
          <p:nvSpPr>
            <p:cNvPr id="259" name=""/>
            <p:cNvSpPr/>
            <p:nvPr/>
          </p:nvSpPr>
          <p:spPr>
            <a:xfrm>
              <a:off x="1671480" y="2149560"/>
              <a:ext cx="3554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71480" y="2149560"/>
              <a:ext cx="5802480" cy="25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15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1" name="file292911_uploadcomp09" descr="microsoft paplasina savu darbibu"/>
          <p:cNvPicPr/>
          <p:nvPr/>
        </p:nvPicPr>
        <p:blipFill>
          <a:blip r:embed="rId1"/>
          <a:stretch/>
        </p:blipFill>
        <p:spPr>
          <a:xfrm>
            <a:off x="1676520" y="1495440"/>
            <a:ext cx="5638680" cy="375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6DF2-3E84-42F2-A5EA-4CD501B3B30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Kadangi veiksmai vykdomi aplikacijų lygyje, </a:t>
            </a:r>
            <a:r>
              <a:rPr b="0" lang="lt-LT" sz="3200" spc="-1" strike="noStrike">
                <a:solidFill>
                  <a:srgbClr val="6600cc"/>
                </a:solidFill>
                <a:latin typeface="geneva"/>
              </a:rPr>
              <a:t>proxy servisas turi būt teikiamas kiekvienai aplikacija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Eilė tradicinių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 Internet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 apli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jų, įskaitant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 FTP, e-mail,  n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aujienas(n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ews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) yra sudėti į naršykles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, 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tai visos šios aplikacijos gali būti tvarkomos suk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onfig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ū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r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uojant naršyklę taip, kad ji “šnekėtųsi” su prox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C50E-9054-4F33-AC55-A896023D7F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teksto filtracija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RL blokavimas. Galima blokuoti (arba registruoti) priėjimą prie atitinkamų URL. Trūkumas - puslapių adresai Internete dažnai keičias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tegorijų blokavimas. Metodas leidžia užduoti blokuojamo turinio kategoriją – pavyzdžiui erotika arba neapyka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dėjimų blokavimas. Tai Java, ActiveX ir kiti objektai, kurie gali paleisti tam tikras programas lokaliame kompiutery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781A-65FA-446F-8FE0-64782A7CE5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cija ir perspėjimų išdav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y-serverių vykdoma saugos funkcija yra </a:t>
            </a:r>
            <a:r>
              <a:rPr b="0" lang="lt-LT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galimybė registruoti savo darbą</a:t>
            </a:r>
            <a:r>
              <a:rPr b="0" lang="lt-LT" sz="2800" spc="-1" strike="noStrike">
                <a:solidFill>
                  <a:srgbClr val="ff3399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y-serveriai yra skirti darbui su atitinkamom tarnybom ir protokolais, ir </a:t>
            </a:r>
            <a:r>
              <a:rPr b="0" lang="lt-LT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užrašo žymiai didesn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iekį informacijos, kadangi supranta tarnybos ar tai protokolo darb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rastai proxy-serverio </a:t>
            </a:r>
            <a:r>
              <a:rPr b="0" lang="lt-LT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dokumentacijoje yra nurodoma kokią registraciją galima įtrauk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administratorius gali paeksperimentuoti, kol ras tokį variantą, kuris bus jam informatyv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8296-88B3-4484-8823-0F55BB93DE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oble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Tačiau įvairios naujos vartotojiškos aplikacijos ir tinklinės aplikacijos turi būti konfigūruojamos kreipimuisi į proxy, jei tas proxy sugeba aptarnauti tą aplikaciją ir jei jis nėra “skaidraus” 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Nors gali teikti aukščiausio lygio saugą, užtikrinti norimo detalumo srauto analizę, tačia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Juos gali būti sunku konfigūruo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Jų greitaeigingumas gali būti problematišk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3DB7-03B8-4306-A75B-872442CE18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21:01:01Z</dcterms:created>
  <dc:creator>Kristina</dc:creator>
  <dc:description/>
  <dc:language>en-US</dc:language>
  <cp:lastModifiedBy>Kristina</cp:lastModifiedBy>
  <dcterms:modified xsi:type="dcterms:W3CDTF">2004-11-10T09:06:57Z</dcterms:modified>
  <cp:revision>27</cp:revision>
  <dc:subject/>
  <dc:title>9 paskaita</dc:title>
</cp:coreProperties>
</file>