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AF96-1ED7-4BD1-8E71-916C56A6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F4C4-4D62-4C55-9510-C80CE9E2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7507-8394-478D-993F-BB42A006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5C7D-6B59-42EB-A10A-E38407FA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B6DF-91E6-417B-B5E8-52527A8E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B554-FC89-4863-8887-EE87E149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65AE-2F23-419A-9F6C-B0A33F33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765F-E0A0-459B-832C-AF99F454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399B-5BFB-4285-AD6B-FF73AC1B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6CA1-8201-4427-A736-39F95CC4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39A6-EA54-4938-9697-B7C9C8EB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9F70-190B-499F-BD44-8B0EECA6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AF58-21F9-4FFA-98CE-A30801783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arby.daemonnews.org/episode.php3" TargetMode="External"/><Relationship Id="rId2" Type="http://schemas.openxmlformats.org/officeDocument/2006/relationships/hyperlink" Target="http://darby.daemonnews.org/episode.ph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4097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laptažodž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3760" y="5028840"/>
            <a:ext cx="2438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2 skyr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720" y="762120"/>
            <a:ext cx="4875840" cy="1904400"/>
            <a:chOff x="990720" y="762120"/>
            <a:chExt cx="4875840" cy="1904400"/>
          </a:xfrm>
        </p:grpSpPr>
        <p:sp>
          <p:nvSpPr>
            <p:cNvPr id="44" name=""/>
            <p:cNvSpPr/>
            <p:nvPr/>
          </p:nvSpPr>
          <p:spPr>
            <a:xfrm>
              <a:off x="990720" y="762120"/>
              <a:ext cx="4875840" cy="190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990720" y="762120"/>
              <a:ext cx="4875120" cy="1904040"/>
              <a:chOff x="990720" y="762120"/>
              <a:chExt cx="4875120" cy="190404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990720" y="762120"/>
                <a:ext cx="4874400" cy="1903680"/>
                <a:chOff x="990720" y="762120"/>
                <a:chExt cx="4874400" cy="190368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990720" y="762120"/>
                  <a:ext cx="4874400" cy="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990720" y="762120"/>
                  <a:ext cx="4874400" cy="19036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u="sng">
                      <a:solidFill>
                        <a:srgbClr val="ccccff"/>
                      </a:solidFill>
                      <a:uFillTx/>
                      <a:latin typeface="Verdana"/>
                      <a:hlinkClick r:id="rId1"/>
                    </a:rPr>
                    <a:t>  </a:t>
                  </a:r>
                  <a:r>
                    <a:rPr b="1" lang="en-US" sz="7300" spc="-1" strike="noStrike">
                      <a:solidFill>
                        <a:srgbClr val="ffffff"/>
                      </a:solidFill>
                      <a:latin typeface="Verdana"/>
                    </a:rPr>
                    <a:t> </a:t>
                  </a:r>
                  <a:r>
                    <a:rPr b="1" lang="en-US" sz="800" spc="-1" strike="noStrike">
                      <a:solidFill>
                        <a:srgbClr val="ffffff"/>
                      </a:solidFill>
                      <a:latin typeface="Verdana"/>
                    </a:rPr>
                    <a:t>                                       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" name=""/>
              <p:cNvSpPr/>
              <p:nvPr/>
            </p:nvSpPr>
            <p:spPr>
              <a:xfrm>
                <a:off x="990720" y="762120"/>
                <a:ext cx="4875120" cy="190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0" name="sourcewars" descr="Go to this week's installmen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887400"/>
            <a:ext cx="4952880" cy="40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DC3C-E563-4818-A02C-56D0C74F31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rute-force lo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miamasi tais pačiais metodais kaip ir atspėjant slaptažodžius tik dirbama greičiau. Tikslas – greit rasti veikiantį prisijungimo vardą – slaptažodį kol ataka neužfiksuo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aip priešpriešą šioms atakoms galima naudoti prisijungimo užrakinimą(po kelių nesėkmingų prisijungimo bandymų) – galima sulaukti DoS tipo atak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9B11-DEAD-46B3-82EF-738A0DE58F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ak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ieš slaptažodži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,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 negali atspė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ug informacijos apie jus turintis žmogus,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dary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 sudaryti apie pusę milijono spėjinių per sekund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akos naudojant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odyn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i kitus triukus, kuriuos mums atrodo kad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k m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ame sugalvoj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vyzdžiui: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ja daugelį filtrų, taiko perstatymus mėgindama atspėti slaptažodį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0C2A-8E6A-4DBE-AA06-B1AFD123AA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Slaptažodžio nulaužimas (crac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ai efektyvesnė priemonė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ustatant slaptažodžius, nepadeda logino užrakinimas, nes vykdoma off-line principu. Programos dirba su tam tikrais dump failais, kurių išgavimas iš sistemos vykdomas naudojant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uferi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erpildym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atakas prieš sisteminio lygio serverio proce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Šito tipo ataka reikalauja, kad atakuotojas turėtų tam tikras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riėjim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teises sistemoje – tai gynyba ir susiveda į privilegijų bei teisių, kurias turi vartotojai valdy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ačiau tokie įrankiai, kaip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Lp0phtcrack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LC3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John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The Rippe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darė slaptažodžių nulaužimo procesą labai trivialiu, todėl vartotojai turėtų naudoti tokius sunkiai nulaužiamus slaptažodžius, kuriuose būtų simboliai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"@&amp;#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356E-2F8A-404F-8EC7-0EBB8AAB53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  <a:ea typeface="Arial"/>
              </a:rPr>
              <a:t>password sniffin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laptažodžių gaudytojas gali gaudyti slaptažodžius iš tinkl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ai daroma su 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indows password hashe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elnet sesi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HTTP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nformacija – kai ji keliauja nešifru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TP, e-mail POP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MAP prot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l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i taip pat nėra apsaugoti nuo šio tipo atak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psaugai siūloma naudoti SSH vietoj Telnet, saugų FTP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PO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laptažodžių gaudymas nereikalauja aukštų privileginių teisių, normalus lokalaus administratoriaus loginas laptope gali būt pakank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6C4E-633B-4BC7-AEE2-E8025EAC1F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niff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gra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eidži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žin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mbinacijas ir kitus duomenis iš daugelio(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text protoc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atviro kodo protokolų, tokių kaip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TP, Telnet, SMTP, HTTP, POP, poppass, NNTP, IMAP, SNMP, LDAP, Rlogin, RIP, OSPF, PPTP MS-CHAP, NFS, YP/NIS, SOCKS, X11, CVS, IRC, AIM, ICQ, Napster, PostgreSQL, Meeting Maker, Citrix ICA, Symantec pcAnywhere, NAI Sniffer, Microsoft SMB, Oracle SQL*Net, Sybase, and Microsoft SQ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ECA2-50A7-4EE9-B137-831C642A3E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apsisaugoti nuo tokio tipo atakų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niff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ikalauja, kad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inė sąsa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rbtų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iscuo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modoj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keriui reikalingo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ot’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isės slaptažodžių gaudymu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sisaugant reikės taip apsaugoti sistemą, kad hakeri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lė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imti root’o teisių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šrutizatori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urie sumažina riziką, kadangi hakeris galės vogti –sniffinti tik vieną hostą iš kiekvieno sukompromituoto hosto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057F-E2E7-4036-A11C-B4F59DBE65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slaugi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inė įrang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ui siūl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simin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o slaptažodį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e gali būti pavogiami iš sistemo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zik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ui yra tokio laipsnio, kokio laipsnio prieinamumu ta sistema pasižymi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augoti slaptažodžiai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 būt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odomi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viru tekst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jant specialius šiam tikslui skirtus įrankius ( jų paskirtis gali būti -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dė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totojui, kuri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bega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siminti slaptažodžio po to kai nebenaudojo jo kelis mėnesiu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33DE-395E-4A45-AC34-41A53ACE3A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laptažodžių įsimin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Jei juos užsirašote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 ir kai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os užsirašot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siraš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t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 patį slaptažodį, o tik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zę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 padeda atsiminti slaptažodį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fl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iki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vo schemą slaptažodžiams įsimint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9A93-82E0-4422-B8F2-58C71E9145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ntrpriemonė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anizacijoje reikia sukurti priimtiną slaptažodžių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ką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test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laptažodžius su slaptažodžių nulaužimo progra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kia įdiegti įrankius, kurie tikrina slaptažodžius, kai jie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uri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– Npassw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i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er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s kažkiek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ko keisti slaptažod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ma kaupti sen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laptažodž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13C3-8DA7-4E43-A8F4-F28FA23845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sistemų naudoja </a:t>
            </a:r>
            <a:r>
              <a:rPr b="1" lang="lt-LT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hadow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laptažodžius, tai hakeriams teikia šiokių tokių sunkumų prieinant prie jų, nes slaptažodžiai yra šifruoti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audojama NIS+.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čiau jei yr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a nesaugi N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b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gai sukonfigūruota NIS+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a, tai pažeidžiamumas išliek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4BDA-919E-4381-BE5E-05F3CBB4E9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cija ir identif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etodai, kurie leidžia įsitikinti, kad vartotojas iš tikrųjų yra tuo, kuo prisistato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kav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sutapatinimas, tapatybės nustaty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aci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p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virtint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atikrinimu pagrįsta identifik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, kad vartotojas galėtų pasiekti resursą, turi būti nustatyta,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 tai tikrai tas individ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uo jis prisistato, ar jis turi reikiamas liudijimus, ar jam buv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teiktos būtinos teisės/privileg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ti tuos veiksmus, kurių jis užsipraš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E801-B105-4483-8546-7F7FB8C838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AM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1995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Pluggable Authentication Modules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 autentifikacinis  metodas, kuris duoda administratoriui galimybę valdyti vartotojų prisijungimus ir tai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p jie save autentifikuo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istemos administratorius gali įjungti naujus autentifikavimo metodus instaliuodamas naujus PAM modulius ir keisti autentifikavimo politikas redaguodamas konfiguracinius fail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m sistema vartotoj</a:t>
            </a:r>
            <a:r>
              <a:rPr b="0" lang="lt-LT" sz="1600" spc="-1" strike="noStrike">
                <a:solidFill>
                  <a:srgbClr val="000000"/>
                </a:solidFill>
                <a:latin typeface="Verdana"/>
              </a:rPr>
              <a:t>ų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entifikavimui</a:t>
            </a:r>
            <a:r>
              <a:rPr b="0" lang="lt-LT" sz="1600" spc="-1" strike="noStrike">
                <a:solidFill>
                  <a:srgbClr val="000000"/>
                </a:solidFill>
                <a:latin typeface="Verdana"/>
              </a:rPr>
              <a:t> leidžia naudoti 7 skirtingus būdu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/key, OPIE, opie_access, a cleartext password, Kerberos IV, Kerberos 5, and the traditional Unix password authentication system.</a:t>
            </a:r>
            <a:r>
              <a:rPr b="0" lang="lt-LT" sz="1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freebsd.org/doc/en_US.ISO8859-1/articles/pam/index.htm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onlamp.com/pub/a/bsd/2003/02/20/FreeBSD_Basic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9E0B-52C4-423A-BB05-46E2C45FC9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i-faktorė autentifikacija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6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 kuriose sistemose naudojama kelių autentifikavimo priemonių kombinacij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ktroninė bankininkystė bei 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rsl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Token ar smart kortelė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600" indent="-18648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ent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zišk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do savo token/smart kortelę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600" indent="-18648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 jis vienas žino savo kortelė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d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uoja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iem metod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uo ką jūs turite ir tuo ką jūs žino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F72E-510E-4B86-9D51-879132E23A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entrinis serveris autentifikuoja vartotoją </a:t>
            </a:r>
            <a:br>
              <a:rPr sz="2800"/>
            </a:b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serveris bei “smart” kortelė–žino slaptą raktą, serveris generu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sitiktin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kaičių, jį šifruoja slapto rakto pagalba, “smart” kortelė žinodama slaptą raktą dešifruoja šį skaičių ir siunč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ga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tsitiktinį skaičių, jei jis sutampa su sugeneruotu – vartotojas autentifikuoj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tais naudoj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ipus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tentifikacija, kai iš vartotojo pusės taip pat generuojamas atsitiktinis skaičius, jis koduojamas ir siunčiamas serveriui kartu su dešifruotu skaičiumi, o serveris irgi turi gražinti dešifruotą skaičių – </a:t>
            </a:r>
            <a:r>
              <a:rPr b="1" lang="lt-LT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aip autentifikuojamas server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9BEF-50CB-42D3-8009-39B2A516CA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kartiniai slaptažodžia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 generuojami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tel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b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in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angos, arba vartotojui pateiki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ąraš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nkartinių slaptažodžių, kuriuos jis turi iš eilės naud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kartiniai slaptažodži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strategija naudoti slaptažodį tik vieną kartą, tai jei jį sužinos, j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b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oks slaptažodžių panaudojimas yra tikslingas Interneto konteks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F45D-AC62-40A4-AF58-0E1BABC86E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ici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ptažodž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daro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nkartinia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 slaptažodį įjungiama užšifruota laiko žymė (encrypted timestamp) – taip elgiamasi KERBEROS metode. Kadangi negalima pakeisti laiko žymės nežinant slaptažodžio, sunku juo pasinaudoti.  Šiam metodui deja reikalingi du dalyk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peciali klientinė programa, sugebanti į slaptažodį įjungta laiko žym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alinga gera sinchronizacija tarp kliento ir serverio, priešingu atveju ateinantis slaptažodis bus arba jau negalimas arba dar negali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B159-5F0B-4BF1-8477-0E02473396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as būdas padaryt tradicinius slaptažodžius vienkartiniais naudojant sistemą klausimas-atsakymas(challenge-response system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ai autentifikuotam vartotojui būna iš anksto žinom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kai iš anksto duoda slaptažodžių sarašą, o jūs po prisijungimo paprašo įvesti n-tąjį skaiči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6EE9-2F14-4262-AAF5-B8D280589B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hronizacij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kartiniai slaptažodžiai dažn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atsitiktin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aičių seka, jie dažnai yra įdiegiam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nė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angoje. Naudojant vienkartinius slaptažodžius, kuriuos pateikia techninė įranga, gali kilti problemų su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hroniz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hronizuotos laik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telės generuoja naują slaptažodį kiekvienu specifiniu laiko momentu, tą patį daro ir serveris. Reikalinga gera sinchronizacija su serverio laik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FAF3-1515-451B-94AB-F229415BEAE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metriniai įrankiai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as turi būti identifikuojamas ne pagal 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ką jis/ji žino”, bet pagal tai “ kas būdinga jam/j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ą įgalina padaryti biometrinė (biometrics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ij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mybė automatiškai atpažinti asmenį naudojant pirštų antspaudus, pagal veidą, akis, balsą, rankos geometriją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inį parašą ar spausdinimo manierą.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371D-7C7A-48D1-9607-6FEA1080B76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la, bet biometrinės sistemos vis dar netinka panaudojimui Interne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 daugiau šansų teikia technologija, pagrįsta “balso antspaudu” – kompiuteriai turi mikrofonu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alai tarp klavišų paspaudimų gerai charakterizuoja individualią spausdinimo manierą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1FFB-F75D-4273-B876-E1109645735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S slaptažodžiai turi būti naudojami kiekvienam organizacijos kompiuteriui tikslu apsaugoti priėjimą prie BIOS konfigūracinių utilitų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rting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S slaptažodž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iekvienam kompiuteriu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uliariai juos keis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iuterių BIOS slaptažodžius reikia laikyti saugiame saraš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ems kompiuteriams turi būti nustatyta, kad jie pasikrautų tik iš kieto disk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ia patikrinti ar kartais negalima įeiti su backdoor slaptažodži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iuterinės dėžes reikia užrakinti, užrakinti kambarius, kai nieko nėr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F2B8-C25A-4F0F-86B3-12202DD6987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vimas remia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2819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o, kas būdinga individui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o, ką individas žino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o, ką individas turi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2FD8-D1CF-42C3-99D8-F051E228C7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or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sprendžia kokius kokio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rs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ributus gali naudoti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uot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totoj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os esybė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avyzdžiui vartotojai, aplikacijos, sistemos) kurios prieina prie informacijos šaltinio turi turėti atitinkamas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as į šį resursą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a reiškia leidimu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35A-6E54-43CF-AAFE-815378D3720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or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a suteikia galimybę kontroliuoti vartotojų veiksm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a turi būti paremta mažiausių privilegijų princip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igų atskyrim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ks žmogus negali atlikti vienas viso proces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didėję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skaitomum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ministratoriaus logi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4923-49E2-4024-A4B7-7CA2638109F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or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inam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galimybė matyti resursą ir rinkti informaciją iš / apie šį resurs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ji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yra galimybė naudoti resur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kaci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ai galimybė keisti tą resur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ūri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ai galimybė kurti naują resur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meti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ai galimybė išmesti resur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y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ai galimybė pakeisti resurso autorizacij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5EF1-36FA-4731-8594-437F74929EE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laptažodž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guma kompiuterinių sistemų yra sukonfigūruotos taip, kad jos naud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ptažodžius kaip pir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intelę gynyb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psaugos lin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otojo autentifikacijos( procesas individo identiškumui patikrinti) schemoje yra naudojami vien tik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o prisijungimo vardas ir slaptažodi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oma prielaida, kad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itinkamas vartotojas žino slaptažodį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acija, paremta </a:t>
            </a:r>
            <a:r>
              <a:rPr b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uo, ką jūs žinot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33FB-38C2-48E9-8462-F19FDDC317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os problem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laptažodžių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buv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leidžia laisvai prieiti prie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onfidencial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duomen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 dažnai pasirenk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engv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įsimenamą slaptažodį, - vardą, gim metus Gaila, tačiau tokie slaptažodžiai labai papras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lauži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atspėjami) panaudojant specialias progr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vartotojas pasirenk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dėtin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laptažodį, jis dažnai jį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užsiraš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rba sukuria komandinį failą, kad nereikėtų jo įvedinė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liekami sistemo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įdieg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metu naudoti arba demonstracinėms versijoms taikytini slaptažodži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3214-D033-49C9-B84B-48E5B27EAC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ptažodžiai  yra pažeidžiam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jie dažnai yra perduodami tinklu </a:t>
            </a:r>
            <a:r>
              <a:rPr b="1" lang="lt-LT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atvir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kst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(TELNET)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esant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kankama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ursų kiekiui (žinių, įrankių, kompiuterinių pajėgumų) jie gali būti atspėti ir nulauž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grobti slaptažodžius keliaujančius tinklu pasinaud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a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om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gramom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0187-1F5C-429C-B2BD-134F11B058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ažniausiai sutinkamos atakos, nukreiptos prieš slaptažodžius, ta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laptažodžio atspėjima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rute for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ra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niff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CC4E-C80E-4430-B463-D95B2FAAB6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kompromit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laptažodžiai vienas iš dažnai pasitaikančių sistemos pažeidžiamum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 yra nerūpestingi su savo PIN, slaptažodžių politika yra sunkiai įdiegiama, atakuotojai turi daugybę įrankių, leidžiančių pažeisti slaptažodž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akuotojas, įgavęs slaptažodį įgyja ir vartotojo tei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rganizacija turi šviesti, mokyti savo darbuotojus laikytis saugos politikos, o taip pat imtis tam tikrų priemonių apsisaugant prieš slaptažodių atak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6F6A-5379-4466-8746-E1C938771C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</a:rPr>
              <a:t>Slaptažodžio at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laptažodžiai įvedami ranka arba naudojant programines priemones. Yra daug tokių programų, kurios yra įvairaus sudėtingumo, bandomi įvairūs variantai, remiamasi žodyn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ai gali būti atliekama prisijungus – on-line režime  arba dirbama su turimais duomenimis off-line – neprisijungus prie sist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A793-9D77-4681-AC6D-731FC8E843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8:06:56Z</dcterms:created>
  <dc:creator>Kristina</dc:creator>
  <dc:description/>
  <dc:language>en-US</dc:language>
  <cp:lastModifiedBy>Kristina</cp:lastModifiedBy>
  <dcterms:modified xsi:type="dcterms:W3CDTF">2004-09-15T08:15:08Z</dcterms:modified>
  <cp:revision>7</cp:revision>
  <dc:subject/>
  <dc:title>Slaptažodžiai</dc:title>
</cp:coreProperties>
</file>