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_rels/notesSlide6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0.xml.rels" ContentType="application/vnd.openxmlformats-package.relationships+xml"/>
  <Override PartName="/ppt/notesSlides/notesSlide6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81DC-414E-4A6B-B392-D74AD79AD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F8F4-A28F-4674-8201-CAE30AD2D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147D-5207-48B5-989D-039E533DC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64D3-1C64-472C-8EB7-1C1B060E2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C190-E040-4BF2-AA21-473586B95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16B9-386F-4ED6-A8A7-8CBD7FC7E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C4AA-BDF9-4217-85EB-55EE0A5DD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1FBE-EF41-4CC1-9032-7A6C81C0B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205B-89B2-47FA-86D1-24B42BB8C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CCBD-7620-4502-9AAC-6C350D152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EC02-65C0-4335-B55D-D624FF835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45A3-2230-4A0B-B36F-8CA47AC2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396F-B4E3-4A12-89AB-40AD1017E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F6B8-3642-4E8F-979D-4967B5F3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3E42-1C02-4A4A-B23C-51C3F943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7C6C-B84A-4C20-BCC5-69ED17B0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5831-9F38-425E-9F30-566DBB26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5F35-A3FA-439F-9678-2D15C9DC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3B3A-6784-485F-AA40-16D6F29A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506A-1261-4F9A-8E5A-C2A2A22F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6AD3-985F-4DDB-9361-61CB32F9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73BC-3E53-4AF0-9E43-5D0804D6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1E7E-209E-4FC5-B0FA-B062ED2C2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67280" y="434304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11 paska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ile1570572_loveyou_datori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4114800" cy="51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33C8-BFCF-4E99-962F-2AB260873D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rašo tikrin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ššifruojamas pasirašytas dokumentas, pagal reikalą panaudojant privatų rakt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ššifruojamas skaitmeninis parašas, naudojant viešą rakt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tikrinama kontrolinė su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tikrinama data ir laik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106B-BB0A-4DFF-B27B-8CB718EA46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D5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 raktu sena versij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unt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MD5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+ E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v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žino atsitiktinį raktą k naudodamasis siuntėjo viešu rak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itaik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D5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nkatenacijai pranešimo ir rak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lygina rezultatą su atsiųsta kontroline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ma “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-in-the middl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ataka – pranešimą galima perimti, sužinoti k, pakeisti pranešimą ir pasiųsti gavėjui, jis to neja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95D1-B591-46D8-B26A-E418878DAC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Monotype Corsiva"/>
              </a:rPr>
              <a:t>Gal bandyti taip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9810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unt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MD5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+ E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r-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publ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av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ššifruos atsitiktinį raktą naudodamas sa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ivatų rakt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itaiky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5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onkatenacijai pranešimo ir rak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lygins gautą rezultatą su atsiųsta kontroline suma su pranešim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alima “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-in-the middle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” ataka – perimamas pranešimas, pakeičiamas raktas, pranešimas ir siunčiama gavėj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C720-D027-4C09-9050-904AD8B43F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D5</a:t>
            </a:r>
            <a:r>
              <a:rPr b="0" lang="lt-LT" sz="4400" spc="-1" strike="noStrike">
                <a:solidFill>
                  <a:srgbClr val="000000"/>
                </a:solidFill>
                <a:latin typeface="Arial Black"/>
              </a:rPr>
              <a:t> su rakt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iunt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MD5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+ E(E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r-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public), s-priv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av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ustato k naudodamas siuntėjo viešą raktą ir gavėjo privat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aik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D5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onkatenacijai pranešimo bei rak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lygina rezultatą su atsiųsta kontroline sum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aka “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-in-the middle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” negali sužinoti k, nei jo pakeis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inka, kai yra tik vienas gavėj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3386-F2BC-43F1-A423-AF8E36A086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D5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 su raktais i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untė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E(MD5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i="1" lang="lt-LT" sz="1800" spc="-1" strike="noStrike">
                <a:solidFill>
                  <a:srgbClr val="000000"/>
                </a:solidFill>
                <a:latin typeface="Courier New"/>
              </a:rPr>
              <a:t>+k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i="1" lang="lt-LT" sz="1800" spc="-1" strike="noStrike">
                <a:solidFill>
                  <a:srgbClr val="000000"/>
                </a:solidFill>
                <a:latin typeface="Courier New"/>
              </a:rPr>
              <a:t>+k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, s-priv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vė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ži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D5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audodamas siuntėjo viešą rakt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aik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D5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ranešim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lygina rezultatą su gauta kontroline suma praneš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-in-the middl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takuotojas negali pakeisti pranešimo, nes kitas pranešimas duos kitą MD5(m) reikšmę, kurios nebus galima užšifruo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7754-72D0-484D-B98B-F49B72EB10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gū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t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sdien auga skaičius aplikacijų, naudojančių saugius protokolus. Tai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n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erc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n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alsav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istancinis moky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91DC-C65A-4D63-B118-2F12FCC129F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2280" y="533160"/>
            <a:ext cx="7245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4000" spc="-1" strike="noStrike">
                <a:solidFill>
                  <a:srgbClr val="cc0000"/>
                </a:solidFill>
                <a:latin typeface="Arial"/>
              </a:rPr>
              <a:t>Web </a:t>
            </a:r>
            <a:r>
              <a:rPr b="1" lang="lt-LT" sz="4000" spc="-1" strike="noStrike">
                <a:solidFill>
                  <a:srgbClr val="cc0000"/>
                </a:solidFill>
                <a:latin typeface="Arial"/>
              </a:rPr>
              <a:t>reikalavimai saug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2120" y="144792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Didėjantis komercinis bei profesinis panaudojimas kelia griežtesnius saugos reikalavimus web paslauga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000" spc="-1" strike="noStrike">
                <a:solidFill>
                  <a:srgbClr val="808080"/>
                </a:solidFill>
                <a:latin typeface="Arial"/>
              </a:rPr>
              <a:t>Iškyla poreikis apriboti priėjimą prie web puslapi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000" spc="-1" strike="noStrike">
                <a:solidFill>
                  <a:srgbClr val="808080"/>
                </a:solidFill>
                <a:latin typeface="Arial"/>
              </a:rPr>
              <a:t>Reikalavimas </a:t>
            </a:r>
            <a:r>
              <a:rPr b="1" lang="de-DE" sz="2000" spc="-1" strike="noStrike">
                <a:solidFill>
                  <a:srgbClr val="808080"/>
                </a:solidFill>
                <a:latin typeface="Arial"/>
              </a:rPr>
              <a:t>autenti</a:t>
            </a:r>
            <a:r>
              <a:rPr b="1" lang="lt-LT" sz="2000" spc="-1" strike="noStrike">
                <a:solidFill>
                  <a:srgbClr val="808080"/>
                </a:solidFill>
                <a:latin typeface="Arial"/>
              </a:rPr>
              <a:t>fikuoti serverį iš kliento pusės bei klientą iš serverio pusė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000" spc="-1" strike="noStrike">
                <a:solidFill>
                  <a:srgbClr val="808080"/>
                </a:solidFill>
                <a:latin typeface="Arial"/>
              </a:rPr>
              <a:t>Iškyla poreikis galėjimo patvirtinti šaltinį, vientisumą web puslapių, jų nepaneigiamumo (</a:t>
            </a:r>
            <a:r>
              <a:rPr b="1" lang="de-DE" sz="2000" spc="-1" strike="noStrike">
                <a:solidFill>
                  <a:srgbClr val="808080"/>
                </a:solidFill>
                <a:latin typeface="Arial"/>
              </a:rPr>
              <a:t>non-repudiation</a:t>
            </a:r>
            <a:r>
              <a:rPr b="1" lang="lt-LT" sz="2000" spc="-1" strike="noStrike">
                <a:solidFill>
                  <a:srgbClr val="808080"/>
                </a:solidFill>
                <a:latin typeface="Arial"/>
              </a:rPr>
              <a:t>) tiksl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000" spc="-1" strike="noStrike">
                <a:solidFill>
                  <a:srgbClr val="808080"/>
                </a:solidFill>
                <a:latin typeface="Arial"/>
              </a:rPr>
              <a:t>Iškyla poreikis turėti konfidencialius web persiuntim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Visa tai sukelia daug  saugos problemų, kurios sprendžiamos skirtingame lygy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A892-337A-4EFC-983F-7A75F9E8A9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T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TTP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ykdoma naudoj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S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audojama saugiem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ersiuntim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S serve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s paprastai sukas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443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or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traukia serverio patikrinimą pagal sertifikat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naudoja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a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zuotą patikimą 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tif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 šaltin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B5B7-1944-448A-8C00-620F253EED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gū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t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au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pl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cini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t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 įtraukia šifravimą kaip aplikacinio lygio protokolo sudedamąją dalį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traukta šifravim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 yr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o dalim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iradus stipresniems šifravimo įrankiams reikia keisti protokol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A7DA-AC55-47A3-A84E-491678AA3A3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2120" y="456840"/>
            <a:ext cx="73850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4000" spc="-1" strike="noStrike">
                <a:solidFill>
                  <a:srgbClr val="cf0e30"/>
                </a:solidFill>
                <a:latin typeface="Arial"/>
              </a:rPr>
              <a:t>S</a:t>
            </a:r>
            <a:r>
              <a:rPr b="1" lang="lt-LT" sz="4000" spc="-1" strike="noStrike">
                <a:solidFill>
                  <a:srgbClr val="cf0e30"/>
                </a:solidFill>
                <a:latin typeface="Arial"/>
              </a:rPr>
              <a:t>augūs transporto kanala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1960" y="1980720"/>
            <a:ext cx="7034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Jie realizuojami naudojant 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ecure Socket Layer (SSL)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, pasiūlytą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 Netscape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Užtikrina 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autenti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fikaciją tarp k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lient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o ir 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erver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io naudojant tiek 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metri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nį tiek 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as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metri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nį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viešo rakto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šifravimą ir skaitmeninius paraš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Užtikrina konfidencialum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Yra nepriklausomi nuo jokio 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apli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in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io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 proto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ol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B10C-40BA-4149-988B-CD8A8B34EB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entifik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tentifikavimui keliamas uždavinys – įsitikinti, kad esybė tikrai yra tuo, kuo prisista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tentifikuojami gali būti tiek klientai, tiek serveria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tentifikavimo procesas yra nusakomas autentifikavimo protokol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9D7D-DFFD-46BA-AA2B-76493DD110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84240" y="624852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35320" y="6248520"/>
            <a:ext cx="267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1760" y="457200"/>
            <a:ext cx="3089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4300" spc="-1" strike="noStrike">
                <a:solidFill>
                  <a:srgbClr val="bc3700"/>
                </a:solidFill>
                <a:latin typeface="Arial"/>
              </a:rPr>
              <a:t>SS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990720"/>
            <a:ext cx="8001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84200" indent="-48420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SL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otokolas naudojas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ankų paspaudim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procedūra, kurios metu tiek klientas, tiek serveris tarpusavyje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tentifikuojas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r pasiekia susitarimo dėl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akt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lientui susijungus su serveriu, serveris pasiunčia sav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ieš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raktą, be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ertifikat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klientui. Klientas patikrina sertifikatą naudodamasis patikimų sertifikatų saraš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o to klient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generuoj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imetrinį raktą, kurį siunčia serveriui, užšifruotą serverio viešu raktu. Šis raktas panaudojamas kaip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ster rakt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ekančių duomenų konfidencialumui užtikri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ebūtinai, tačiau ir klientas gali būti serveri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tentifikuoja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tam ir klientas turi turėti raktų porą ir sertifikat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D764-5CB8-470E-BE9F-3B26EFA203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6500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4700" spc="-1" strike="noStrike">
                <a:solidFill>
                  <a:srgbClr val="bc3700"/>
                </a:solidFill>
                <a:latin typeface="Arial"/>
              </a:rPr>
              <a:t>SS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SL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eduoda jokios autentifikacijos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web d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en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m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yra tiesiog saugus transpoto kana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e Sockets Layer (SSL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–tai naujai įvedamas  lygis, kuris užtikrina saugų kanalą per TCP ryš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L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 transporto lygio saugos standartas, pagrįstas SSL.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ansport Layer Security IETF standard based on SS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8235-EA49-4935-84E3-A0DE56AAEC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S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334120" y="1676520"/>
            <a:ext cx="2971800" cy="2743200"/>
            <a:chOff x="5334120" y="1676520"/>
            <a:chExt cx="2971800" cy="2743200"/>
          </a:xfrm>
        </p:grpSpPr>
        <p:sp>
          <p:nvSpPr>
            <p:cNvPr id="162" name=""/>
            <p:cNvSpPr/>
            <p:nvPr/>
          </p:nvSpPr>
          <p:spPr>
            <a:xfrm>
              <a:off x="5334120" y="1676520"/>
              <a:ext cx="2971800" cy="6858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34120" y="2362320"/>
              <a:ext cx="2971800" cy="685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S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34120" y="3048120"/>
              <a:ext cx="2971800" cy="685800"/>
            </a:xfrm>
            <a:prstGeom prst="rect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TC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4120" y="3733920"/>
              <a:ext cx="2971800" cy="685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838080" y="1676520"/>
            <a:ext cx="2971800" cy="2743200"/>
            <a:chOff x="838080" y="1676520"/>
            <a:chExt cx="2971800" cy="2743200"/>
          </a:xfrm>
        </p:grpSpPr>
        <p:sp>
          <p:nvSpPr>
            <p:cNvPr id="167" name=""/>
            <p:cNvSpPr/>
            <p:nvPr/>
          </p:nvSpPr>
          <p:spPr>
            <a:xfrm>
              <a:off x="838080" y="1676520"/>
              <a:ext cx="2971800" cy="6858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080" y="2362320"/>
              <a:ext cx="2971800" cy="685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S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3048120"/>
              <a:ext cx="2971800" cy="685800"/>
            </a:xfrm>
            <a:prstGeom prst="rect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TC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38080" y="3733920"/>
              <a:ext cx="2971800" cy="685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809880" y="2057400"/>
            <a:ext cx="1524240" cy="0"/>
          </a:xfrm>
          <a:prstGeom prst="line">
            <a:avLst/>
          </a:prstGeom>
          <a:ln w="57240">
            <a:solidFill>
              <a:srgbClr val="00cc99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9880" y="2666880"/>
            <a:ext cx="1524240" cy="0"/>
          </a:xfrm>
          <a:prstGeom prst="line">
            <a:avLst/>
          </a:prstGeom>
          <a:ln w="57240">
            <a:solidFill>
              <a:srgbClr val="00ff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9880" y="3352680"/>
            <a:ext cx="1524240" cy="0"/>
          </a:xfrm>
          <a:prstGeom prst="line">
            <a:avLst/>
          </a:prstGeom>
          <a:ln w="57240">
            <a:solidFill>
              <a:srgbClr val="cc66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4038480"/>
            <a:ext cx="1524240" cy="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68360" y="4429080"/>
            <a:ext cx="4511880" cy="1057320"/>
          </a:xfrm>
          <a:custGeom>
            <a:avLst/>
            <a:gdLst/>
            <a:ahLst/>
            <a:rect l="l" t="t" r="r" b="b"/>
            <a:pathLst>
              <a:path w="2842" h="666">
                <a:moveTo>
                  <a:pt x="7" y="23"/>
                </a:moveTo>
                <a:lnTo>
                  <a:pt x="0" y="666"/>
                </a:lnTo>
                <a:lnTo>
                  <a:pt x="2842" y="666"/>
                </a:lnTo>
                <a:lnTo>
                  <a:pt x="2842" y="0"/>
                </a:lnTo>
              </a:path>
            </a:pathLst>
          </a:custGeom>
          <a:noFill/>
          <a:ln w="57240">
            <a:solidFill>
              <a:srgbClr val="000000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F6B2-8C4B-4E07-95A2-3A5485023E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SL/TL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 privalu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ra nepriklausomas nuo aplikacijų lyg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Įtraukia derybas, kurių metu yra susitariama dėl bendrų  šifravimo metodų, kurie bus naudojami perdavimu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eidžia lengvai įjungti naujus metod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FA1E-A949-4A17-99F7-518A9DA38B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Sockets Layer (SSL) protoco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liai sukurtas Netscapui , SSL buvo visuotinai priimtas  World Wide Web autentifikacijai ir šifravimui komunikacijų, vykstančių tarp klientų ir serve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905120" y="3733920"/>
            <a:ext cx="4952880" cy="24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7633-F78C-4A82-AFF7-14482380BD0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SL funkcij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serverio autentifikacij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idžia vartotojui patvirtinti serverio identiškumą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kliento autentifikacija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idžia serveriui įsitikinti vartotojo identiškum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uotas SSL ryšys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a informa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unčiama tarp kliento ir serveri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šifruojama siunčiančios programinės įrangos ir dešifruojama priimančios programinės įrangos, tuo užtikrinant aukštą konfidencialumo lyg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43BC-200B-469B-92E0-C33AD15B9A1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S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protokolą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dar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 sub-protokola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įrašo (record) protokol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rankų-paspaudimo protokol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rankų-paspaudimo protokolas įtraukia SSL įrašo (record) protokolą pasikeitimui eile pranešimų tarp SSL-palaikančio serverio ir SSL palaikančio kliento, kai jie pirmą kartą įkuria SSL ryš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įrašo (record) protokolas nusako formatą, kuris naudojamas duomenų perdavimui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F284-8056-413E-A5F7-2476498AE0E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rankų paspaudim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sesijos visad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asideda apsikeitimu pranešim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skirtas sekančių veiksmų palengvinimui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lientu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idžia klientui ir serveriu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rinkti šifravi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goritmus ar šifrus, kuriuos abu palaiky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rivalomai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ent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rveriui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audoti viešų raktų šifravimo techniką generavimui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ai naudojamų paslapč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hared secre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kurti šifruotą SSL ryš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9F5C-0BEB-44DC-A132-58FFDAE62A5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rankų paspaud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protokolas naudoja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šrų šifravi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naudojama ir viešo-rakto ir simetrinis šifravimas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entai ir serveriai gali palaikyt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rtingus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ų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inkin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rankų paspaudimo protokolas apsprendžia, kaip serveris ir klientas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as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uos šifravimo rinkinius jie naudos vienas kit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acij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tifika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davimui, b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ijos rak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steigimu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367F-2D4C-48B2-8EFC-F4025C4E958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Naudojami šifravimo algorit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imetrinis šifravimo algoritmas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A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kaitmeninio paraš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goritmas, dalis skaitmeninio autentifikavim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dar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A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ktų pasikeitimo algorit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5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ssage Digest algoritm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2 and RC4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ravimo šifra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audoja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SA Data Secur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A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ešo rak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goritmas skirtas šifravimui ir autentifikacija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A key exchange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sikeitimo rakt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gorit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s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-1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h Algorit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PJACK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metrinis algoritma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25FB-C418-4F15-B41C-50820C2708B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rijų-pusių rankų paspaud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entifikavimo protokol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13560" y="1260360"/>
            <a:ext cx="23781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CHK, SHK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yra raktai, kurie žinomi abiem pusė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89880" y="2860560"/>
            <a:ext cx="245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avus šį pranešimą kliento identiškumas nėra ži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257800" y="3276720"/>
            <a:ext cx="1447920" cy="38088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3241800"/>
            <a:ext cx="205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Šiame taške klientas žino serverio identiškumą, nes jis iššifravo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4191120"/>
            <a:ext cx="914400" cy="7596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89880" y="4765680"/>
            <a:ext cx="2454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Šiame taške serveris žino kliento identiškumą, nes jis iššifravo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5714640" y="4876560"/>
            <a:ext cx="1143000" cy="2286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03680" y="5908680"/>
            <a:ext cx="344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sikeičiama naujais sesijos rakt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038480" y="5257440"/>
            <a:ext cx="533520" cy="76212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79640" y="2971800"/>
            <a:ext cx="649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Myriad Roman"/>
              </a:rPr>
              <a:t>Cli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79840" y="2971800"/>
            <a:ext cx="724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Myriad Roman"/>
              </a:rPr>
              <a:t>Serv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3200400"/>
            <a:ext cx="1800" cy="2664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54520" y="3220920"/>
            <a:ext cx="1800" cy="2662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62240" y="3365640"/>
            <a:ext cx="2370240" cy="536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271680" y="3936960"/>
            <a:ext cx="2376720" cy="444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20886600">
            <a:off x="3503880" y="5029200"/>
            <a:ext cx="94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(SK, SH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62240" y="4411800"/>
            <a:ext cx="2376720" cy="522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13400" y="4902120"/>
            <a:ext cx="141120" cy="57240"/>
          </a:xfrm>
          <a:custGeom>
            <a:avLst/>
            <a:gdLst/>
            <a:ahLst/>
            <a:rect l="l" t="t" r="r" b="b"/>
            <a:pathLst>
              <a:path w="108" h="52">
                <a:moveTo>
                  <a:pt x="0" y="52"/>
                </a:moveTo>
                <a:lnTo>
                  <a:pt x="108" y="52"/>
                </a:lnTo>
                <a:lnTo>
                  <a:pt x="14" y="0"/>
                </a:lnTo>
                <a:lnTo>
                  <a:pt x="0" y="5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271680" y="4964040"/>
            <a:ext cx="2370240" cy="449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56120" y="5383080"/>
            <a:ext cx="141120" cy="61920"/>
          </a:xfrm>
          <a:custGeom>
            <a:avLst/>
            <a:gdLst/>
            <a:ahLst/>
            <a:rect l="l" t="t" r="r" b="b"/>
            <a:pathLst>
              <a:path w="108" h="56">
                <a:moveTo>
                  <a:pt x="94" y="0"/>
                </a:moveTo>
                <a:lnTo>
                  <a:pt x="0" y="51"/>
                </a:lnTo>
                <a:lnTo>
                  <a:pt x="108" y="56"/>
                </a:lnTo>
                <a:lnTo>
                  <a:pt x="94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56120" y="4349880"/>
            <a:ext cx="133200" cy="61920"/>
          </a:xfrm>
          <a:custGeom>
            <a:avLst/>
            <a:gdLst/>
            <a:ahLst/>
            <a:rect l="l" t="t" r="r" b="b"/>
            <a:pathLst>
              <a:path w="103" h="56">
                <a:moveTo>
                  <a:pt x="94" y="0"/>
                </a:moveTo>
                <a:lnTo>
                  <a:pt x="0" y="52"/>
                </a:lnTo>
                <a:lnTo>
                  <a:pt x="103" y="56"/>
                </a:lnTo>
                <a:lnTo>
                  <a:pt x="94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08720" y="3875040"/>
            <a:ext cx="139680" cy="57240"/>
          </a:xfrm>
          <a:custGeom>
            <a:avLst/>
            <a:gdLst/>
            <a:ahLst/>
            <a:rect l="l" t="t" r="r" b="b"/>
            <a:pathLst>
              <a:path w="107" h="52">
                <a:moveTo>
                  <a:pt x="0" y="52"/>
                </a:moveTo>
                <a:lnTo>
                  <a:pt x="107" y="52"/>
                </a:lnTo>
                <a:lnTo>
                  <a:pt x="18" y="0"/>
                </a:lnTo>
                <a:lnTo>
                  <a:pt x="0" y="5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20993400">
            <a:off x="3200400" y="3962160"/>
            <a:ext cx="210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(x+1, SHK), E(y,SH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739800">
            <a:off x="3733560" y="3428640"/>
            <a:ext cx="2106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ClientID, E(x,CH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739800">
            <a:off x="3885840" y="4571640"/>
            <a:ext cx="210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(y+1,CH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7649-B9E8-4F9F-AF99-7A6D97E3BD8C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ų pasikeitimo algoritmai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A ir RS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ie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usako k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p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rveris bei klientas nustato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etrinius rakt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uos jie abu naudos laike SSL sesijo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2.0 ir SSL 3.0 protokolai palaiko persidengiančius šifrų rinkinius. Administratoriai gali priimti ar atšaukti bet kurį iš palaikomų šifrų rinkinių klientuose ar serveryj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dentifikuoj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m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ipriausi gali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šifrų rinki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uos jie turi bendrus ir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ie yra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mi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SL sesija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B163-B48D-4137-BB13-A0E7C4930B1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SSL rankų paspaudimo žingsnia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Klien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iunčia serveriui informaciją apie sa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liento SSL versija, naudojami šifrai, atsitiktinai sugeneruotus duomeni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unčia klientui serveri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formacij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erverio SSL versija, šifrai, sertifikatas, atsitiktinai sugeneruotus duomenis ir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Klien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bando autentifikuoti serverį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lientas pagal serverio sertifikatą bando autentifikuoti serverį, jei nepavyksta – sesija nesukuri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Klien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kur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“premaster secret”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žšifruoja tai su serverio viešu raktu ir pasiunčia serveri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remaster secret” sukuriamas naudojantis visais sugeneruotais duomenim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DFC4-1ED7-45FB-9EE3-07431F6C64C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5.Jei serveris užprašė kliento autentifikavimo (tai nebūtinas žingsnis), tai 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</a:rPr>
              <a:t>klient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siunčia pasirašytus unikalius šiam rankų paspaudimui duomenis, žinomus abiem pusėm ir savo sertifikatą serveriui kartu su šifruotais “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aster secret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6.Server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, jei reikia – autentifikuoja klientą, su savo slaptu raktu dešifruoja “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aster secret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r atlikdamas eilę žingsnių (juos atlieka ir klientas) sugeneruoja “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master secre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EF6B-9685-4E31-A8CC-31F2D639B76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Abu – tiek klientas, tiek server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audoja “master secret” sesijos raktų generavimui. T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imetrini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rakt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Klient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formuoja serverį, kad tolimesni kliento pranešimai bus šifruojami su sesijos raktu. Taip pat pasiunčiamas atskiras šifruotas pranešimas indikuojantis,  kad klientas baigė rankų paspaud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ver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ako tuo pači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rankų paspaudimas yra baigtas, prasideda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SL sesi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ja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ek klientas, tiek serveris naudoja sesijos raktus siunčiamos informacijos  šifravimui-iššifravim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2A14-F31F-4A19-9795-B25D229DB84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entifik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liento bei serveri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i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si su tam tikrų duomen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fravimu naudojant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eną iš raktų: privatų-slaptą ir dešifravimu kitu raktu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erverio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tent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fikacij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tvej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lientas šifruoja “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aster secre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su serverio viešu raktu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serveris nežino slapto rakto, jis negali iššifruoti “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aster secre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ir sugeneruoti simetrinių raktų, reikalingų sesij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liento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t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fikacij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n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fruoj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itiktinius duomenis su kliento privačiu raktu, tai yra jis sukuria skaitmeninį parašą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Viešas raktas kliento sertifikate gali patvirtinti paraš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F1AC-D89F-4842-A6C0-8392985619B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lien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ikuoj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erverio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tif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153280" cy="49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03B6-DCE0-460A-B767-F4F59A4BAF4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aip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tscape server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ikuoj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n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tif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001000" cy="68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1BA7-D53B-4F6E-8AE6-18E84202DEC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-in-the-Middle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ak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n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l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uri patikrinti serverio DN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 nam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rodo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rve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tif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 realiu DN to serverio su kuriuo komunikuojama. Tai leidžia išvengti “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-in the middl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a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os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man in the middle"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kenkėjišk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gra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, kuri peri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munikacijas tarp kliento ir serverio, ji perima teisėtus raktus vykdant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ankų paspaudimą, įstato jų vieton sav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r sukelia įvaizdį klientui, kad tai serveris, o serveriui, kad tai klien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4113-36D4-4742-8F09-1E5913F7186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Viešo rakto perd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p gali Bobas patikimai perduoti viešą raktą?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en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ikacini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las gali būti tok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, I'm Bob, bobs-public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ce, This Is b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digest[Alice, This Is Bob] } bobs-private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gal šitokį protokolą bet kas gali būti Bob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694B-1EB1-48BC-8488-967733FC07A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ertifikatų panaudo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, I'm Bob, bobs-certif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ce, This Is b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digest[Alice, This Is Bob] } bobs-private-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B368-500E-4A10-A865-358650AA3A4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rijų-pusių rankų paspaud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ra laikoma, kad abi pusės žino šifravimo raktu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K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H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ei klientinė pusė nežino raktų – reikia tam tikro būdo, kuris garantuotų pasikeitimo raktais saug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5959-6E8E-462F-AECC-32DD79A1C0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ta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, I'm Bob, bobs-certif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19E4-A8BE-4C84-B6FB-C276C10D234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sikeitimas slapta inform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, I'm Bob, bobs-certif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ce, This Is b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digest[Alice, This Is Bob] } bobs-private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 bob, here is a secret {secret} bobs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ome message}secret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FD24-C350-4581-9D9C-C27F79B2C60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ta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, I'm Bob, bobs-certif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, I'm Bob, bobs-certif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e 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ice, This Is b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digest[Alice, This Is Bob] } bobs-private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ce, This Is b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digest[Alice, This Is Bob] } bobs-private-k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E05A-ADD4-4D69-AC89-645A04A54FF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ta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 bob, here is a secret {secret} bobs-public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k bob, here is a secret {secret} bobs-public-ke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ome message}secret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ble[ {some message}secret-key 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C9BC-1AC8-4034-A979-F67E198E295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 authentication code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, I'm Bob, bobs-certif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ce, This Is b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digest[Alice, This Is Bob] } bobs-private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k bob, here is a secret {secret} bobs-public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ome message,MAC}secret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B647-FA2D-47F9-8ECB-858DE486EEC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SH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-Secure Shell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SH – t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tandar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audoj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augia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utolusiam prisijungimui per nesaugius tinklu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 užtikrin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šifruot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erminalin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esiją su stipri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utentifika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iek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lien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tiek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erveri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 naudoja viešo-rakto šifravimą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šifruoja visus perduodam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duomen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: slaptažodžius, failus, koman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8D63-7B0B-4FEC-BD69-6DBC998A83A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 dvi Secure Shell versijos SSH1 ir SSH2, kuri yra patobulinta saugos požiūriu. Jos nėra tarpusavyje suderinamos. SSH1 naudoti nerekomenduo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 buvo sukurtas dviejų pagrindinių problemų išsprendimu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augaus nutolusio terminalinio prisijungim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augaus failų perdav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 taip pat gal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uneli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bet kokią TCP sesij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šiuo šifruotu SSH kanalu.  Tuneliavimas leidžia apsaugoti kitų aplikacijų komunikavimą, nekeičiant pačių aplikacij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3C9C-C4DD-4852-8524-6C7F9A4D06B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SSH šifravimas, autentifikaci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 naudoja stipriausius šifravimo algoritmus: 3DES, CAST-128, Twofish, A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(DES algoritmas palaikomas, tačiau skaitomas nesaugi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2 yra kliento-serverio protokolas ir abu jie yra autentifikuojam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2 daro negalimu slaptažodžių perėmimą, todėl  galima saugi kliento autentifikacija, paremta slaptažodžiais, o pagal reikalą SSH2 gali įtraukti ir viešo-rakto autentifikaciją.(PKI ir sertifikata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B343-6FA9-4715-A631-271C2D39F25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erverio autentifik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an-in-the-middle” ataka. Apsaugai nuo tokio tipo atakų, serveris taip pat turi būti autentifikuoj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erveris turi viešą bei privatų rak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utentifikacija paremta DSA arba RSA algoritm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utentifikuojamas skaitmeninis paraš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Jei nepalaikomi sertifikatai, tai klientas ieško viešo rakto patikimų serverių duomenų bazėj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602D-973E-4949-AE22-DBCBD59D48E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SSH sprendžiamos saugumo proble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keičia nesaugų “TELNE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P paketų klastojimas (adreso pakeiti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NS paketų klastojim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inklo klausym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uomenų klastojimas (įterpiant valdymo informaciją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X autentifikavimo klausym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laidinantys jungimaisi prie X11 serve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FD51-F790-4A55-BCC0-12B1561D797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1900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rbe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tikimas šaltin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Kerber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535040"/>
            <a:ext cx="8534520" cy="509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41800" y="17575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7560" y="1757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1800" y="2112840"/>
            <a:ext cx="1800" cy="429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061480" y="173520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45360" y="2090880"/>
            <a:ext cx="1800" cy="4292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53040" y="2112840"/>
            <a:ext cx="1440" cy="429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81480" y="4203720"/>
            <a:ext cx="3835440" cy="888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94800" y="5003640"/>
            <a:ext cx="222120" cy="88920"/>
          </a:xfrm>
          <a:custGeom>
            <a:avLst/>
            <a:gdLst/>
            <a:ahLst/>
            <a:rect l="l" t="t" r="r" b="b"/>
            <a:pathLst>
              <a:path w="140" h="56">
                <a:moveTo>
                  <a:pt x="18" y="0"/>
                </a:moveTo>
                <a:lnTo>
                  <a:pt x="140" y="56"/>
                </a:lnTo>
                <a:lnTo>
                  <a:pt x="0" y="5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800" y="3225960"/>
            <a:ext cx="3837240" cy="888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03560" y="4025880"/>
            <a:ext cx="222480" cy="88920"/>
          </a:xfrm>
          <a:custGeom>
            <a:avLst/>
            <a:gdLst/>
            <a:ahLst/>
            <a:rect l="l" t="t" r="r" b="b"/>
            <a:pathLst>
              <a:path w="140" h="56">
                <a:moveTo>
                  <a:pt x="17" y="0"/>
                </a:moveTo>
                <a:lnTo>
                  <a:pt x="140" y="56"/>
                </a:lnTo>
                <a:lnTo>
                  <a:pt x="0" y="5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88800" y="2313000"/>
            <a:ext cx="3864240" cy="89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800" y="3114720"/>
            <a:ext cx="222480" cy="88920"/>
          </a:xfrm>
          <a:custGeom>
            <a:avLst/>
            <a:gdLst/>
            <a:ahLst/>
            <a:rect l="l" t="t" r="r" b="b"/>
            <a:pathLst>
              <a:path w="140" h="56">
                <a:moveTo>
                  <a:pt x="140" y="42"/>
                </a:moveTo>
                <a:lnTo>
                  <a:pt x="0" y="56"/>
                </a:lnTo>
                <a:lnTo>
                  <a:pt x="1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253040" y="5114880"/>
            <a:ext cx="3836880" cy="868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53040" y="5894280"/>
            <a:ext cx="222120" cy="88920"/>
          </a:xfrm>
          <a:custGeom>
            <a:avLst/>
            <a:gdLst/>
            <a:ahLst/>
            <a:rect l="l" t="t" r="r" b="b"/>
            <a:pathLst>
              <a:path w="140" h="56">
                <a:moveTo>
                  <a:pt x="140" y="56"/>
                </a:moveTo>
                <a:lnTo>
                  <a:pt x="0" y="56"/>
                </a:lnTo>
                <a:lnTo>
                  <a:pt x="1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817200">
            <a:off x="4497840" y="4209480"/>
            <a:ext cx="29160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((A,T),K), E((T,L,K,A),K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900000">
            <a:off x="1270440" y="3727800"/>
            <a:ext cx="166932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((T,L,K,A),K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20580000">
            <a:off x="5467680" y="5232240"/>
            <a:ext cx="985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(T+1,K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960000">
            <a:off x="1401480" y="3347280"/>
            <a:ext cx="17366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((T,L,K,B),K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20640000">
            <a:off x="2057040" y="2439720"/>
            <a:ext cx="482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, 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1752480"/>
            <a:ext cx="3353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S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dalinasi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K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su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A,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tačiau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B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nežino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K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, A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nežino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K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75248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A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prašo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S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rakto komunikavimui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su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2438280"/>
            <a:ext cx="380880" cy="2286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724280"/>
            <a:ext cx="36576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S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atsako užkoduodamas sesijos raktą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K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ir “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timestamp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”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T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 ir galiojimo laikas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A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negali iššifruoti antro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praneš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85800" y="3352680"/>
            <a:ext cx="685800" cy="13716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371600" y="4038120"/>
            <a:ext cx="685800" cy="2133720"/>
          </a:xfrm>
          <a:prstGeom prst="line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048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A </a:t>
            </a:r>
            <a:r>
              <a:rPr b="0" lang="lt-LT" sz="2400" spc="-1" strike="noStrike">
                <a:solidFill>
                  <a:srgbClr val="808080"/>
                </a:solidFill>
                <a:latin typeface="Times New Roman"/>
              </a:rPr>
              <a:t>patvirtina, kad jis žino raktą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3505320"/>
            <a:ext cx="76320" cy="533160"/>
          </a:xfrm>
          <a:prstGeom prst="line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38862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Persiunčia iš 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7086240" y="4267080"/>
            <a:ext cx="152280" cy="2286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579132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B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patvirtina kad jis gali iššifruoti pranešimą iš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6095520" y="5486400"/>
            <a:ext cx="228600" cy="38088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1BFC-FAA6-455C-81B0-CD52B3C380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f0e30"/>
                </a:solidFill>
                <a:latin typeface="Arial"/>
              </a:rPr>
              <a:t>IP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ai rinkinys standar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užtikrinančių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aug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riva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omunikavimą IP tinkluose. Šis protokolas palengvina tiesiogius IP susijungimus tarp jautrių hostų per nesaugius tinklus(VPN pagrind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psaugo vartotojus, kurie nori saugių ryšių ir saugos sumetimais yra varžomi įprastinio nesaugaus ryšio Interne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fruoti paketai yr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okie kaip ir įpras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P paketai, jie lengvai maršrutizuojami, nereikalauja pakeitimų tarptinkliniuose įrenginiu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k galiniai komunikavimo taškai žino apie šifrav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f0e30"/>
                </a:solidFill>
                <a:latin typeface="Arial"/>
              </a:rPr>
              <a:t>IP Security </a:t>
            </a:r>
            <a:r>
              <a:rPr b="1" lang="lt-LT" sz="3600" spc="-1" strike="noStrike">
                <a:solidFill>
                  <a:srgbClr val="cf0e30"/>
                </a:solidFill>
                <a:latin typeface="Arial"/>
              </a:rPr>
              <a:t>savybė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Komunikacijų sauga remiasi šifravimais, o ne IP adresais, kurie gali būti pakeičia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Atskirtas </a:t>
            </a:r>
            <a:r>
              <a:rPr b="1" lang="de-DE" sz="3200" spc="-1" strike="noStrike">
                <a:solidFill>
                  <a:srgbClr val="00279f"/>
                </a:solidFill>
                <a:latin typeface="Arial"/>
              </a:rPr>
              <a:t>autenti</a:t>
            </a: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fikavimas ir konfidencialumo tikrinimas, leidžia platesnį pritaikym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Raktų valdymo protokolas atskirtas nuo IP security protoko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Taikomas tiek</a:t>
            </a:r>
            <a:r>
              <a:rPr b="1" lang="de-DE" sz="3200" spc="-1" strike="noStrike">
                <a:solidFill>
                  <a:srgbClr val="00279f"/>
                </a:solidFill>
                <a:latin typeface="Arial"/>
              </a:rPr>
              <a:t> IPv4</a:t>
            </a: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, tiek </a:t>
            </a:r>
            <a:r>
              <a:rPr b="1" lang="de-DE" sz="3200" spc="-1" strike="noStrike">
                <a:solidFill>
                  <a:srgbClr val="00279f"/>
                </a:solidFill>
                <a:latin typeface="Arial"/>
              </a:rPr>
              <a:t>IPv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PS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Pv4 neturi įjungto informacijos saugos mechanizmo – saugos funkcijas nusako IPSec standart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PSec protokolą suda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KE (Internet Key Exchange)protokol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H (Authentication Header)protokol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ESP (Encapsulation Security Payload) protoko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5E66-A2E2-4C0D-85B6-259CC900231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KE protok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Naudojamas ryšio sukūrimo pirmame etape, kai šalys susitaria dėl šifravimo metodų, raktų bei kitų duomenų, kuriuos naudos sukuriant apsaugotą ryšio seansą –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sukuriant saugos asociaciją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IKE – tai kombinacija ISAKM bei Qakley protokol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ISAKM – nusako formatus paketams, kurie naudojami sukuriant ir valdant apsaugotus ryšiu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Qakley – pasikeitimo raktais protokola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IKE protokolas nepriklauso nuo šifravimo algoritmų, naudojamų autentifikacijai bei duomenų šifravimui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IKE nusako apibendrintą saugaus informacijos pasikeitimo procedūr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683C-4ABE-42A1-B95E-CBB810FE43D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KE protok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500" spc="-1" strike="noStrike">
                <a:solidFill>
                  <a:srgbClr val="000000"/>
                </a:solidFill>
                <a:latin typeface="Times New Roman"/>
              </a:rPr>
              <a:t>Visi apsaugoti ryšiai yra vienos krypties</a:t>
            </a: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Apsaugoti ryšiai pasižymi šiom savybėm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Šifravimo algoritmai, kurie reikalingi seanso metu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Raktai, kuriais pasikeičiama seanso pradžioj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Raktų keitimo dažni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Saugaus ryšio “gyvavimo laikas”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Ryšio iniciatoriaus adresa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Saugos parametro indeksas (Security Parameter Index -SPI ) – tai saugaus ryšio unikalus identifikatoriu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BDB8-3066-47D2-A323-7DED85D0552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KE protok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KE gali sukurti apsaugotą ryšį – saugos asociaciją dviem režimais: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grindiniu bei agresyvi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grindinio režimo atveju IKE sukuria apsaugotą ryšio kanalą , kuris naudojamas derybo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nicijuojantis mazgas siunčia sarašą siūlomų ryšio parametrų, tokių kaip šifravimo bei hash f-jos skaičiavimo algoritmai, autentifikavimo metodai, reikalavimai įjungti AH bei ESP protokolus ir t.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o to šalys tikrina abipusę autentifikaciją naudodamos viešų raktų technologiją bei sertifikat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C55E-A9C8-47A5-98B1-417543DA6E2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KE protok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gresyva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režimo atveju reikia mažesnio skaičiaus pasikeitimų informacija, tačiau kiekviename pasikeitime naudojama daugiau duomenų. Sauga realizuojama ne taip kruopšči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o pradinio (pagrindinio ar agresyvaus ) režimo protokolas pereina prie greito režimo (quick mode), kurio metu nustatomi įtrauktų tarnybų parametrai bei generuojami sesijos raktai. Šio režimo metu paketai jau keliauja šifruoti. Sukuriami du saugos ryši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8F14-6D56-4983-8347-F087A3F8B44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f0e30"/>
                </a:solidFill>
                <a:latin typeface="Arial"/>
              </a:rPr>
              <a:t>S</a:t>
            </a:r>
            <a:r>
              <a:rPr b="1" lang="lt-LT" sz="3600" spc="-1" strike="noStrike">
                <a:solidFill>
                  <a:srgbClr val="cf0e30"/>
                </a:solidFill>
                <a:latin typeface="Arial"/>
              </a:rPr>
              <a:t>augos asociacijos</a:t>
            </a:r>
            <a:r>
              <a:rPr b="1" lang="de-DE" sz="3600" spc="-1" strike="noStrike">
                <a:solidFill>
                  <a:srgbClr val="cf0e3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Jos sukuriamos veikiant raktų pasikeitimo protokol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Kombinacija saugos parametro indekso(</a:t>
            </a:r>
            <a:r>
              <a:rPr b="1" lang="de-DE" sz="3200" spc="-1" strike="noStrike">
                <a:solidFill>
                  <a:srgbClr val="00279f"/>
                </a:solidFill>
                <a:latin typeface="Arial"/>
              </a:rPr>
              <a:t>Security Parameter Index (SPI) </a:t>
            </a: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) ir paskirties adreso vienareikšmiškai nusako atitinkamą saugos asociacij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cf0e30"/>
                </a:solidFill>
                <a:latin typeface="Arial"/>
              </a:rPr>
              <a:t>Saugos asociaci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augos asociacijos parametrai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Autenti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fikacini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algorit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mas ir moda, naudojama 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Šifravimo 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algorit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ma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, algoritm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o moda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, ini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cializacijos 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ve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k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tor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iu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, transform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acijos, naudojamo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E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Raktas(raktai) ir raktų gyvavimo laikas, taikant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ESP 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ir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Saugos asociacijos gyvavimo laik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Autenti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kacinis algoritmas, kuris naudojama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ESP (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jei naudojama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Saugomų duomenų jautrumo lyg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ugos asociacijos yra vienos kryp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augos asociacij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ekviena saugos asociacija gali teikti arba šifravimą, arba vientisumo kontrolę, arba autentifikavimą arbaviską kartu – tai nusakoma atitinkamom opcijom, kuriant asociacijas. SA vienareikšmiškai apibūdinama SPI bei paskirties 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 sistema siunčia paketą, kuriam reikia IPSec apsaugos, ji peržiūri SA duomenų bazę ir pritaiko atitinkamą saugos servisą bei įjungia SPI į IPSec galvutę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vus tokį paketą, patikrinama DB ir pagal SPI procesas atkartojam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7A00-4E6D-44D6-935E-89AE516791D8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rbe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ra naudojamas kaip sesijos raktas šifruojant paga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lgoritm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psikeitimas raktu yra surištas su patikimu šaltin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3900-DFD0-46C9-AA3A-57D98581ED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hentication Header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H – galvutės autentifikavimo protokolas. Jo pagrindinis tikslas – užtikrinti duomenų vientisum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s leidžia aptikti informacijos pakitimus paketo galvutėje ir autentifikuoti paketo siuntėją bei užtikrina persiuntimų vientisu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H galvutė įdedama tarp IP (IPv4) bei TCP /UDP galvučių. Galvutė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PI indeksas – unikaliai identifikacija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ilės numeri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utentifikavimo duomenys – skaitmeninis paraš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E8EA-59EE-4E04-941D-0F49DA57512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f0e30"/>
                </a:solidFill>
                <a:latin typeface="Arial"/>
              </a:rPr>
              <a:t>Authentication Header (A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62120" y="1447920"/>
            <a:ext cx="4038480" cy="1980720"/>
            <a:chOff x="762120" y="1447920"/>
            <a:chExt cx="4038480" cy="1980720"/>
          </a:xfrm>
        </p:grpSpPr>
        <p:sp>
          <p:nvSpPr>
            <p:cNvPr id="252" name=""/>
            <p:cNvSpPr/>
            <p:nvPr/>
          </p:nvSpPr>
          <p:spPr>
            <a:xfrm>
              <a:off x="768240" y="1454400"/>
              <a:ext cx="4025880" cy="197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2120" y="190620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2120" y="236484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1880" y="1522440"/>
              <a:ext cx="602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N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00200" y="1447920"/>
              <a:ext cx="0" cy="45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61040" y="1522440"/>
              <a:ext cx="805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90920" y="1447920"/>
              <a:ext cx="0" cy="45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81960" y="1981080"/>
              <a:ext cx="299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curity Parameter Index (SPI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36640" y="2745720"/>
              <a:ext cx="1957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uthentication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5029200" y="1279440"/>
            <a:ext cx="40132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SPI + destination address 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apibrėžia saugos asociaciją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(algoritm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a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, 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rakta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, 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autentifikacinių duomenų struktūra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9960" y="3641760"/>
            <a:ext cx="80931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Taikomas raktu pagrįsta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MD5 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tam tikriems IP galvutės lauk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Naudojamas slaptas raktas, kuriuo dalijasi galiniai komunikavimo tašk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5562720"/>
            <a:ext cx="8610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Negalimumas paneigti yra garantuojamas, jei AH yra naudojamas kartu su asimetriniais algoritmais (skaitmeniniais parašai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Encapsulation Security Paylo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ESP protokolas- tai saugaus turinio uždarymo protoko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s užtikrin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utentifikavi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datagramo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ientisu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vykd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datagramos duomenų šifravi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tokolas dirba dviejuose režimuose: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ransportiniame bei tuneliavi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ransportinio režimo atveju šis protokolas apsaugo duomenis ir aukštesnio lygio protokolų (tokių kaip TCP) galvutes. Nerealizuojama IP galvutės apsau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FCF1-F360-4306-B531-8BCF2638A4D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Encapsulation Security Paylo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unelinis darbo rež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arnauja ryšiui tarp dviejų vartų, kai tuo tarpu transporto režimas naudojamas ryšiui hostas-hostas arba hostas-vart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o režimo atveju visa IP datagrama talpinama į vidų ESP paketo, o jo galvutėje rašomi tik vartų adresa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krieji galutinių taškų adresai yra užšifruo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žtikrinant didesnę kanalo saugą, abu protokolai taikomi kartu – tai garantuoja tiek autentifikaciją, tiek konfidencialumą, tiek perdavimų vientisum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FB28-D791-41F0-99FC-335EAE69095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f0e30"/>
                </a:solidFill>
                <a:latin typeface="Arial"/>
              </a:rPr>
              <a:t>Encapsulating Security Payload (E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762120" y="2208240"/>
            <a:ext cx="7924680" cy="839880"/>
            <a:chOff x="762120" y="2208240"/>
            <a:chExt cx="7924680" cy="839880"/>
          </a:xfrm>
        </p:grpSpPr>
        <p:sp>
          <p:nvSpPr>
            <p:cNvPr id="270" name=""/>
            <p:cNvSpPr/>
            <p:nvPr/>
          </p:nvSpPr>
          <p:spPr>
            <a:xfrm>
              <a:off x="768240" y="2597040"/>
              <a:ext cx="791208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98560" y="2665440"/>
              <a:ext cx="1098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IP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057400" y="2590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71600" y="2665440"/>
              <a:ext cx="1762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Other IP Head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14800" y="2590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51960" y="2665440"/>
              <a:ext cx="1312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ESP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38680" y="2590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309000" y="2665440"/>
              <a:ext cx="1517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Encypted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2120" y="2209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72000" y="2209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686800" y="2209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38080" y="23623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62520" y="23623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48320" y="23623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001000" y="23623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93840" y="2208240"/>
              <a:ext cx="669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l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27400" y="2208240"/>
              <a:ext cx="1099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Encryp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670680" y="1538280"/>
            <a:ext cx="6465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279f"/>
                </a:solidFill>
                <a:latin typeface="Arial"/>
              </a:rPr>
              <a:t>IP datagram with encrypted por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1040" y="3595680"/>
            <a:ext cx="231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279f"/>
                </a:solidFill>
                <a:latin typeface="Arial"/>
              </a:rPr>
              <a:t>ESP Head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762120" y="4349880"/>
            <a:ext cx="4724280" cy="1282680"/>
            <a:chOff x="762120" y="4349880"/>
            <a:chExt cx="4724280" cy="1282680"/>
          </a:xfrm>
        </p:grpSpPr>
        <p:sp>
          <p:nvSpPr>
            <p:cNvPr id="290" name=""/>
            <p:cNvSpPr/>
            <p:nvPr/>
          </p:nvSpPr>
          <p:spPr>
            <a:xfrm>
              <a:off x="768240" y="4349880"/>
              <a:ext cx="4711680" cy="12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2120" y="4876920"/>
              <a:ext cx="472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08760" y="4417920"/>
              <a:ext cx="299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curity Parameter Index (SPI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29320" y="5103720"/>
              <a:ext cx="3704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Opaque transform data, variable leng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f0e30"/>
                </a:solidFill>
                <a:latin typeface="Arial"/>
              </a:rPr>
              <a:t>Encapsulating Security Payload (E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68880" y="1355760"/>
            <a:ext cx="5520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Must-implement for ESP is DES-C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762120" y="2286000"/>
            <a:ext cx="7407720" cy="2743200"/>
            <a:chOff x="762120" y="2286000"/>
            <a:chExt cx="7407720" cy="2743200"/>
          </a:xfrm>
        </p:grpSpPr>
        <p:sp>
          <p:nvSpPr>
            <p:cNvPr id="297" name=""/>
            <p:cNvSpPr/>
            <p:nvPr/>
          </p:nvSpPr>
          <p:spPr>
            <a:xfrm>
              <a:off x="762120" y="2286000"/>
              <a:ext cx="6159240" cy="2730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2120" y="2819520"/>
              <a:ext cx="617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2120" y="3657600"/>
              <a:ext cx="617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2120" y="4495680"/>
              <a:ext cx="617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94560" y="2360520"/>
              <a:ext cx="299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curity Parameter Index (SPI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574360" y="3046320"/>
              <a:ext cx="2274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Initialization Vector (IV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956320" y="3884760"/>
              <a:ext cx="1404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ayload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12960" y="4570560"/>
              <a:ext cx="930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add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47040" y="4570560"/>
              <a:ext cx="1222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ad Leng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18280" y="4570560"/>
              <a:ext cx="1427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ayload 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81480" y="44956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86200" y="44956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086600" y="28195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86600" y="502920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91520" y="28195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91520" y="42670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070400" y="3732120"/>
              <a:ext cx="1099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Encryp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95920" y="533520"/>
            <a:ext cx="73710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H and ESP Layering O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81120" y="1927080"/>
            <a:ext cx="1089000" cy="378000"/>
            <a:chOff x="681120" y="1927080"/>
            <a:chExt cx="1089000" cy="378000"/>
          </a:xfrm>
        </p:grpSpPr>
        <p:sp>
          <p:nvSpPr>
            <p:cNvPr id="316" name=""/>
            <p:cNvSpPr/>
            <p:nvPr/>
          </p:nvSpPr>
          <p:spPr>
            <a:xfrm>
              <a:off x="681120" y="1927080"/>
              <a:ext cx="1089000" cy="37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33760" y="1953720"/>
              <a:ext cx="784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778040" y="1925640"/>
            <a:ext cx="938160" cy="379440"/>
          </a:xfrm>
          <a:prstGeom prst="rect">
            <a:avLst/>
          </a:prstGeom>
          <a:solidFill>
            <a:srgbClr val="ff500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21040" y="1959120"/>
            <a:ext cx="42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700360" y="1927080"/>
            <a:ext cx="1865160" cy="378000"/>
            <a:chOff x="2700360" y="1927080"/>
            <a:chExt cx="1865160" cy="378000"/>
          </a:xfrm>
        </p:grpSpPr>
        <p:sp>
          <p:nvSpPr>
            <p:cNvPr id="321" name=""/>
            <p:cNvSpPr/>
            <p:nvPr/>
          </p:nvSpPr>
          <p:spPr>
            <a:xfrm>
              <a:off x="2700360" y="1927080"/>
              <a:ext cx="1865160" cy="37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932920" y="1953720"/>
              <a:ext cx="1478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RT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681120" y="2557440"/>
            <a:ext cx="3920760" cy="387360"/>
            <a:chOff x="681120" y="2557440"/>
            <a:chExt cx="3920760" cy="387360"/>
          </a:xfrm>
        </p:grpSpPr>
        <p:grpSp>
          <p:nvGrpSpPr>
            <p:cNvPr id="324" name=""/>
            <p:cNvGrpSpPr/>
            <p:nvPr/>
          </p:nvGrpSpPr>
          <p:grpSpPr>
            <a:xfrm>
              <a:off x="681120" y="2560680"/>
              <a:ext cx="1089000" cy="379440"/>
              <a:chOff x="681120" y="2560680"/>
              <a:chExt cx="1089000" cy="379440"/>
            </a:xfrm>
          </p:grpSpPr>
          <p:sp>
            <p:nvSpPr>
              <p:cNvPr id="325" name=""/>
              <p:cNvSpPr/>
              <p:nvPr/>
            </p:nvSpPr>
            <p:spPr>
              <a:xfrm>
                <a:off x="681120" y="2560680"/>
                <a:ext cx="1089000" cy="37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34120" y="2587680"/>
                <a:ext cx="7840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P H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736000" y="2559240"/>
              <a:ext cx="1865880" cy="380880"/>
              <a:chOff x="2736000" y="2559240"/>
              <a:chExt cx="1865880" cy="380880"/>
            </a:xfrm>
          </p:grpSpPr>
          <p:sp>
            <p:nvSpPr>
              <p:cNvPr id="328" name=""/>
              <p:cNvSpPr/>
              <p:nvPr/>
            </p:nvSpPr>
            <p:spPr>
              <a:xfrm>
                <a:off x="2736000" y="2559240"/>
                <a:ext cx="1865880" cy="380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69640" y="2586240"/>
                <a:ext cx="14778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ANSPORT 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1787760" y="2557440"/>
              <a:ext cx="934920" cy="387360"/>
              <a:chOff x="1787760" y="2557440"/>
              <a:chExt cx="934920" cy="387360"/>
            </a:xfrm>
          </p:grpSpPr>
          <p:sp>
            <p:nvSpPr>
              <p:cNvPr id="331" name=""/>
              <p:cNvSpPr/>
              <p:nvPr/>
            </p:nvSpPr>
            <p:spPr>
              <a:xfrm>
                <a:off x="1787760" y="2557440"/>
                <a:ext cx="934920" cy="387360"/>
              </a:xfrm>
              <a:prstGeom prst="rect">
                <a:avLst/>
              </a:prstGeom>
              <a:solidFill>
                <a:srgbClr val="d93192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020680" y="2594160"/>
                <a:ext cx="5374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S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3" name=""/>
          <p:cNvGrpSpPr/>
          <p:nvPr/>
        </p:nvGrpSpPr>
        <p:grpSpPr>
          <a:xfrm>
            <a:off x="681120" y="3176640"/>
            <a:ext cx="4841280" cy="387360"/>
            <a:chOff x="681120" y="3176640"/>
            <a:chExt cx="4841280" cy="387360"/>
          </a:xfrm>
        </p:grpSpPr>
        <p:grpSp>
          <p:nvGrpSpPr>
            <p:cNvPr id="334" name=""/>
            <p:cNvGrpSpPr/>
            <p:nvPr/>
          </p:nvGrpSpPr>
          <p:grpSpPr>
            <a:xfrm>
              <a:off x="1785600" y="3176640"/>
              <a:ext cx="936720" cy="387360"/>
              <a:chOff x="1785600" y="3176640"/>
              <a:chExt cx="936720" cy="387360"/>
            </a:xfrm>
          </p:grpSpPr>
          <p:sp>
            <p:nvSpPr>
              <p:cNvPr id="335" name=""/>
              <p:cNvSpPr/>
              <p:nvPr/>
            </p:nvSpPr>
            <p:spPr>
              <a:xfrm>
                <a:off x="1785600" y="3176640"/>
                <a:ext cx="936720" cy="387360"/>
              </a:xfrm>
              <a:prstGeom prst="rect">
                <a:avLst/>
              </a:prstGeom>
              <a:solidFill>
                <a:srgbClr val="ff5008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002680" y="3211920"/>
                <a:ext cx="4276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81120" y="3176640"/>
              <a:ext cx="1088640" cy="387360"/>
              <a:chOff x="681120" y="3176640"/>
              <a:chExt cx="1088640" cy="387360"/>
            </a:xfrm>
          </p:grpSpPr>
          <p:sp>
            <p:nvSpPr>
              <p:cNvPr id="338" name=""/>
              <p:cNvSpPr/>
              <p:nvPr/>
            </p:nvSpPr>
            <p:spPr>
              <a:xfrm>
                <a:off x="681120" y="3176640"/>
                <a:ext cx="1088640" cy="387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34120" y="3205440"/>
                <a:ext cx="7840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P H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3656520" y="3178440"/>
              <a:ext cx="1865880" cy="385560"/>
              <a:chOff x="3656520" y="3178440"/>
              <a:chExt cx="1865880" cy="385560"/>
            </a:xfrm>
          </p:grpSpPr>
          <p:sp>
            <p:nvSpPr>
              <p:cNvPr id="341" name=""/>
              <p:cNvSpPr/>
              <p:nvPr/>
            </p:nvSpPr>
            <p:spPr>
              <a:xfrm>
                <a:off x="3656520" y="3178440"/>
                <a:ext cx="1865880" cy="385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890160" y="3206880"/>
                <a:ext cx="14778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ANSPORT 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2708640" y="3176640"/>
              <a:ext cx="934920" cy="387360"/>
              <a:chOff x="2708640" y="3176640"/>
              <a:chExt cx="934920" cy="387360"/>
            </a:xfrm>
          </p:grpSpPr>
          <p:sp>
            <p:nvSpPr>
              <p:cNvPr id="344" name=""/>
              <p:cNvSpPr/>
              <p:nvPr/>
            </p:nvSpPr>
            <p:spPr>
              <a:xfrm>
                <a:off x="2708640" y="3176640"/>
                <a:ext cx="934920" cy="387360"/>
              </a:xfrm>
              <a:prstGeom prst="rect">
                <a:avLst/>
              </a:prstGeom>
              <a:solidFill>
                <a:srgbClr val="d93192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41560" y="3211920"/>
                <a:ext cx="5374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S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6" name=""/>
          <p:cNvGrpSpPr/>
          <p:nvPr/>
        </p:nvGrpSpPr>
        <p:grpSpPr>
          <a:xfrm>
            <a:off x="681120" y="4586400"/>
            <a:ext cx="5022360" cy="379440"/>
            <a:chOff x="681120" y="4586400"/>
            <a:chExt cx="5022360" cy="379440"/>
          </a:xfrm>
        </p:grpSpPr>
        <p:grpSp>
          <p:nvGrpSpPr>
            <p:cNvPr id="347" name=""/>
            <p:cNvGrpSpPr/>
            <p:nvPr/>
          </p:nvGrpSpPr>
          <p:grpSpPr>
            <a:xfrm>
              <a:off x="2741760" y="4586400"/>
              <a:ext cx="1089360" cy="379440"/>
              <a:chOff x="2741760" y="4586400"/>
              <a:chExt cx="1089360" cy="379440"/>
            </a:xfrm>
          </p:grpSpPr>
          <p:sp>
            <p:nvSpPr>
              <p:cNvPr id="348" name=""/>
              <p:cNvSpPr/>
              <p:nvPr/>
            </p:nvSpPr>
            <p:spPr>
              <a:xfrm>
                <a:off x="2741760" y="4586400"/>
                <a:ext cx="1089360" cy="37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893680" y="4613040"/>
                <a:ext cx="7840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P H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3837600" y="4586400"/>
              <a:ext cx="1865880" cy="379440"/>
              <a:chOff x="3837600" y="4586400"/>
              <a:chExt cx="1865880" cy="379440"/>
            </a:xfrm>
          </p:grpSpPr>
          <p:sp>
            <p:nvSpPr>
              <p:cNvPr id="351" name=""/>
              <p:cNvSpPr/>
              <p:nvPr/>
            </p:nvSpPr>
            <p:spPr>
              <a:xfrm>
                <a:off x="3837600" y="4586400"/>
                <a:ext cx="1865880" cy="37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071240" y="4613040"/>
                <a:ext cx="14778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ANSPORT 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1776600" y="4587480"/>
              <a:ext cx="936720" cy="378000"/>
            </a:xfrm>
            <a:prstGeom prst="rect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3920" bIns="43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19240" y="4619160"/>
              <a:ext cx="537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681120" y="4586400"/>
              <a:ext cx="1089000" cy="379440"/>
              <a:chOff x="681120" y="4586400"/>
              <a:chExt cx="1089000" cy="379440"/>
            </a:xfrm>
          </p:grpSpPr>
          <p:sp>
            <p:nvSpPr>
              <p:cNvPr id="356" name=""/>
              <p:cNvSpPr/>
              <p:nvPr/>
            </p:nvSpPr>
            <p:spPr>
              <a:xfrm>
                <a:off x="681120" y="4586400"/>
                <a:ext cx="1089000" cy="37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34480" y="4613040"/>
                <a:ext cx="7840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P H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8" name=""/>
          <p:cNvGrpSpPr/>
          <p:nvPr/>
        </p:nvGrpSpPr>
        <p:grpSpPr>
          <a:xfrm>
            <a:off x="2743200" y="6032520"/>
            <a:ext cx="1089000" cy="380880"/>
            <a:chOff x="2743200" y="6032520"/>
            <a:chExt cx="1089000" cy="380880"/>
          </a:xfrm>
        </p:grpSpPr>
        <p:sp>
          <p:nvSpPr>
            <p:cNvPr id="359" name=""/>
            <p:cNvSpPr/>
            <p:nvPr/>
          </p:nvSpPr>
          <p:spPr>
            <a:xfrm>
              <a:off x="2743200" y="6032520"/>
              <a:ext cx="108900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95840" y="6059520"/>
              <a:ext cx="784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718160" y="6033960"/>
            <a:ext cx="1866960" cy="379440"/>
            <a:chOff x="4718160" y="6033960"/>
            <a:chExt cx="1866960" cy="379440"/>
          </a:xfrm>
        </p:grpSpPr>
        <p:sp>
          <p:nvSpPr>
            <p:cNvPr id="362" name=""/>
            <p:cNvSpPr/>
            <p:nvPr/>
          </p:nvSpPr>
          <p:spPr>
            <a:xfrm>
              <a:off x="4718160" y="6033960"/>
              <a:ext cx="1866960" cy="379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50720" y="6059520"/>
              <a:ext cx="1478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RT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776240" y="6032520"/>
            <a:ext cx="938520" cy="380880"/>
          </a:xfrm>
          <a:prstGeom prst="rect">
            <a:avLst/>
          </a:prstGeom>
          <a:solidFill>
            <a:srgbClr val="d931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19240" y="6066000"/>
            <a:ext cx="538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681120" y="6033960"/>
            <a:ext cx="1089000" cy="379440"/>
            <a:chOff x="681120" y="6033960"/>
            <a:chExt cx="1089000" cy="379440"/>
          </a:xfrm>
        </p:grpSpPr>
        <p:sp>
          <p:nvSpPr>
            <p:cNvPr id="367" name=""/>
            <p:cNvSpPr/>
            <p:nvPr/>
          </p:nvSpPr>
          <p:spPr>
            <a:xfrm>
              <a:off x="681120" y="6033960"/>
              <a:ext cx="1089000" cy="379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3760" y="6059520"/>
              <a:ext cx="784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3822840" y="6033960"/>
            <a:ext cx="934920" cy="379440"/>
          </a:xfrm>
          <a:prstGeom prst="rect">
            <a:avLst/>
          </a:prstGeom>
          <a:solidFill>
            <a:srgbClr val="ff500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062240" y="6066000"/>
            <a:ext cx="42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743200" y="5418000"/>
            <a:ext cx="1089000" cy="379440"/>
            <a:chOff x="2743200" y="5418000"/>
            <a:chExt cx="1089000" cy="379440"/>
          </a:xfrm>
        </p:grpSpPr>
        <p:sp>
          <p:nvSpPr>
            <p:cNvPr id="372" name=""/>
            <p:cNvSpPr/>
            <p:nvPr/>
          </p:nvSpPr>
          <p:spPr>
            <a:xfrm>
              <a:off x="2743200" y="5418000"/>
              <a:ext cx="1089000" cy="379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896200" y="5444640"/>
              <a:ext cx="784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4776840" y="5418000"/>
            <a:ext cx="1866960" cy="378000"/>
            <a:chOff x="4776840" y="5418000"/>
            <a:chExt cx="1866960" cy="378000"/>
          </a:xfrm>
        </p:grpSpPr>
        <p:sp>
          <p:nvSpPr>
            <p:cNvPr id="375" name=""/>
            <p:cNvSpPr/>
            <p:nvPr/>
          </p:nvSpPr>
          <p:spPr>
            <a:xfrm>
              <a:off x="4776840" y="5418000"/>
              <a:ext cx="1866960" cy="37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009760" y="5442840"/>
              <a:ext cx="1478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RT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844800" y="5418000"/>
            <a:ext cx="936720" cy="379440"/>
            <a:chOff x="3844800" y="5418000"/>
            <a:chExt cx="936720" cy="379440"/>
          </a:xfrm>
        </p:grpSpPr>
        <p:sp>
          <p:nvSpPr>
            <p:cNvPr id="378" name=""/>
            <p:cNvSpPr/>
            <p:nvPr/>
          </p:nvSpPr>
          <p:spPr>
            <a:xfrm>
              <a:off x="3844800" y="5418000"/>
              <a:ext cx="936720" cy="379440"/>
            </a:xfrm>
            <a:prstGeom prst="rect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086360" y="5450760"/>
              <a:ext cx="538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736560" y="5418000"/>
            <a:ext cx="1089000" cy="378000"/>
            <a:chOff x="736560" y="5418000"/>
            <a:chExt cx="1089000" cy="378000"/>
          </a:xfrm>
        </p:grpSpPr>
        <p:sp>
          <p:nvSpPr>
            <p:cNvPr id="381" name=""/>
            <p:cNvSpPr/>
            <p:nvPr/>
          </p:nvSpPr>
          <p:spPr>
            <a:xfrm>
              <a:off x="736560" y="5418000"/>
              <a:ext cx="1089000" cy="37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89200" y="5455800"/>
              <a:ext cx="784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1805040" y="5418000"/>
            <a:ext cx="936360" cy="378000"/>
            <a:chOff x="1805040" y="5418000"/>
            <a:chExt cx="936360" cy="378000"/>
          </a:xfrm>
        </p:grpSpPr>
        <p:sp>
          <p:nvSpPr>
            <p:cNvPr id="384" name=""/>
            <p:cNvSpPr/>
            <p:nvPr/>
          </p:nvSpPr>
          <p:spPr>
            <a:xfrm>
              <a:off x="1805040" y="5418000"/>
              <a:ext cx="936360" cy="378000"/>
            </a:xfrm>
            <a:prstGeom prst="rect">
              <a:avLst/>
            </a:prstGeom>
            <a:solidFill>
              <a:srgbClr val="ff500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46240" y="5449320"/>
              <a:ext cx="428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6058800" y="2624040"/>
            <a:ext cx="248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ransport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427800" y="4221000"/>
            <a:ext cx="206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unnel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681120" y="4022640"/>
            <a:ext cx="5022360" cy="387360"/>
            <a:chOff x="681120" y="4022640"/>
            <a:chExt cx="5022360" cy="387360"/>
          </a:xfrm>
        </p:grpSpPr>
        <p:sp>
          <p:nvSpPr>
            <p:cNvPr id="389" name=""/>
            <p:cNvSpPr/>
            <p:nvPr/>
          </p:nvSpPr>
          <p:spPr>
            <a:xfrm>
              <a:off x="2742120" y="4027680"/>
              <a:ext cx="108900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3920" bIns="43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94040" y="4054320"/>
              <a:ext cx="7840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837600" y="4027680"/>
              <a:ext cx="18658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3920" bIns="43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071240" y="4054320"/>
              <a:ext cx="1477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RT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20" y="4027680"/>
              <a:ext cx="108936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3920" bIns="43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34480" y="4054320"/>
              <a:ext cx="7840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786320" y="4022640"/>
              <a:ext cx="936720" cy="387360"/>
            </a:xfrm>
            <a:prstGeom prst="rect">
              <a:avLst/>
            </a:prstGeom>
            <a:solidFill>
              <a:srgbClr val="ff500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3920" bIns="43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003400" y="4057560"/>
              <a:ext cx="427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7175520" y="5665680"/>
            <a:ext cx="129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79E4-EF68-45A2-8C18-2EA78F8830F0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uneliavimo moda naudojama kai palaikomas ryšys – maršrutizatorius – maršrutizatorius – šifruojamas visas IP paketas, net ir IP galvut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ransporto moda – palaiko ryšį hostas-hostas. Tinkliniams įrenginiams leidžia matyti tiek šaltinio, tiek paskirties taško IP adresus – IP galvutė nešifruota – šifruojama nuo traansporto galvutės. Gali būti naudojama tuo atveju, kai abu hostai palaiko IPSe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9F3E-FEA9-4290-82BE-B4FC79B3C63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file1598206_datori2" descr=""/>
          <p:cNvPicPr/>
          <p:nvPr/>
        </p:nvPicPr>
        <p:blipFill>
          <a:blip r:embed="rId1"/>
          <a:stretch/>
        </p:blipFill>
        <p:spPr>
          <a:xfrm>
            <a:off x="990720" y="1184400"/>
            <a:ext cx="7086600" cy="506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16CC-D1CF-4CF8-B2FA-ED212E1B828C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600200" y="1828800"/>
            <a:ext cx="481824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00800" y="2098800"/>
            <a:ext cx="240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06160" y="2098800"/>
            <a:ext cx="240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92240" y="2576520"/>
            <a:ext cx="1800" cy="3981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96160" y="2576520"/>
            <a:ext cx="1440" cy="3981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22480" y="2936880"/>
            <a:ext cx="3943440" cy="98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26160" y="3805200"/>
            <a:ext cx="239760" cy="119160"/>
          </a:xfrm>
          <a:custGeom>
            <a:avLst/>
            <a:gdLst/>
            <a:ahLst/>
            <a:rect l="l" t="t" r="r" b="b"/>
            <a:pathLst>
              <a:path w="151" h="75">
                <a:moveTo>
                  <a:pt x="19" y="0"/>
                </a:moveTo>
                <a:lnTo>
                  <a:pt x="151" y="75"/>
                </a:lnTo>
                <a:lnTo>
                  <a:pt x="0" y="7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022480" y="3954600"/>
            <a:ext cx="3943440" cy="987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22480" y="4822920"/>
            <a:ext cx="239760" cy="118800"/>
          </a:xfrm>
          <a:custGeom>
            <a:avLst/>
            <a:gdLst/>
            <a:ahLst/>
            <a:rect l="l" t="t" r="r" b="b"/>
            <a:pathLst>
              <a:path w="151" h="75">
                <a:moveTo>
                  <a:pt x="151" y="75"/>
                </a:moveTo>
                <a:lnTo>
                  <a:pt x="0" y="75"/>
                </a:lnTo>
                <a:lnTo>
                  <a:pt x="1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840000">
            <a:off x="4531680" y="3265560"/>
            <a:ext cx="30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840000">
            <a:off x="2932560" y="2952720"/>
            <a:ext cx="2167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(x, Public   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0820000">
            <a:off x="3779640" y="407628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9012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entifikacija, pagrįsta viešais rakta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8442-A51D-407B-8B03-125C77E71F1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9012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Pranešimo vientisumą užtikrinantys protokol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kaitmeniniai parašai sudaromi naudoj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S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šifravimo metodą – tai asimetrinis algoritmas, naudojantis du raktus:slaptą bei vieš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varbia problema yra pranešimo vientisumo užtikrinimas – pranešimas pakeliui nėra modifikuo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sirašoma, naudoja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ivatų raktą ir tikrinama taikant viešą rakt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5884-705A-4EBE-81C5-C02C8A19D4A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rašo sudary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skaičiuojama pasirašomo dokumento kontrolinė su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žšifruojama kontrolinė suma, data, laikas ir kita informacija naudojant privatų rakt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rie dokumento pridedamas paraš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Galima užšifruoti pasirašytą dokumentą dar ir su gavėjo viešu rakt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C068-BCF0-49D6-9A74-FA3952D926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12:44:38Z</dcterms:created>
  <dc:creator>Kristina</dc:creator>
  <dc:description/>
  <dc:language>en-US</dc:language>
  <cp:lastModifiedBy>Kristina</cp:lastModifiedBy>
  <dcterms:modified xsi:type="dcterms:W3CDTF">2004-11-24T07:47:26Z</dcterms:modified>
  <cp:revision>19</cp:revision>
  <dc:subject/>
  <dc:title>11 paskaita</dc:title>
</cp:coreProperties>
</file>