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ED0-ADE8-49DC-BAEF-C914A7477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CB91-87D6-4A0F-A80C-853835E86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B3C5-B181-4E06-BE6A-55E0C4D2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48A2-CF59-455C-95CB-D5A891E1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A502-76F0-4AD4-88D7-1224FC17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778E-F0E2-42E2-8CEE-049ABE21E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573-C870-48A1-91B0-E9062E23F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DDC-63E9-4BC9-8956-2C02D8800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4B6F-44EC-41F1-AF6D-92CAEA316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EAE6-B44B-4334-9E8E-C62C3D9D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3B7D-C039-4919-9718-7172B3D80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A110-BFB4-4612-9C1B-37EA126F3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CD4-94A1-4607-9674-A11719FE1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483-75AF-41C2-847A-6363D8B69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39E-A5A1-4802-9339-3961B054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591-518C-4B0F-A44B-1CA06562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842-41E8-4D79-8705-734806D2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38C-3781-4369-9CC3-E7D711F2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7DB-81FD-4407-8653-89D9B0E6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541-7E0B-4647-AC85-8D01A846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EE0-43D1-4076-BF19-174EA3AD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FE7-5E05-4F36-B5E5-F36AB823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D28-C65F-4017-82C5-A305FBF3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991-6F8F-4E99-AE9B-0A56209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E9B-F170-42E0-9352-8E2C674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ECD-F118-418C-9A6B-83C1F67B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581-7203-4674-A928-25CB5768D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sasecurity.com/rsalabs/faq/images/feistel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sasecurity.com/rsalabs/faq/images/feistel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22856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0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le2782590_datorjoki3" descr=""/>
          <p:cNvPicPr/>
          <p:nvPr/>
        </p:nvPicPr>
        <p:blipFill>
          <a:blip r:embed="rId1"/>
          <a:stretch/>
        </p:blipFill>
        <p:spPr>
          <a:xfrm>
            <a:off x="457200" y="1820880"/>
            <a:ext cx="411480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0C5-1D3E-4734-84D5-13CF956D57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saug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prendž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algoritmo sudėting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o ilg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as pasikeičiant informacija apie rak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ai taikomi du simetriniai algorit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lok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E8F-6B13-41BC-B21A-86CB3D9AAF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lok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Taikant šį algoritmą,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fiksuoto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ilgio atviro teksto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blokas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yra transformuojamas į tokio paties ilgio šifruotą teks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Ši transformacija atliekama naudojant vartotojo pateiktą slaptą raktą</a:t>
            </a:r>
            <a:r>
              <a:rPr b="0" lang="en-GB" sz="2800" spc="-1" strike="noStrike">
                <a:solidFill>
                  <a:srgbClr val="55649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Iššifravimas vykdomas taikant tas pačias transformacijas atbuline tvarka šifruotam blokui, naudojant tą patį šfravimo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Fiksuotas teksto ilgis yra vadinamas bloko dydžiu, daugumoje blokinių šifratorių naudojamas 64bitų blokas – ateičiai planuojamas 128bitų blo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82D-F44F-4ABA-9B1C-E8AB00EF03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lokinis šifravimas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ck cipher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griežtai nustatytu duomenų skaičiumi, transformuodamas ir perstatydamas to bloko bitus pagal užduotą rak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v.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as –56 bitai, dirba su 64 bitų teksto blok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9680" y="2549520"/>
            <a:ext cx="8864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eiste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55B-551F-4819-982E-F331CF57EF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sutrumpinimas nuo žodžių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ata Encryption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Sukurtas 1970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šifruoja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is blokais po 64 bi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Šifravimui naudojama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56 bi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fravimui naudojami poslinkiai bei perstatym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i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lgoritmas kartojamas 16 kar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nes ciklų kiekis yra eksponentiniai proporcingas laikui, kurio reikia rakto radimui siekiant “kenkėjiškai” dešifr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 – per mažas rakto ilgis, spec dešifratoriai gali atspėti raktą (apie 22 val trunka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riple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dėtas naudoti nu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999.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ris kartus su skirtingais raktais, taigi rakto ilgis gaunasi  168b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,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eit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dvanced Encryption Standard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kimasi, ka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pakankamai stiprus sekantie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et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273-73D8-48DE-84FC-7D1C246FDC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duojamas pranešimas papildomas 0-liais, kad galima būtų koduoti imant blokus po 64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 nešifruotą tekstą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123456789ABCD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 1000 1001 1010 1011 1100 1101 1110 1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00 1001 1010 1011 1100 1101 1110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Čia L yra pirmi 32 bitai R – sekantys (iš kairės į dešin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per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lo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d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56-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ai saugo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8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enaudoj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 raktas K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0011 00110100 01010111 01111001 10011011 10111100 11011111 1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BB6-6D5B-402C-96EE-99E0ADA07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džioje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as 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yra persta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57 49 41 33 25 17 9 1 58 50 42 34 26 18 10 2 59 51 43 35 27 19 11 3 60 52 44 36 63 55 47 39 31 23 15 7 62 54 46 38 30 22 14 6 61 53 45 37 29 21 13 5 28 20 12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0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0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0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100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1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1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1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Gaunamas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5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 bitų naujas rak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+ = 1111000 0110011 0010101 0101111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Jis sudalomas į dvi dalis po 28 bitus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1111000 0110011 0010101 0101111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Sukuriama 16blokų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1&lt;=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&lt;=16.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Kiekviena por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yra formuojam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š buvusios poro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atitinkamai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audojant sekančias stumimo kairėn taisy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800-E4E0-4350-885A-0572CF0718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81080"/>
          <a:ext cx="5943600" cy="4140360"/>
        </p:xfrm>
        <a:graphic>
          <a:graphicData uri="http://schemas.openxmlformats.org/drawingml/2006/table">
            <a:tbl>
              <a:tblPr/>
              <a:tblGrid>
                <a:gridCol w="1218960"/>
                <a:gridCol w="152424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129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teracijos NR – perstumiamų kairėn bitų skaič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85E-D2DF-4FE8-A37D-633FEFD2E0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30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-3006720"/>
            <a:ext cx="3962520" cy="12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0001100110010101010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1001100111100011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01100110010101010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001100111100011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0110011001010101011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0011001111000111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10010101010111111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0011001111000111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100101010101111111100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001111000111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01010101111111100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00111100011110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0101010111111110000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110001111010101010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010101011111111000011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11000111101010101011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066680"/>
            <a:ext cx="35812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1111110000110011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11000111101010101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11111100001100110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11110101010101100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11111100001100110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1111010101010110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11111100001100110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1111010101010110011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111100001100110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010101010110011001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110000110011001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10101010110011001111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00001100110010101010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0110011001111000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namos reikšm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7F9-4424-4BE9-B6F1-BF1D1D92E1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ormuojami rakt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1&lt;=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=16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nt antrą perstatymų lentelę  konkatenuotai por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os ilg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56 bi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et naudojami tik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2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 imami bitai N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4 17 11 24 1 5 3 28 15 6 21 10 23 19 12 4 26 8 16 7 27 20 13 2 41 52 31 37 47 55 30 40 51 45 33 48 44 49 39 56 34 53 46 42 50 36 29 32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110000 11001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10 1011111 1010101 0110011 0011110 00111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919-4195-4FA1-B35B-56CFA9D793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0 011010 111011 011001 110110 111100 100111 100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01 011111 110010 001010 010000 101100 111110 01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0 101010 110111 010110 110110 110011 010100 011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1 001110 110000 000111 111010 110101 001110 1010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000 111010 010100 111110 010100 000111 101100 1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11 001000 010010 110111 111101 100001 100010 1111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101 111000 101000 111010 110000 010011 101111 1110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00 001101 101111 101011 111011 011110 011110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00 011111 001101 000111 101110 100100 011001 0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1000 010101 111111 010011 110111 101101 001110 0001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1 010111 000111 110101 100101 000110 011111 10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0101 111100 010111 010001 111110 101011 101001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11 110100 001110 110111 111100 101110 011100 11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11 111001 000110 001101 001111 010011 111100 00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0010 110011 110110 001011 000011 100001 011111 1101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01F-E5C5-40F3-873A-F72357A37E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RIPT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ptografija – tai matematinė disciplina skirta duomenų šifravimui ir de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 – metodai šifrui išsiaiški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EEB-1B7A-414D-A80F-1386FA3CD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ykdo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anešimo 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itų  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pradinis perstatymas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vykdoma pagal lentel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8 50 42 34 26 18 10 2 60 52 44 36 28 20 12 4 62 54 46 38 30 22 14 6 64 56 48 40 32 24 16 8 57 49 41 33 25 17 9 1 59 51 43 35 27 19 11 3 61 53 45 37 29 21 13 5 63 55 47 39 31 23 15 7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0000 0001 0010 0011 0100 0101 0110 0111 1000 1001 1010 1011 1100 1101 1110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Tada IP sudalomas į kairią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bei dešinę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da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DCA-0A89-49DE-8387-6E0CBBC4B1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šk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į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is moduliu 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mant nu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111 0000 1010 1010 1111 0000 1010 1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eiste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625-DB99-43D1-8EDE-727EBEA8E7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nt funkciją f reikia pradžioje atlikti šiuos veiks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loką reikia išplėsti nu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vykdoma naudojant išrinkimo lentelę, kuri pakartoja kai kuriuo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cedūra vadinama E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funkcija (32 bitai įėjime ir 48 bitai išėjime). Išrinkimui naudojama lentelė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rinkimo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nt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2     1    2     3     4    5     4     5    6     7     8    9    8     9   10    11    12   13  12    13   14    15    16   17  16    17   18    19    20   21   20    21   22    23    24   25    24    25   26    27    28   29   28    29   30    31    32   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11 0000 1010 1010 1111 0000 1010 1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B86-8283-4D38-A42D-C394831455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vim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kdo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a s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rak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110 110000 001011 101111 111111 000111 000001 110010 </a:t>
            </a:r>
            <a:br>
              <a:rPr sz="2400"/>
            </a:b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br>
              <a:rPr sz="24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: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rba 8 grupes po 6 bi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 6 bitų grupė naudojama kaip adresai lentelėse, vadina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box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s  adresais S lentelėse yra patalpinti 4 bitų skaičiai, kurie pakeis tuos 6 bitus. Rezultate vėl gausis 32 bitų ilgio dy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1E3-4B54-487F-B6A3-39ED614EDB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iekam surikiavimą po 6 bit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grup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aičiuojam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ymi dyd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gaunamas  ta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um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wNo.    0  1   2  3   4  5   6  7   8  9  10 11  12 13  14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0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4  4  13  1   2 15  11  8   3 10   6 12   5  9   0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0 15   7  4  14  2  13  1  10  6  12 11   9  5   3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2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4  1  14  8  13  6   2 11  15 12   9  7   3 10   5  0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5 12   8  2   4  9   1  7   5 11   3 14  10  0   6 1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Pirmas ir paskutinis B bitai sudaro skaičių, kuris g.b. ribos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durinia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B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bitai duos  dešimtainį skaičių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17E-8B79-42F1-90A9-5110E6AFFB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...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statyma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6   7  20  21  29  12  28  17   1  15  23  26   5  18  31  10   2   8  24  14   32  27   3   9  19  13  30   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22  11   4  25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uname: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0011 0100 1010 1010 1001 1011 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7B7-BABE-4E41-878D-A9C5670542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01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00 1100 0000 0000 1100 1100 1111 11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010 0011 0100 1010 1010 1001 1011 10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10 1111 0100 1010 0110 0101 0100 0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kaičiuojam analogiškai 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komas paskutinis perstaty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gal sekančią lentel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Unicode MS"/>
                <a:ea typeface="Courier New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          40     8   48    16    56   24    64   32   39     7   47    15    55   23    63   31   38     6   46    14    54   22    62   30   37     5   45    13    53   21    61   29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6     4   44    12    52   20    60   28            35     3   43    11    51   19    59   27  34     2   42    10    50   18    58   26  33     1   41     9    49   17    57   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likę visus minėtus žingsnius gaus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0 0011 0100 0010 0011 0010 0011 010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 1010 0100 1100 1101 1001 1001 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F3A-569F-4B48-A04B-711BB869FD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1010 01001100 11011001 10010101 01000011 01000010 00110010 00110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101 11101000 00010011 01010100 00001111 00001010 10110100 00000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ešioliktainiam formate tai duo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E813540F0AB4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23456789ABCDEF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žšfruotas ka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E813540F0AB4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šifravimas vykdomas kaip atvirkščias procesas šifravi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B72-8A79-40B9-9510-37F73A0383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rieš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DES / 3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čiausias nulaužimo metodas yra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ute-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ieškant tinkamo rakto. Tai reikalauja išbandy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eren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cinė  kriptoanal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bandoma nustatyti koreliacinį ryšį tarp funkcij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ES algoritmo f-jos f įėjimo ir išėjim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duomenų. Toks metodas reikalauj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, kas yra mažiau ne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ute 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po atak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iesin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ieškoma koreliacijos tarp rakto ir šfratoriaus įėjimo/išėjimo.  Š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reikalau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 būti nulaužiamas per pakankamai trumpą laiką ir todėl nebelaikomas standar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ų prie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pastebėta. Kadangi rakto ilgis pakankamai didelis, tai sunku naudoti ir “bruce-force” tipo atakas su esamais kompiuteriniais pajėgu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or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ankamai saugus, tačia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eitus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p šifravimo standa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483-4537-4FBA-ADBC-FE7537F31C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chema, kuri remiasi DES ir yra naudojama slaptos informacijos (pavyzdžiui slaptažodžių ), siunčiamų tinklu iš klientų programų serveriniams procesams ar demonams 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181-1375-4775-AA7B-28015F7BF1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o sv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ų ir perduodamų Interneto tinkla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tur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dažnai yra labai svar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erduodami duomenys dažnai būna surišti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nansinė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peracijom, pirkimais – pardavimais, atsiskaitymais, bilietų, viešbučių rezervacija ir kita vei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markiai išaugusi duomenų perdavimų apimtis, svarb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fidencialu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elia reikalavimus apsisaugojimo nuo neautorizuoto šių duomenų naudoj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pripažįstama, 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šifravimas yra ta priemonė, kuri leidžia apsaugoti duomenis juos saugant ar perduodant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gi pakankamai stiprus šifravimas gali būti naudojamas duomenų konfidencialumui, autentiškumui , vientis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AC7-DC66-4A7E-8924-6B9499512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DEA – naudoja 128 bitų raktą, atsparesnis nulaužim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lipjack – tai naujas algoritmas, operuoja 80 bitų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low fish gali naudoti raktus nuo 32 iki 448 bitų il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C87-A68D-4736-A23E-172A939F15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64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blokus, naudojant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s pats algoritmas taikomas tiek šifruojant, tiek dešifruoj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akankamai naujas algoritmas (naudojamas keletą metų), dar nenulauž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subbloku vykdomi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ciklai tokių operacijų kaip XOR, sumavimas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daugyba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+1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lgoritmas lėtesnis nei DES, bet greitesnis už 3DES algoritm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aitoma, kad tai geriausias simetrinis algori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gubas IDEA (triple-IDEA) tinka išrankiaus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CB4-94DB-4CBE-A95D-5715E3D165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ip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sukurtas NSA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tional Security Ag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klasifikuojamas kaip slap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inoma tiek, kad yra simetrinis, naudoja 80 bi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SA naudoja šį algoritmą savų pranešimų 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E94-197B-401B-A421-276D9A3BFC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Nauji šifravimo standartai ir algoritm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S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kelbė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ją standart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ES (Advanced Encryption Standard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2001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 daug kandidat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algoritma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pažintas nugalėtoju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eletas geriausių algoritmų 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ohn Daemen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incent Rijmen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ilg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k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dydis gali bū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 visapusiškas ir lengvai panaudoja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r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rtelė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bar jis laikom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C6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SA Labs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Jis gali būti lengv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arametriz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mas priėmimui raktų ilgių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4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grindinis privalumas prieš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eitis. Jis daug greitesnis n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įdiegiant jį tiek programiškai, tiek technologišk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wfish / Twofish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ruce Schneier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uvo tarp finalistų į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ndidatus ir jis remi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lowfish algoritm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. Gali naudoti raktus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4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Reikalauja mažai atminties šifravimui atlikti ir yra greitas. Tačiau šifravimo struktūra yra labai sudėtinga ir sunku ją analizuo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A11-9390-49EC-BEEE-789669136B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šifravimo algoritm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tipo algoritmai vienu laiko momentu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ą b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ą plaintex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blokinio šifravimo atveju imamas tam tikras bitų skaičius – 6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ai ir jie šifruojami kaip atskiras vie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generu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srautas ir jis kombinuojamas su realiais duomenimis. Pats žinomiausia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gorit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srautinis šifratorius, naudojant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int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o ilgį. Jo operacijos yra orientuotos į baitus.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Algoritmas pagrįstas atsitiktinių perstatymų panaudoj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BF0-B682-4E71-9C28-C72D5D8CE8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o baito šifravimas reikalau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ašininių operacij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aud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ų 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okiuose produktuose ka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SecurPC (RSA SecurPC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utilita, kuri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sk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iek laptopuose, tiek personaliniuose kompiuteriuose). Kiekvien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šifruojamas naudoj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 atsitiktinai sugeneruo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ų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as užšif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rtotojo slaptą rak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uris yra užšifruoja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ą, išvestą iš vartotojo fraz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s taip pat naudojamas saugioms komunikacijoms užtikrinti –kaip kad ateinančio bei išeinančio srauto srauto iš saugių web saitų šifravi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DC3-AE95-42A4-8601-AC4E70F519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uminės simetrinių alg.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238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u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86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ai 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pj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56F-08CB-49E1-856E-44EA1E2899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i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apsprendžia skaičių galimų rakto kombinacijų, kurias turėtų išbandyti įsilaužėjas parinkdamas raktą (32 skilčių raktui  reiktų pabandyti 4 milijardus kombinacijų)- jis auga eksponentiškai didėjant rakto ilgi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šifravime naudojami raktai iki 1024 bit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512-5BBE-46E8-BA5D-F1FB121860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 dažnai būna silpniausia grandimi šifravi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iog prieš seansą perduoti raktą yra nesaugu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ėl bandoma tai padaryti kitais bū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dencialumo apsauga naudojant simetrinį šifravimą gana paprastai realizuojama mažuose tinkluos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slaptą raktą valdo abi ryšio pusės, tai darosi negalimu būti tikram tuo ką daro kit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4E0-0E8A-45BD-9C55-31DAC0AD27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9.17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standartas aprašantis raktų valdymą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cial Institution Key Management (Wholesale)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nusako kaip finansinės institucijos turi perduoti šifravimo raktus. Tai susiję su simetrinio šifrav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Finansinėms institucijoms reikia keisti daugumą šifravimo raktų kasdien ar kas sesiją. Netinka perdavimas kurj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išskiriami 3 rakt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ukščiausio lygio “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KM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perduodamas rankiniu bū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EK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e perduodami “on-lin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emiausio lygio –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D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duodami 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omenų raktai naudojami pagrindinei masei inf. šifruoti, keičiami kas sesiją arba kasdien. Nauji duomenų raktai perduodami vartotojams užšifruoti – naudojami raktus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us šifruojantys raktai yra šifruojami su “master” tipo raktu, keičiami periodiškai. “master” tipo raktai tiesiogiai neperduodami – naudojamas patikimas perd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04F-737E-48DE-81D8-F24E0EA5F7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ifravimas ir atakos į šifravimo siste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šifruotos informacijos dešifravimo menas nežinant tikslaus rakto. Yra daug įvairios technik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-only attack: Tai atvejas, kai atakuotojas nežino nieko apie pranešimo turinį ir turi dirbti tik su šifruotu teks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-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text attack: Atakuotojas žino arba gali įspėti kai kurias užšifruoto teksto da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00C-94A3-49C2-96E3-EA6671CBC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s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komi du šifravimo –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raktai; kiekvienas raktas vyk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ją tik viena krypti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raktų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ra padaromas prieinamu visiems norintiems, o kitas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us ( slaptas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laikomas paslapt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ai yra matematiškai priklausomi vienas nuo kito, tačiau nei vienas iš jų negali būti matematiškai nustatytas žinant kitą, per prieinamą laiką (ši savybė yra labai svarbi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6A8-A99D-44BB-967B-BB3E3F0C75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s raktai naudojami iš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i raktai naudojami už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8769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Raktų 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380988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3123720"/>
            <a:ext cx="0" cy="30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9D5-A9D8-4B6F-873E-690403D2917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SA – tai viešo-rakto šifravimo sistema, sukurta 1977m. Naudojama tiek šifravimui, tiek autentif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plačiausiai šiandien naudojama viešo- rakto sistema, todėl dažnai vadinama standart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111-A299-4779-9E4E-EF99E4536ED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renkam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ankamai didel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2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da randami E bei 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parenkami parenk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s bus naudoja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vimu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P-1)*(Q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inkti mažo, nes RSA kodavimo algoritmas ir pagrįstas tuo, kad asmuo, bandantis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nežino šio skaič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d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u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ali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b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š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da būtų šio skaičiaus dal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E turi būti nelyginis, didesnis už 1,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P-1)(Q-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eturi bendrų pirminių daugikli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6FC-8EA3-45AE-9FDD-275D7450C58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= 6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53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 = 32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= 17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= 27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funkcija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T) = (T^E) mod PQ   = (T^17) mod 32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šifravimas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(C) = (C^D) mod PQ = (C^2753) mod 323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123) = (123^17) mod 3233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337587917446653715596592958817679803 mod 323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85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 85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 (855^2753) mod 3233     = 12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7C8-1096-498C-89F1-89C8AB7478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pagrįs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ija daugyb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eiks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ktiniuose pritaikymuose priimta im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esn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laipsnio rodikl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e nei privačiam rakte, taigi šifravimas būna greitesnis nei dešif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g.b. įdieg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ikrosche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S algoritmas (realizuotas programiškai) yra 100 kartų greitesnis nei 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atsparus nulaužim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B13-2FDC-41E7-986B-3E4CA624EA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i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iffie-Helma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– tai viešo rakto algoritmas naudojamas pasikeitimui raktais. Skaitomas saugiu, jei imami pakankamai ilgi raktai ir tinkami generator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JAV vyriausybinis skaitmeninio parašo standartas. Algoritmas panašus į Diffie-Helman, tačiau jo projektas neatskleidži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i: ElGamal, LUC, 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B1C-5582-4951-A34C-CDA8BF79770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imetrinių algoritmų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81080"/>
                <a:gridCol w="19051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4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e-He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ėtesnis nei 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8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bit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057-D8ED-4518-9804-4A234329539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dencialumas, vientisumas, autentišk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ų panaudojimas padeda išspręsti informacijos konfidencialumo probl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os vientisumas ir autentiškumas yra garantuojamas tuo, kad užkodavus informaciją sav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č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o niekas nežino, ją galima atkoduo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s yra prieinamas visiems dalyviams, ir įsitikinti, kad informacija tikrai buvo pasiųsta to žmogaus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o tikėta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411-D4BB-42CC-AEE5-0D77001548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 procedū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e procedūrose naudojamos tiek simetrinės, tiek asimetrinės procedūr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uojami abiejų metodų privalumai:simetrinio šifravimo greitis ir asimetrinio šifravimo sau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as yra užšifruojamas simetrišku šifr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as yra asimetriškai užkoduojamas su 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šu raktu ir užkoduotas sesijos raktas pasiunčiamas kartu su pranešim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88A-4C34-447D-8A61-46310BFC471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duomenų transformacija į tokią formą, kuri padarytų praktiškai neįmanomu tų duomenų perskaitymą be atitinkamų žinių(rak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 tikslas yra užtikrinti duomenų privatumą, t.y. jos paslėpimą nuo tų, kuriems ji nėra skir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t ir t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ai jie gali prieiti prie šifruotų duomen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 atvirkščias procesas – tai šifruotų duomenų transformacija į pirminę for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žia duomen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as. Paprastai tam buvo naudojami antspaudai bei parašai. Tai netinka kompiuterinių tinklų atvej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mi raktai bei šifravimo algoritma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7DB-FC3C-4FAD-85D5-40081A3FB7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aitmeniniai paraš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o rakto šifravimas naudojamas ir skaitmeniniuose paraš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04812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80060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09880" y="30481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9F3-D350-4336-A316-5B934E2D09A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s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al signature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ų šifravimas privačiu raktu (private-key) yra elektroninis analogas ranka rašomam parašui – todėl vadinamas skaitmeniniu paraš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s parašas – tai yra duomenų blokas, kuris yra sukuriamas naudojant slaptą (privatų) raktą. Viešas raktas gali būti panaudotas patikrinimui, ar parašas iš tiesų buvo sukurtas naudojant atitinkamą slaptą rak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ant skaitmeninį parašą siunčiamam  pranešimu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aikomas hash algoritmas ir suskaičiuojama hash funk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dige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Šita gauta reikšmė yra užšifruojama naudojant privatų raktą. Rezultate gautas šifruotas blokas ir yra paraš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FBE-4C20-43D9-8980-44B1B3E1D7D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erdavimas nesaugiu kanal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 pa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 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949-3949-4DA6-A270-70F4FACA024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95480" y="4572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Bo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na get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59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169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520" y="4025880"/>
            <a:ext cx="32781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854-0E0A-4826-8DD0-8A1A298807C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 Al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lace or m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9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20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00" y="4027320"/>
            <a:ext cx="340524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E87-E603-41FE-A41D-35E789D9799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ekas negali perskait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atsiųsto praneš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čiau bet kas gali jį ats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 ku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žinoti, kad pranešimą tikrai atsiunt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pasiguosti tik tuo, kad ti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ės perskaityti jo atsa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EEE-E035-4250-8B16-0AA6837D9D7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gali pasirašyti savo pranešim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sukurti savo skaitmeninį parašą ir patvirtinti tai, kad tikrai ji pasiuntė 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tai gali atlikti tas, kuris žino jos privatų rakt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ašu gali būti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-pranešimo santrauka, užšifruot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F87-1A78-4DA6-B9AB-A1503583DE2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aip pat vadina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ash function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one-way transform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atliekama bet kokio ilgio pranešimo transformacija ir gaunama fiksuoto ilgio eilu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ma, kad būtų sunku atspėti pradinį pranešimą, kuris duoda šią turimą “message digest”- pranešimo santraukos reikšm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pėti visad yra gal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257-563A-4432-B2D7-FBC69EFEA32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araš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eikia savo pradinį pranešimą, pritaiko j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h fu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ciją ir užšifruoja gautą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pranešimo santrau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naudodam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suskaičiuoti pranešimo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šie du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ino, k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untė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698-A084-4ED0-AD1D-CC2B5105ED7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20" y="1701720"/>
            <a:ext cx="3225960" cy="8636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1960" y="1701720"/>
            <a:ext cx="3377880" cy="86364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040" y="3452760"/>
            <a:ext cx="31989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ašo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65800" y="3476520"/>
            <a:ext cx="439416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ikrina parašą s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213372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5033880"/>
            <a:ext cx="335448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šifruoja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30680" y="5045040"/>
            <a:ext cx="336708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10080"/>
            <a:ext cx="1830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ataisyta 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5D9-3AB6-4F49-BD84-A21E1ECBD44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prendžiamos 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as – tai įsitikinimas, kad partneris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nfidencialumas – tai jautrios informacijos apsau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ntisumas – garantija, kad persiunčiant duomenys nebuvo pakei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atsižadėjimas –tai įrodymas, kad informacija tikrai atėjo iš to siuntė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F68-571E-419E-9AB5-68E073B217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m naudoti santrauk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prasčiausiai užšifruoti savo vardą ir j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naudod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dėl to nepakank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ituacija, k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igia, kad ji pasiuntė pranešim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įrodyti, kad tik kažkas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u galėjo atsiųsti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AF7-DDE8-4B68-9741-9B92FC05566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galima situ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rk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o pranešimą i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u su skaitmeniniu paraš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i="1" lang="lt-LT" sz="2800" spc="-1" strike="noStrike">
                <a:solidFill>
                  <a:srgbClr val="00cc99"/>
                </a:solidFill>
                <a:latin typeface="Times New Roman"/>
              </a:rPr>
              <a:t>sutik mane SC šiąnak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 šį pranešim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p, kad tai atrodytų tarsi būt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aneš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erpia skaitmenin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rašą, kurį Alice jam atsiun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patenkint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ųstu praneši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44C-DE09-40FB-9B9E-C2105FC1D66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end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ad pradėkite laišką kreipini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Bil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kite pranešimo santrauką ir ją užšifruokite naudodami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ir kitų būd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289-C613-4582-BF3F-29931FF7D6C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technologijos vartoto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aneša savo viešą raktą vieni kitie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gi gavėjas gali būti tikras, kad šis viešas raktas iš tikrųjų priklauso siuntėj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lema sprendžiama naudojant skaitmeninį RSA sertifika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 – tai viešas raktas vartotojo, pasirašytas naudojant skaitmeninį parašą kažkurio tai patikimo asm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030-2B21-431D-8007-C4231C9DC5F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infrastruktūr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šas raktas galioja tik tada, kai raktas bei jo surišimas su dalyviu yra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virtintas (autentifikuotas) pasitikėjimo verto centrinio autoritet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procesas yra vadinamas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rtifik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tification), pasitikėjimo vertas autoritetas – sertifikavimo autoritetu ( certification autority CA), sertifikato raktas yra talpinamas ant atitinkamo dalyvio sertifika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3C5-DD9F-422D-B1FA-1225E051374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tipo CA jungtis, kur žemesnio lygio komunikavimo dalyvius apjungia pasitikėjimo vertas aukštesnio hierarchijos lygio pasitikėjimo autorite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 deda skaitmeninį parašą ant  paketo, kurį sudaro: dalyvio viešas raktas, unikalus numeris, kurį suteikia CA, galiojimo periodas ir dalyvio vardas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duomenų paketas kartu su CA skaitmeniniu parašu yra vadinamas sertifika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A38-8649-4A0F-B013-B727AE7E34D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int pasiųsti pranešimą su skaitmeniniu parašu kuriam nors saugios infrastruktūros dalyviui,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ne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as, priklausantis šiam pranešimui,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pija turi būti persiunčiama kartu su pranešimu ir paraš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krin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rifikacija) žymi parašo tikrinimo procesą. Tam reikalingas viešas raktas, todėl viešas raktas yra sertifikato dalimi.  Gavėjas pirmiausiai patikrina, ar siuntėjas iš tikrųjų pasirašė, o po to tikrina ar sertifikatas yra origin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ojimo periodas yra nusakomas CA ir yra įtraukiamas į sertifikatą.  Jei sertifikatas panaudojamas blogam jo galiojimo metu, tai jis praranda pasitikėj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yra įtraukiamas į nepatikimų sąraš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365-D0F3-42B9-9C5F-90956AA0B13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 būti vykdo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būd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totojas gal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s gener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raktą ir raktinį žodį ir prašyti CA sertifikavimo arba CA generuoja šią porą vartotoj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raktus generuoja CA, tai jie gali būti ir laikomi pas C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galima esant pilnam pasitikėjimui tarp vartotojo ir CA, kadangi CA turi priėjimą prie vartotojo privačių rakt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vartotojas pats generuoja raktu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siunčia savo viešą raktą, vadinamą  sertifikato prototipu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rototype sertificate)  atitinkamam CA.  CA pasirašo prototipą ir siunčia sertifikatą atgal vartotoju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8BD-1AA2-456A-9EEE-8A17418153A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– Standartas ir skirtingi vardai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o rakto sertifikavimas baigiamas sertifikatu.  Tokio sertifikato struktūra yra apibrėžiama ISO – X.509 standart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Be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eš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subject public key), sertifikate taip pat nurodomas CA vardas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aliojimo periodas (validity), turėtojo vardas ir unikalus skaičius, kurį suteikia išduodanti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serial number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i vardai yra sukomponuojami 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lių, kurios žymi organizaciją, šalį bei kitus kompon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491-17F8-49F9-B3F1-F4E75565B0E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unk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naudojamos skaitmeninei praneš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rauk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šmei suskaičiuoti (message digest). Hash funkcij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audžia pranešimo bitus iki fiksuoto dydžio hash reikšm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gal gautą hash funkcijos reikšmę sunku nustatyti koks pranešimas davė tokią reikšm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-jos reikšmė dažnai yra iš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daugiau bit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BE9-DFB1-4871-9C6D-D19C494487F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Šifravimas ir iššifravimas paprastai reikalauja tam tikros </a:t>
            </a:r>
            <a:r>
              <a:rPr b="1" lang="lt-LT" sz="2400" spc="-1" strike="noStrike">
                <a:solidFill>
                  <a:srgbClr val="55649b"/>
                </a:solidFill>
                <a:latin typeface="Times New Roman"/>
              </a:rPr>
              <a:t>slaptos informacijos</a:t>
            </a: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 panaudojimo, ji vadinama šifro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kin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vyzdys yra istorin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zario šifr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kstas buvo šifruojamas naudojant raidžių perstumimą, vietoje A – D, vietoje B – E ir t.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atveju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o rak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navo skaičius, rodantis per kelias raides reikia daryti perstumim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procedūra laikoma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yra sunku (per praktiškai priimtiną laiką) nepaisant to kad žinai šifravimo algoritmą nežinant šifro rakto iššifruoti užšifruotą praneš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3BD-6538-45EE-85E0-F3AC4A8D09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–(Message Digest Algorithm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saugus hash algoritmas, sukurtas RSA Data Security,Inc. Bet kokio ilgio baitų eilutę verčia 128 bitų reikš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plačiai naudojamas, yra laikomas pagrįstai sau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takai – algoritmai MD2, M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HA – duoda 160 bitų hash reikšmę . SHS struktūriškai panašus į MD4,MD5, yra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nis ne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D5, tačiau sauges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2CA-6398-4F65-9F03-293595A32BD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–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y Good Priva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naudoja šifravimo sistemą IDE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 atvirų raktų sistemą RS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programa gali duoti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ų e-mailui tai , ko jis anksčiau neturėjo – konfidencialum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7B3-6CC5-4C76-B225-47594C4775F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veikia PGP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j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tis šia programa, ji sugeneruoja du raktus, kurie priklauso tik jums.  Vienas iš PGP raktų yra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lap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is lieka jūsų kompiuteryje. Antras rak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vir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jį jūs perduodate savo respondentui. Atviras raktas gana ilgas (kelios eilutės simbolių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ikia jokio slapto kanalo perdavimui rakto, ar patikimo kurjerio. Atvirą raktą gali matyti vi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1FC-D9A3-43FB-82B4-110568221E0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, kas bus užšifruota atviru raktu, galė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i tik turintis slaptą raktą – tai yra žmogus, kuriam skirtas praneš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s raktas pats laikomas šifruotam pavidale ir niekad nepalieka kompiuteri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128 bitai, t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ų kombinacijų kiekis 2</a:t>
            </a:r>
            <a:r>
              <a:rPr b="0" lang="lt-L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A6C-36E2-4CF3-B049-214FD88A2E9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106640" y="1481040"/>
            <a:ext cx="6930720" cy="3780000"/>
            <a:chOff x="1106640" y="1481040"/>
            <a:chExt cx="6930720" cy="3780000"/>
          </a:xfrm>
        </p:grpSpPr>
        <p:sp>
          <p:nvSpPr>
            <p:cNvPr id="267" name=""/>
            <p:cNvSpPr/>
            <p:nvPr/>
          </p:nvSpPr>
          <p:spPr>
            <a:xfrm>
              <a:off x="1106640" y="1481040"/>
              <a:ext cx="454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640" y="1481040"/>
              <a:ext cx="6930720" cy="37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file2782571_datorjoki2" descr=""/>
          <p:cNvPicPr/>
          <p:nvPr/>
        </p:nvPicPr>
        <p:blipFill>
          <a:blip r:embed="rId1"/>
          <a:stretch/>
        </p:blipFill>
        <p:spPr>
          <a:xfrm>
            <a:off x="2359080" y="1527120"/>
            <a:ext cx="4325760" cy="44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137-7F27-4C3E-9B1E-8713200E726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– a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audojamos dvi šifravimo sistem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 naudoja tą patį raktą (slaptą raktą) tiek duomenų užšifravimui, tiek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yra naujesnės, 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ą rakt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slaptą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o šifravimo sistemos dar vad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viešo rakto šifravimo sist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442-3E9D-43E2-A95C-293D4F133D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s pats raktas tiek informacijos šifravimui, tiek de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aktas turi būti žinomas abiem komunikuojančiom pusė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 taikomas dėl “nedraugiškos” duomenų perdavimo aplinkos (kitaip – kam šifruoti?) – problema – šifro rakto perdav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F9A-E29E-4226-A85C-A711A0DB57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10:40Z</dcterms:created>
  <dc:creator>Kristina</dc:creator>
  <dc:description/>
  <dc:language>en-US</dc:language>
  <cp:lastModifiedBy>Kristina</cp:lastModifiedBy>
  <dcterms:modified xsi:type="dcterms:W3CDTF">2004-11-17T09:55:36Z</dcterms:modified>
  <cp:revision>33</cp:revision>
  <dc:subject/>
  <dc:title>9 paskaita</dc:title>
</cp:coreProperties>
</file>