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453-2FD4-4530-89BB-20A901DF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262-0BC6-48CB-AF8A-1FF787D5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77F-CD5A-4F31-A4F2-9A9DD2AC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A26-3BAA-4A4C-A932-56291337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E2DB-B039-44FA-A492-BD9E59BB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49A2-64A9-4A6C-BF6B-7F3FD2EB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B0EE-ADE5-4611-847B-7C4FE38E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4CC-0185-4C49-8498-0F3F161A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1279-3223-436C-B462-6176C402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B47A-107F-488A-AA18-09683FA1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3596-0EBF-491B-951C-6306AFA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536-F3E1-4D3A-92E3-9C742818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3AD0-26E6-45B1-A96C-5465B6CC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913A-F2D1-459D-845D-BDE4B8A5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1FE1-3747-49D6-B5B9-C78A146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7740-64E1-497E-B192-2ED77FCA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9CF8-9430-4745-8B8D-7C51CD58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6F7-F5EF-4A5D-BABA-19FB26D0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B2B-76F9-4A44-8EEC-E9A71D59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B34-671E-407D-B8B5-F0D6977E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C86-9FEA-44DC-83DF-0D961621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D1D-5B43-48CB-B463-BFFA83D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567-B53A-4E5D-8A31-841AABD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357-CF5D-47DB-8A7C-524055A0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7D9-CFDB-46A9-9001-C82A13A47F70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FD76-9698-41C5-B501-5191B960609C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arkoz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ės teorij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9:27:00Z</dcterms:created>
  <dc:creator>Antanas</dc:creator>
  <dc:description/>
  <dc:language>en-US</dc:language>
  <cp:lastModifiedBy>Antanas</cp:lastModifiedBy>
  <dcterms:modified xsi:type="dcterms:W3CDTF">2004-01-08T10:30:51Z</dcterms:modified>
  <cp:revision>1</cp:revision>
  <dc:subject/>
  <dc:title>Narkozės teorijos</dc:title>
</cp:coreProperties>
</file>