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411-A11F-4EEB-9328-45C97F04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9D3-5979-450C-95C6-30322C98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3BD-F5A6-48F2-A8F6-6D979DB4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527-C1C7-4537-9717-7FCE1B3A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F146-E321-439B-ABA7-18E84637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6890-F418-46FB-9AD6-31723B43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D55A-81FB-4431-98ED-5C5936B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E654-3B10-4683-97DE-DD18C2B9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7D92-574B-4BD4-B04C-2F4EE1A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454E-8EB3-48AC-822E-D72583AD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94C0-FB85-4FED-931D-D14ABAD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F50-A7BC-4778-92B6-E215042D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8B32-9FE9-42B6-A2E2-9B0FA199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7E7-19BD-4735-BC99-8ED527A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2AC2-3B6D-42A5-9173-FB3701F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2081-DF82-481E-AB24-0C8D6DD9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12DB-BE74-4D10-BD32-B804E860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78A-62D2-4435-BC38-8F381AF8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C7B-3A5B-46A2-80B9-06882B43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7B6-CEB1-4BA9-90AA-E543C0DA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891-4A87-4516-8F22-92C050AA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E1A-E172-4A97-99B2-FB41EA4A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2BB-CC59-4E6A-ADC1-48E47D4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D7F-7CEE-4883-99C0-147D5C3F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3327-8D6B-4839-827D-6A258A994F12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1FC8-2B12-4636-8221-3C099B09EE53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bbraunusa.com/stimuplex/stimuplex-hns11.html" TargetMode="External"/><Relationship Id="rId3" Type="http://schemas.openxmlformats.org/officeDocument/2006/relationships/hyperlink" Target="http://www.bbraunusa.com/stimuplex/stimuplex-dig.html" TargetMode="External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ma, kad graikų filosofas Dioskor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.pr.Kr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termin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ikimo mechanizmas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yer-Overton teor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estetiko veikimo stiprumas koreliuoja su jo tirpumu riebaluo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e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Kai kurie riebaluose tirpios substancijos yra ne anestetikai, bet konvulsant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50072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mo mechanizma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381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Hidrofobinės baltymų (receptorių) sritys CNS yra anestetikų veik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Anestetikai sąveikauja su šiais baltymais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4496040" cy="259704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imo mechanizmas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irmiausiai veiki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GABAA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us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Ji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Wingdings 3"/>
                <a:ea typeface="Wingdings 3"/>
              </a:rPr>
              <a:t>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ų jautrumą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adidina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-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ukeltą Cl</a:t>
            </a:r>
            <a:r>
              <a:rPr b="1" lang="lt-LT" sz="2800" spc="-1" strike="noStrike" baseline="30000">
                <a:solidFill>
                  <a:srgbClr val="40458c"/>
                </a:solidFill>
                <a:latin typeface="Tahoma"/>
              </a:rPr>
              <a:t>-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rautą daugiau kaip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5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1371600"/>
            <a:ext cx="5791320" cy="272088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24080" y="5335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10666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600" y="137160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7524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Vietin</a:t>
            </a: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752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Region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37160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48720" y="137160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765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Bendr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33520" y="2438280"/>
            <a:ext cx="761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909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avirš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filtr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343040" y="28954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3623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eriferini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nerv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266720" y="403848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Ganglijų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r nerv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rezg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66720" y="4800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572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pidūr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533412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pin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5943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6386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traveninė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region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590920"/>
            <a:ext cx="28958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31240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hali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124080"/>
            <a:ext cx="1219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ubalansuo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124080"/>
            <a:ext cx="1371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intraven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(TIVA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4956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Kaukin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495680"/>
            <a:ext cx="1828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trachėj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r/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bronch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267080"/>
            <a:ext cx="1524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nestez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kas jutimų praradimas ir atsko į aplinkos dirgiklius nebuvi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ą pirmą kartą panaudojo H.Coote 18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g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mažintas arba i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ęs skausmo pojūtis bei atsakas į skausminius dirgikli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dirbtinai sukeltas grįžtamas CNS slopinimas. Jos dalys: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kozė (sąmonės išnyk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 (skausmo išnykimas arba sumažėj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orelaksacija (skersaruožių raumenų atsipalaidav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vegetacinė blokada (vegetacinių funkcijų slopinima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pakankama, kai yra trys dalys:     1) narkozė (miegas); 2) nejautra (analgezija); 3)raumenų relasacija. Papildomai galima atlikti ir neurovegetacinę blokadą, tai priklauso nuo operacijos apimties ir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uroleptanalg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cientas yra ra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 motorinis aktyvu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/išnykęs baimės jaus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bejingumas aplinkai, esant sąmonei.Pacientas vykdo paliepimu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aistai: neuroleptikas (droperidolis) kartu su opioidiniu analgetiku (fentani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ociacinė anestezija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klė, kuriai būdinga sedacija, nejudrumas, amnezija ir išreikšta analgezi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sukelti ketaminas, naudojamas vie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ę anesteziją galima sukelti, vartoja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ą (mononarkozė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s skirtingus anestetikus (daugiakomponentė anestezija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ius anestetikus su vietiniais anestetikais (mišrioj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ndrinius anestetikus su vaistas, veikiančiais tam tikrą bendrinės anestezijos komponentą (kombinuotoji anestezija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 anestezija – nedidelės kūno srities anestezija vietiniu anestetiku. Ji gali būti paviršinė (gleivinių ) ir infiltracinė.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cinė anestezija – vietinis anestetikas,sušvirkštas po oda, veikia juntamųjų nervų galines šak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nedidelės koncentracijos vietinių anestetikų tirpalai (pvz. 0.5-1% lidokaino, 1-2% novokain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stas vietinis anestetikas pradeda veikti iš karto; veikimo trukmė priklauso nuo anestetiko rūšies bei priedų (pvz. adrenalin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o dozė priklauso nuo anestezuojamo plot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kiros kūno dalies (plaštakos, rankos, kojos) skausmo malšinimas vietiniais anestetikais, kurie veikia nervų kamienus, pluoštus, rezginius, nugaros smegenis. Ji gali būti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inė nervų kamienų bei rezginių anestezija (blokada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, naudojant turniketus (blokada pagal Bier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bei epidūralinė aneste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nės nervų blokad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niausiai atliekamos operuojant viršu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patines galū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alia nervų ar nervinių kamienų, sutrikdo nervinio impulso plit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usiai yra paplitę viršutinė galūnės nervinių rezginių blokados, nes ranką galima nuskausminti vienkartiniu anestetiko suleidimu. Norint anestezuoti koją, reika 2-3 anestetiko injekcij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os laid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lausomai nuo operuojamos srities, galima nus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ti atlikant interskaleninę (tarplaiptinę), supraklavikulinę, infraklavikulinę arba aksiliarinę (pažasties duobėje) petinio rezginio blokad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inis pluoštas nustatomas neurostimuliatoriaus pagalb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džiama apie 30-40ml anestetiko tirpalo. Naudojamas 1-2% lidokainas arba 0.5% bupivakain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sideda po 20-30 min., trunka keletą valand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raveninė 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</a:rPr>
              <a:t>Neurostimuliatoria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38080" y="1523880"/>
            <a:ext cx="6781680" cy="4571640"/>
            <a:chOff x="838080" y="1523880"/>
            <a:chExt cx="6781680" cy="4571640"/>
          </a:xfrm>
        </p:grpSpPr>
        <p:pic>
          <p:nvPicPr>
            <p:cNvPr id="309" name="" descr="Stimuplex HNS11 and Stimuplex Dig RC: The leading edge in Peripheral Nerve Block Equipment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6781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>
              <a:hlinkClick r:id="rId2"/>
            </p:cNvPr>
            <p:cNvSpPr/>
            <p:nvPr/>
          </p:nvSpPr>
          <p:spPr>
            <a:xfrm>
              <a:off x="4334040" y="1523880"/>
              <a:ext cx="328572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>
              <a:hlinkClick r:id="rId3"/>
            </p:cNvPr>
            <p:cNvSpPr/>
            <p:nvPr/>
          </p:nvSpPr>
          <p:spPr>
            <a:xfrm>
              <a:off x="838080" y="1523880"/>
              <a:ext cx="32295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traveninė region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a viršutinės ir apatinės galūnių nuskausminimui, kuomet operacijos trukmė ne ilgesnė kaip 1 v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tinis anestetikas sušvirkščiams į galūnės, kurioje turniketo pagalba yra nutraukta kraujotaka, veną žemiau užspaud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, tekėdamas retrogradiškai, pasiekia kapiliarus ir patenka į ekstravaskulinį tarpą, kur nuskausmina nervines galūnė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augusio žmogaus anestezijai pakanka 35-40 ml anestetik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i nedidelės (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koncentracijos prilokaino, lidokaino ar mepivakaino tirpalai. Nenaudojamas bupivaka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38140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379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172200" y="304920"/>
            <a:ext cx="2381400" cy="1590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238140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3880" y="1066680"/>
            <a:ext cx="0" cy="114300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267080"/>
            <a:ext cx="3808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14800" y="1981080"/>
            <a:ext cx="0" cy="60984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1066680"/>
            <a:ext cx="7621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05120"/>
            <a:ext cx="0" cy="144756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inė blokad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(spinalinė, epidūralinė, kaudalinė), sukeliama vietinį anestetiką suleidus šalia centrinės nervų sistemos  struktūrų (nugaros smegenų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leidžiamas į nugaros smegenų subarachnoid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operuojant apatines galūnes, lytinius organus, šlapimo pūslę, prostatą, tarvietės, tiesiosios žarnos operacija, taip pat nuskausminant Cezario pjūvio oper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inalinės adatos su mandren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ai : Lidokain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arba Bupivakainas 0.5%, suleidžiama 3-4 m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švirkščiamas į epidūr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tais pačiais atvejais kaip spinalinė anestezij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p pat kaip analgezijos dalis bendrinės anestezijos metu, atliekant sudėtingas kraujagyslių, žarnyno, plaučių operacijas; gimdymo nuskausminimui bei pooperaciniam skasumui malšint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ecial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pidūrinės adatos 17G-18G Tuochy arba Weiss ir 20G epidūriniai kateteri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1-2% lidokaino arba 0.25-0.75% bupivakaino tirpalai,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 15-30 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a valdyti bloko aukštį bei anestezijos trukmę(per kateterį papildomai suleidžiant anestetiko), o taip pat motorinio bloko išreikštumą (keičiant anestetiko koncentracij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33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847 m. vasario 12 d. A.</a:t>
            </a: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Adomavičiaus paskaita apie etrį V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vasario 23 d. A.Adomavičius ir L.Lechavičius Vilniujepademonstravo pirmąją eterio narkoz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gruodžio 21 d. L.Lechavičius Vilniuje atliko pirmąją chloroformo narkoz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1683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55 m. – pirmoji endotrachėjinė nejaut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0 m. – Vilniuje įkurtas pirmasis anesteziologijos skyri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2 m. – įkurta Lietuvois anesteziologų-reanimatologų draugi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rkoz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ės teorij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5-01-24T13:31:48Z</dcterms:modified>
  <cp:revision>7</cp:revision>
  <dc:subject/>
  <dc:title>Aneteziologija iki eterio</dc:title>
</cp:coreProperties>
</file>