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334-5720-4E73-B63F-7D35CAD7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2B6-EC0C-48DF-89DA-6E84286B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E10-4C37-4B2B-BBC1-AB4F0D07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7E5-E946-4C6E-B636-BBDCBBE2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B67C-225D-4EC4-9952-032BED18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32DC-DEDD-4711-84B8-528D776E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8255-9B58-4B1F-BE3B-FA97289C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3968-7F84-407C-97E2-1BDFC597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8C7A-81F8-4A6A-A9C1-9CC7A581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7BCB-64D6-4728-91A2-0AE329C2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2EA9-BFB6-4377-B827-2CE6112B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FFE-A1D6-4186-943B-A959BED0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2A2B-B2E6-4A6C-9FC2-BC0B504F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EC86-785E-46AB-884B-9D51E691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8377-83BB-4F5A-B88C-97FE5F63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32CE-0FEB-4FC3-8E1C-88679744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714C-5133-4B51-88A3-5A4AF90B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95B-437A-428F-B82D-207A2EC0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EB7-E93B-4B18-BDC0-18ED467F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AA4-9E1A-452B-B46F-E732E438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A4C-A1A0-4DC2-8241-C077AF01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414-E422-4EAE-9D32-B3F92328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F8D-E18E-48B3-981B-D6356482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BF90-D8F8-4F14-9027-E3E53C20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1BB2-6682-4E5E-A08B-4C4E69026C3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7C64-D2D4-4F64-8424-F0AAD02A128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neteziologija iki eter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aikoma, kad graikų filosofas Dioskoridas I a.pr.Kr. panaudojo terminą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nestezija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pibudindamas svaiginantį mandragoros veikim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enosios civilizacijos nuskausminimui naudodavo aguonų pieną (opiumą), kokos lapus, mandragoros šaknį, alkoholį, beigi drastiškas priemon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tokias kaip kraujo nuleidimą iki sąmonės netekimo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Regioninei anestezijai sukelti naudodavo nervų kamienų suspaudimą bei šalčio aplikacij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operuojamoje vietoje (krioanalgezij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kai vietiniam nuskausminimui naudodavo kokos lapus: gydytojas pakramtydavo lapų ir prispjaudydavo į žaizdą (kokain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aliai anesteziologija pradėjo vystytis XIX a. antroje pusėje.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irmiej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endrieji anestetikai buvo inhal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inia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eteris,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az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to suboksidas ir chloroforma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ter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sintez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uota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1540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, tačiau medicinoje ir anesteziologijoje buvo panaudotas 1846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m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palio 16 d., kuomet William T.G. Morton Bostone pirmą kartą pademonstravo bendrinę eterio anestezij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zoto suboksidą anestezijai 184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ir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eji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naudojo H.Wells ir G.Colt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hloroformą pirmą kartą buvo panaudojo H.Coote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84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;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populiarino akušeris J.Simpson,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naudojęs jį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mdymo skausmų sumaž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alotanas sintezuotas 1951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pradėtas naudoti 1956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, metoksifluranas pradėtas naudoti 1960m, enfluranas sintezuotas 1963, prad</a:t>
            </a:r>
            <a:r>
              <a:rPr b="0" lang="lt-LT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ė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as naudoti 1973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Intraveninė aanestez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traveninė anestezija gimė 185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kartu su švirkštu ir adata (A.Wood)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arbitūratai indukcijai pradėti plačiai naudoti 192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intezavus heksobarbitalį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iopentalis pradėtas naudoti 193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r iki šiol išlieka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ko gero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lačiausiai naudojamu intraveniniu anestet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etaminas pasirodė 196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tačiau plačiai pradėtas naudoti 1970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etomidatas 197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propofolis 1989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Miorelaksantai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94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H.Griffith, E.Jonso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pirmieji panaudojo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ubokurari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lengvėjo trachėjos intubacija,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tapo įmanoma užtikrint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galingą miorelasaciją ir tuo sumaži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t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nestetikų doze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vo sintezuota daug įvairių miorelaksantų (metokurarinas, galantaminas, pankuronijus); artimais idealiam miorelaksantu galima laikyti vekuronijų, atrakuriumą, pipekuronijumą, doksakuriumą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kcinilcholinas pradėtas naudoti 1951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piatai</a:t>
            </a:r>
            <a:r>
              <a:rPr b="0" lang="en-GB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orfinas išskirtas iš opijaus 180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nau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tas k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p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traveninis anestetikas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adžioje opiatų ve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a, nes manyta, kad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jie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didina pooperacinį mirtingum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sidomėjimas opiatais atsinaujino 1939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sintezavus meperidin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piatų naudojimą pagrindė “</a:t>
            </a:r>
            <a:r>
              <a:rPr b="0" i="1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balansuotos anestezijo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” koncepcija: tiopentalis – indukcijai, azoto suboksidas – amnezijai ir miegui, opiatas – analgezijai ir kurare preparatai – miorelaksacij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gioninė anestezija</a:t>
            </a:r>
            <a:r>
              <a:rPr b="0" lang="en-GB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Vietinės anestezijos pradininku laikomas oftalmologas Carl Koller, 188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anaudojęs kokainą akių operacijos nuskausm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88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W.Halsted panaudojo kokainą infiltracinei ir periferinių nervų blokad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ir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j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spinalinę anesteziją atliko A.Bier 1898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anaudojęs 0.5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%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3ml kokaino tirpalą. Jis taip pat pirmasis 1908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tliko intraveninę regioninę anesteziją (Blokas pagal Bi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kainas sintezuotas 1904 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r pradėtas naudoti klinikoje H.Brau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pidūrinė anestezija – 1921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idokainas –194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hlorprokainas – 195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pivakainas – 1963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tidokainas – 1972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7:00:33Z</dcterms:created>
  <dc:creator>Antanas</dc:creator>
  <dc:description/>
  <dc:language>en-US</dc:language>
  <cp:lastModifiedBy>Antanas</cp:lastModifiedBy>
  <dcterms:modified xsi:type="dcterms:W3CDTF">2004-01-08T07:45:01Z</dcterms:modified>
  <cp:revision>1</cp:revision>
  <dc:subject/>
  <dc:title>Aneteziologija iki eterio</dc:title>
</cp:coreProperties>
</file>