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6FE-46CB-49C2-B44D-60641948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044-BCCB-413F-9699-BDC37219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1C6-B5A7-48E1-8AD4-6DB9BFEC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982-3F55-4C2F-A79A-C5FE7A9A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5F53-D0E8-4F92-9E09-6AD4B755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2776-8364-4F6B-851E-554ABFAB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7095-9F3F-4D3B-BF6D-73A597A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04B-C2E6-4B43-ACC1-97ADFE27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7CFD-C665-4793-9E6D-3A7D794D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22C8-658E-405B-A9D5-62F47071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D1D5-FE32-4814-AA61-AED0CBC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6C9-E768-466C-8BFA-7FC6EA9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4754-12AD-4DF5-A648-9E90C195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89F9-6B89-4914-A489-9D331A8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4D4E-A98A-429F-A0CE-CE39222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B4F2-9ACE-4EA5-B989-0ED2582C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A4BC-D424-49ED-A11F-DDFBA845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3E0-C081-48C5-9970-2855CBBA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B9D-AB85-40BC-B30E-99A6CAD6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1CC-3BF3-4881-BDFD-8012C77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075-55A4-40B7-BEF9-64B25B87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DDE-06EA-4C3A-B514-C56DECB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382-E06B-4F27-A6BD-2CD62C6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E96-F131-4379-826A-EF08CD99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6BC2-9D81-4FF5-AA76-1A44FC7B48AD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8D91-EC52-424D-934A-928BABD886D0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rkoz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ės teorij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9:27:00Z</dcterms:created>
  <dc:creator>Antanas</dc:creator>
  <dc:description/>
  <dc:language>en-US</dc:language>
  <cp:lastModifiedBy>Antanas</cp:lastModifiedBy>
  <dcterms:modified xsi:type="dcterms:W3CDTF">2004-01-08T10:30:51Z</dcterms:modified>
  <cp:revision>1</cp:revision>
  <dc:subject/>
  <dc:title>Narkozės teorijos</dc:title>
</cp:coreProperties>
</file>